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706D-027E-4247-B02C-A49629239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990F-E669-4B02-9F5E-DB433502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1A82-A9BF-486E-B810-24A49D6E4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AAC1-C5E2-43BC-875A-018875876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08700-74F1-4F10-B145-62F6C305B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DFA69-4F86-40E8-97F4-39EC1975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BC8DC-6129-4B6C-9B4D-015E12BA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DF69C-D4F5-4079-957F-74003350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AC9B8-CB48-49BC-A7E5-FB84A609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BB8DE-486B-4767-91EC-3CEB9761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E3B37-3705-4D66-A818-F613DE8F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EDC3-8436-4325-A174-69D88473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1CB26-B5BA-4997-8874-17E043A3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43ACC-1968-46DE-A7CB-B7A64FA6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C5348-8D3D-49E4-B4F8-BC6C2DB9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98095-FF6F-458F-BFCC-2727A95B5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CAEA9-E577-469B-90B7-1E3202641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C9C1-0BE0-4299-B49D-CED8BE46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D135-4018-44A2-9011-6BF60E97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797E-9092-4312-941C-718595C9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C963-2E00-422F-973B-16C6E157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46FC-CA84-4409-92E5-A671EE55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6F4F-943E-4AB7-A3E8-01C2DBBE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D251-66FD-4DE7-955F-11843EC3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F07D-3C4D-4AC5-8EAB-8E2A84CB7A8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4A73-F3EA-4A23-8CF4-E7D32C97AE8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Хакасский музыкальный фольклор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3" name="Picture 4" descr="0khak_flag"/>
          <p:cNvPicPr/>
          <p:nvPr/>
        </p:nvPicPr>
        <p:blipFill>
          <a:blip r:embed="rId1"/>
          <a:stretch/>
        </p:blipFill>
        <p:spPr>
          <a:xfrm>
            <a:off x="2195640" y="3500280"/>
            <a:ext cx="4321080" cy="1738440"/>
          </a:xfrm>
          <a:prstGeom prst="rect">
            <a:avLst/>
          </a:prstGeom>
          <a:ln w="0">
            <a:noFill/>
          </a:ln>
        </p:spPr>
      </p:pic>
      <p:sp>
        <p:nvSpPr>
          <p:cNvPr id="124" name="TextBox 5"/>
          <p:cNvSpPr/>
          <p:nvPr/>
        </p:nvSpPr>
        <p:spPr>
          <a:xfrm>
            <a:off x="5578200" y="5572080"/>
            <a:ext cx="340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и обучающие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 класса МБОУ шк.№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музыки Долгополо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лена Сергеевна,  ВК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i?id=122730544-09"/>
          <p:cNvPicPr/>
          <p:nvPr/>
        </p:nvPicPr>
        <p:blipFill>
          <a:blip r:embed="rId1"/>
          <a:stretch/>
        </p:blipFill>
        <p:spPr>
          <a:xfrm>
            <a:off x="250920" y="549360"/>
            <a:ext cx="2089080" cy="1942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i?id=48549940-00"/>
          <p:cNvPicPr/>
          <p:nvPr/>
        </p:nvPicPr>
        <p:blipFill>
          <a:blip r:embed="rId2"/>
          <a:stretch/>
        </p:blipFill>
        <p:spPr>
          <a:xfrm>
            <a:off x="2987640" y="1989000"/>
            <a:ext cx="3024360" cy="2303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i?id=32874400-09"/>
          <p:cNvPicPr/>
          <p:nvPr/>
        </p:nvPicPr>
        <p:blipFill>
          <a:blip r:embed="rId3"/>
          <a:stretch/>
        </p:blipFill>
        <p:spPr>
          <a:xfrm>
            <a:off x="6516720" y="3860640"/>
            <a:ext cx="2232000" cy="25927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8"/>
          <p:cNvSpPr/>
          <p:nvPr/>
        </p:nvSpPr>
        <p:spPr>
          <a:xfrm>
            <a:off x="954000" y="4888080"/>
            <a:ext cx="33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ШАМАНСКИЙ БУБ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Хакасские народные инструменты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трунно-щипковы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— чатхан (цитровидный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омыс (лютневидный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имир хомыс (металлический варган 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трунно-смычковы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— ыых (типа игила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уховы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— хобрах (типа башк. курая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личного рода ман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рошлом был распространён шаманский бубен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ытуют также гармоник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ян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лалайк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ндоли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ff"/>
                </a:solidFill>
                <a:latin typeface="Arial"/>
              </a:rPr>
              <a:t>Фольклор - это устное народное творчество</a:t>
            </a:r>
            <a:r>
              <a:rPr b="0" lang="ru-RU" sz="54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Жанры фольклор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слови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каз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гад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с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Хакасская пословица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"Как в одном орешке заключаются судьбы кедрового леса, так и в сказке кроется начало начал жизни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Виды сказок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олшебны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атирически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бытовы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 животных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исторические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Загадки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ёрный, но не ворона, рогатый, но не бы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простом поле кипит чёрный котё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чёрном шёлке рассыпаны бус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сли в воду зайдёт - тысяча, если из воды выйдет – оди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Песенные жанры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хотничь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астушески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утевы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адебны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овы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юбовны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сни на современную тематику, посвящённых В.И. Ленину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бытиям из жизни народ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туш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i?id=78907820-15"/>
          <p:cNvPicPr/>
          <p:nvPr/>
        </p:nvPicPr>
        <p:blipFill>
          <a:blip r:embed="rId1"/>
          <a:stretch/>
        </p:blipFill>
        <p:spPr>
          <a:xfrm>
            <a:off x="539640" y="1916280"/>
            <a:ext cx="4608720" cy="3600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5436720" y="3068640"/>
            <a:ext cx="2747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ОБЫРАХ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ухово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струме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Хакасские народные инструменты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i?id=30181453-11"/>
          <p:cNvPicPr/>
          <p:nvPr/>
        </p:nvPicPr>
        <p:blipFill>
          <a:blip r:embed="rId1"/>
          <a:stretch/>
        </p:blipFill>
        <p:spPr>
          <a:xfrm>
            <a:off x="324000" y="333360"/>
            <a:ext cx="3297240" cy="4495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?id=115334340-01"/>
          <p:cNvPicPr/>
          <p:nvPr/>
        </p:nvPicPr>
        <p:blipFill>
          <a:blip r:embed="rId2"/>
          <a:stretch/>
        </p:blipFill>
        <p:spPr>
          <a:xfrm>
            <a:off x="5148360" y="549360"/>
            <a:ext cx="2952720" cy="3166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i?id=142669872-04"/>
          <p:cNvPicPr/>
          <p:nvPr/>
        </p:nvPicPr>
        <p:blipFill>
          <a:blip r:embed="rId3"/>
          <a:stretch/>
        </p:blipFill>
        <p:spPr>
          <a:xfrm>
            <a:off x="4427640" y="3933720"/>
            <a:ext cx="4248000" cy="2664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251640" y="515628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АТХАН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рунно-щипков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1:25:59Z</dcterms:created>
  <dc:creator>User</dc:creator>
  <dc:description/>
  <dc:language>en-US</dc:language>
  <cp:lastModifiedBy>шк.8</cp:lastModifiedBy>
  <dcterms:modified xsi:type="dcterms:W3CDTF">2013-04-18T05:16:40Z</dcterms:modified>
  <cp:revision>15</cp:revision>
  <dc:subject/>
  <dc:title>Хакасский музыкальный фольклор</dc:title>
</cp:coreProperties>
</file>