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90D-A91C-4107-A4AC-10DD8B57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FE8-62CE-4B7C-8B41-36150159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670-FDD4-4844-89CB-DF42F1B6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572-61FA-435C-AAC5-5137F627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41F2-C306-4097-B4C7-4252E305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19811-5CFD-43E4-A78D-A2697A6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7C53B-1FAF-4529-AA0B-8C89684E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535B-48A1-4F71-8817-F931B2A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40F2C-7811-471F-A004-6CB6FE6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0C9C8-B4A0-4D16-A85B-D1ACC48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9B739-E711-4AF7-9408-15D2ED3B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96D-35B0-4D45-8C98-C599016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35475-A2D0-448F-AA43-C1C6A09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B85B7-3DF8-47A5-B606-C4762049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D46F6-6681-4EC6-BE96-AE3EADC1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63701-16AC-4BA9-900F-60580FA2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E054-DDFD-422F-8677-CDEF6E2F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C93-6921-4D3A-AF1A-52E9943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42C-B75E-406E-B2D2-A10243E1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DEA-AD5A-4B9F-B3DA-96F846A9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077-4A38-4682-B21B-8CB01A6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0F1-E3BE-48EE-A5EB-CD27DDD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105-9480-41F5-A89C-D680077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8C5-6F3C-4D28-8675-4730ADB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1CF4-E926-4622-9A49-8CB1F9E497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2720-2DF1-4E5A-B295-8CA121EA64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Хакасский музыкальный фольклор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0khak_flag"/>
          <p:cNvPicPr/>
          <p:nvPr/>
        </p:nvPicPr>
        <p:blipFill>
          <a:blip r:embed="rId1"/>
          <a:stretch/>
        </p:blipFill>
        <p:spPr>
          <a:xfrm>
            <a:off x="2195640" y="3500280"/>
            <a:ext cx="4321080" cy="1738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5578200" y="5572080"/>
            <a:ext cx="34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 обучающие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класса МБОУ шк.№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узыки Долгопо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ена Сергеевна,  ВК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i?id=122730544-09"/>
          <p:cNvPicPr/>
          <p:nvPr/>
        </p:nvPicPr>
        <p:blipFill>
          <a:blip r:embed="rId1"/>
          <a:stretch/>
        </p:blipFill>
        <p:spPr>
          <a:xfrm>
            <a:off x="250920" y="54936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?id=48549940-00"/>
          <p:cNvPicPr/>
          <p:nvPr/>
        </p:nvPicPr>
        <p:blipFill>
          <a:blip r:embed="rId2"/>
          <a:stretch/>
        </p:blipFill>
        <p:spPr>
          <a:xfrm>
            <a:off x="2987640" y="1989000"/>
            <a:ext cx="302436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?id=32874400-09"/>
          <p:cNvPicPr/>
          <p:nvPr/>
        </p:nvPicPr>
        <p:blipFill>
          <a:blip r:embed="rId3"/>
          <a:stretch/>
        </p:blipFill>
        <p:spPr>
          <a:xfrm>
            <a:off x="6516720" y="3860640"/>
            <a:ext cx="2232000" cy="2592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954000" y="488808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АНСКИЙ БУБ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акасские народные инструмен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унно-щипков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чатхан (цитровидны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мыс (лютневидны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мир хомыс (металлический варган 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унно-смычков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ыых (типа игил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ухов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хобрах (типа башк. кура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ного рода ма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шлом был распространён шаманский буб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туют также гармони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я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лалай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дол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Фольклор - это устное народное творчество</a:t>
            </a: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Жанры фолькло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а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Хакасская пословиц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"Как в одном орешке заключаются судьбы кедрового леса, так и в сказке кроется начало начал жизни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иды сказо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лшебн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тирическ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ытов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 животны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сторическ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Загадк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ёрный, но не ворона, рогатый, но не бы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ростом поле кипит чёрный котё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чёрном шёлке рассыпаны бу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в воду зайдёт - тысяча, если из воды выйдет – од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есенные жан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отничь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туше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е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адеб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ов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ни на современную тематику, посвящённых В.И. Ленин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ытиям из жизни народ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i?id=78907820-15"/>
          <p:cNvPicPr/>
          <p:nvPr/>
        </p:nvPicPr>
        <p:blipFill>
          <a:blip r:embed="rId1"/>
          <a:stretch/>
        </p:blipFill>
        <p:spPr>
          <a:xfrm>
            <a:off x="539640" y="1916280"/>
            <a:ext cx="460872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436720" y="3068640"/>
            <a:ext cx="274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БЫРАХ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хов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Хакасские народные инструмен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?id=30181453-11"/>
          <p:cNvPicPr/>
          <p:nvPr/>
        </p:nvPicPr>
        <p:blipFill>
          <a:blip r:embed="rId1"/>
          <a:stretch/>
        </p:blipFill>
        <p:spPr>
          <a:xfrm>
            <a:off x="324000" y="333360"/>
            <a:ext cx="3297240" cy="449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?id=115334340-01"/>
          <p:cNvPicPr/>
          <p:nvPr/>
        </p:nvPicPr>
        <p:blipFill>
          <a:blip r:embed="rId2"/>
          <a:stretch/>
        </p:blipFill>
        <p:spPr>
          <a:xfrm>
            <a:off x="5148360" y="549360"/>
            <a:ext cx="2952720" cy="316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i?id=142669872-04"/>
          <p:cNvPicPr/>
          <p:nvPr/>
        </p:nvPicPr>
        <p:blipFill>
          <a:blip r:embed="rId3"/>
          <a:stretch/>
        </p:blipFill>
        <p:spPr>
          <a:xfrm>
            <a:off x="4427640" y="3933720"/>
            <a:ext cx="4248000" cy="2664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251640" y="51562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ТХАН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нно-щипко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1:25:59Z</dcterms:created>
  <dc:creator>User</dc:creator>
  <dc:description/>
  <dc:language>en-US</dc:language>
  <cp:lastModifiedBy>шк.8</cp:lastModifiedBy>
  <dcterms:modified xsi:type="dcterms:W3CDTF">2013-04-18T05:16:40Z</dcterms:modified>
  <cp:revision>15</cp:revision>
  <dc:subject/>
  <dc:title>Хакасский музыкальный фольклор</dc:title>
</cp:coreProperties>
</file>