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682F-364C-4391-88B9-FA3DFD528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B225-8E05-4B29-B2E9-8B5C1A16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A922-CD82-431C-AECE-F3D0756EA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E385-91B8-441F-A363-7558D6C7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5AD4-AD02-4983-BB85-1E836DA62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B7BD-9E09-4D13-A3EC-96AF62A6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18F4-33A1-4D0D-829B-1849A327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EEF4-11F3-456B-8006-F1D162AE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5D35-702B-4861-887E-AA965D0C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8B3F-D0CC-4639-BAD2-C35BEC53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8F2B-38D5-44A2-8A7C-CDD0D007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4A06-0E77-4A2D-92A8-6BF6213C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8126-AEBD-4E77-8D43-F0F564C5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5D0D-1D4A-4BCA-AB09-80454DEE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EF29-72E9-451E-8726-51D848C9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EA5E-D851-4800-B0B5-3883721E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1EB3-BF79-47C2-A90E-8FF074A4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52685-8D92-4A20-8593-BC88AED5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69062-6367-4AE3-9ED3-B6C75CAA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56C64-C6AC-4C2C-9262-0032BEEB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E50BA-7A70-4789-9D88-F36A5F01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D9955-A594-4864-A999-6A3D8B68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0114-1D7C-4DFE-BBAB-EAD35025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03237-F89B-41AA-AB53-3F6C6A42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D5380-33FD-486D-B703-3BA54F87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3A039-D0CA-49AD-838F-BE96904B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DA81E-1BAA-4979-B218-EBA0DDC8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F324D-00DB-4925-B897-649A0355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CB67B-0EBD-4D9C-AD07-2959835F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C74E8-8FDA-4EA6-9763-F59FE201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BF7C0-BA6E-4E95-BCA3-323008DB5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D8638-E86C-458B-ADEF-B625EFA5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B5A0E-FA3E-40B3-B6BD-1EC6B17E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2820-5879-4800-8669-594DF834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A06FE-F096-4A20-AC54-52634000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62763-8664-4D22-9FA9-C7DB8DC8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3480B-1680-43BA-BB47-7F85150E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51345-23B2-4D05-8E06-47E3C549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F46CB-FB25-4990-A1FC-65FA08EC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5C129-AAED-4852-B092-AE1D9070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52BF5-A161-48EE-9C47-A4FF120C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8DE9F-8DFD-4D00-B2AF-A0DC3EB9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6C239-EF36-4F91-AA1F-77EC54082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9B552-02F5-42F9-B7FC-05EEA2EA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11F3-2B60-4213-90F9-1272DF4E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9BB74-B7AE-4BB0-A05F-C8C0DFF3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8BB9B-8D3A-451A-9392-1AE0C4FE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3FC1D-2EC9-42EE-A0D5-DD86818B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3FCE5-00A6-49AF-A567-800B5048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DCDDD-7637-4105-B7BB-47EB4363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81836-D4F1-436E-954C-CBD9A37D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B5026-51BE-43DB-B47A-26619591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A82D9-04FA-4EE1-8854-EE13CDF1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F547A-4557-4E6D-B9C5-557AA5B1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0AC6E-43BE-4755-A4DB-E40154568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5979-30E4-414D-84E2-1B3B94BC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97CF6-FE4E-409E-B5CE-27AE0E3E5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B0B5C-079B-4DAF-924B-2178BA032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5B70C-AA24-46CF-8333-6C557902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38308-49C2-4824-9D67-B0E48EF4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1D1B2-C0DA-4C0D-B43B-7570261E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D8D16-40C1-4BA8-957F-4A2CE9ED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AEA2D-02E3-43BD-AC2C-6E851964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D858E-69E9-4A79-877E-E9E21663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1781A-0826-4C4C-851D-4CE2DAEA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49D92-ABF2-40DC-B984-F2C51A44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A750-EC2B-427D-A1D7-BC81D00D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B8EF6-44C9-430E-925C-D0E6E38C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2E746-F3B3-4A94-ABE1-0B9D1B43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E52EA-A894-461F-8C44-2CCD976B4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29E94-826A-4979-B3D7-6BC271CC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5F76E-2451-4B8D-ABD7-C8FE2BC1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FAE2D-50A9-40C9-ABDC-FF7149A2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79191-3096-41B9-8FC8-FC531224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9C40F-5CE4-436A-81C2-E1B62C44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BC166-67A2-45FD-B160-CAB63E1C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F1388-0743-4E26-B1C0-2DE4C9FF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EF5F-5AC2-4E82-B329-602B321C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22D81-2DD6-43D5-9972-B2CD7A55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ED46B-96DD-44D1-BD5D-6275D7CC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62828-D1C1-41A1-AE67-5B57C538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03724-A636-40D7-B36F-DBB0CF626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56D11-C98C-4466-BFDF-D9D9AB68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2536-0EC9-4A79-A4AF-3D1DFE7F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4A35-3BF3-48A7-90C0-18B167D56FE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2B3E-53FF-4636-B2ED-18B4ABD6316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860C-65E0-4674-BD60-DF3E44AC9AF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2B33-54AA-41AC-8FB5-33402868341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427C-7F8E-4B01-9B50-03D26F50E8F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1C33-CEA0-47A9-A779-538C68D297D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845F-EA62-43E1-B1F6-0848638A669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5.xml"/><Relationship Id="rId12" Type="http://schemas.openxmlformats.org/officeDocument/2006/relationships/slide" Target="slide16.xml"/><Relationship Id="rId13" Type="http://schemas.openxmlformats.org/officeDocument/2006/relationships/slide" Target="slide18.xml"/><Relationship Id="rId14" Type="http://schemas.openxmlformats.org/officeDocument/2006/relationships/slide" Target="slide19.xml"/><Relationship Id="rId15" Type="http://schemas.openxmlformats.org/officeDocument/2006/relationships/slide" Target="slide20.xml"/><Relationship Id="rId16" Type="http://schemas.openxmlformats.org/officeDocument/2006/relationships/slide" Target="slide21.xml"/><Relationship Id="rId17" Type="http://schemas.openxmlformats.org/officeDocument/2006/relationships/slide" Target=""/><Relationship Id="rId18" Type="http://schemas.openxmlformats.org/officeDocument/2006/relationships/image" Target="../media/image2.wmf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Rectangle 4" descr=""/>
          <p:cNvPicPr/>
          <p:nvPr/>
        </p:nvPicPr>
        <p:blipFill>
          <a:blip r:embed="rId1"/>
          <a:stretch/>
        </p:blipFill>
        <p:spPr>
          <a:xfrm>
            <a:off x="353880" y="712800"/>
            <a:ext cx="8624880" cy="33163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476000" y="3573000"/>
            <a:ext cx="6427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нтеллектуальная игра по информатике и географии для учащихся 5 классов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755640" y="2349360"/>
          <a:ext cx="8064360" cy="3959280"/>
        </p:xfrm>
        <a:graphic>
          <a:graphicData uri="http://schemas.openxmlformats.org/drawingml/2006/table">
            <a:tbl>
              <a:tblPr/>
              <a:tblGrid>
                <a:gridCol w="3946680"/>
                <a:gridCol w="1030320"/>
                <a:gridCol w="1028520"/>
                <a:gridCol w="1030320"/>
                <a:gridCol w="1028520"/>
              </a:tblGrid>
              <a:tr h="917640"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6436b"/>
                          </a:solidFill>
                          <a:latin typeface="Candara"/>
                        </a:rPr>
                        <a:t>Устройств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1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2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6436b"/>
                          </a:solidFill>
                          <a:latin typeface="Candara"/>
                          <a:ea typeface="Calibri"/>
                        </a:rPr>
                        <a:t>Клавиши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7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8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6436b"/>
                          </a:solidFill>
                          <a:latin typeface="Candara"/>
                          <a:ea typeface="Calibri"/>
                        </a:rPr>
                        <a:t>По материкам и океана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9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10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12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600"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6436b"/>
                          </a:solidFill>
                          <a:latin typeface="Candara"/>
                          <a:ea typeface="Calibri"/>
                        </a:rPr>
                        <a:t>Самый, сам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1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14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15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«Все обо всем»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9" name="Picture 2" descr="C:\Users\Admin\AppData\Local\Microsoft\Windows\Temporary Internet Files\Content.IE5\KC86F60G\MCj04404520000[1].wmf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7358040" y="0"/>
            <a:ext cx="1368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68360" y="2781360"/>
          <a:ext cx="8064360" cy="3398760"/>
        </p:xfrm>
        <a:graphic>
          <a:graphicData uri="http://schemas.openxmlformats.org/drawingml/2006/table">
            <a:tbl>
              <a:tblPr/>
              <a:tblGrid>
                <a:gridCol w="3946320"/>
                <a:gridCol w="1028880"/>
                <a:gridCol w="1030320"/>
                <a:gridCol w="1028520"/>
                <a:gridCol w="1030320"/>
              </a:tblGrid>
              <a:tr h="91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6436b"/>
                          </a:solidFill>
                          <a:latin typeface="Times New Roman"/>
                          <a:ea typeface="Times New Roman"/>
                        </a:rPr>
                        <a:t>Пословиц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1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2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6436b"/>
                          </a:solidFill>
                          <a:latin typeface="Times New Roman"/>
                          <a:ea typeface="Times New Roman"/>
                        </a:rPr>
                        <a:t>Антипо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7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8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6436b"/>
                          </a:solidFill>
                          <a:latin typeface="Times New Roman"/>
                          <a:ea typeface="Times New Roman"/>
                        </a:rPr>
                        <a:t>Загадк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6436b"/>
                          </a:solidFill>
                          <a:latin typeface="Times New Roman"/>
                          <a:ea typeface="Times New Roman"/>
                        </a:rPr>
                        <a:t>Счастливое числ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«</a:t>
            </a: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Фольклорный серпантин»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»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2" descr="C:\Users\Admin\AppData\Local\Microsoft\Windows\Temporary Internet Files\Content.IE5\KC86F60G\MCj04404520000[1].wmf"/>
          <p:cNvPicPr/>
          <p:nvPr/>
        </p:nvPicPr>
        <p:blipFill>
          <a:blip r:embed="rId9"/>
          <a:stretch/>
        </p:blipFill>
        <p:spPr>
          <a:xfrm>
            <a:off x="179280" y="476280"/>
            <a:ext cx="1368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08:10:00Z</dcterms:created>
  <dc:creator>Лиза</dc:creator>
  <dc:description/>
  <dc:language>en-US</dc:language>
  <cp:lastModifiedBy>user</cp:lastModifiedBy>
  <dcterms:modified xsi:type="dcterms:W3CDTF">2013-04-12T04:21:52Z</dcterms:modified>
  <cp:revision>138</cp:revision>
  <dc:subject/>
  <dc:title>Слайд 1</dc:title>
</cp:coreProperties>
</file>