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960E-A270-4741-A478-19BA6B43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C7E-D0EA-4F32-BC8B-84A01971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551D-36AF-4198-B81C-C2FC4B61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679B-1330-4204-8AFC-922CA600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57A5-0067-48E3-9C3B-C31C8B2A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3191-7E41-4EB3-9ABC-9D3383A9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AD4C-940A-4DA4-8BF0-79098292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14D4-986B-42D6-990A-B687E901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21E5-A5EE-4CD3-9DC0-F2C66098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7CB0-4B47-45C8-B415-7D8D9F4C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A7D5-5AC5-4DCA-9786-886FC5CB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682-8579-4AE1-8000-0827FDB9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FB4B-87FF-4C9B-BCC7-2C23A654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BFCD-0D65-4527-ACD4-B08614FE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1C16-C691-4FD9-B9ED-140C1489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B96A-B255-4C47-8DDD-C5BEF94B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741E-9F4D-4084-BD40-FA497E03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66FC2-9A3E-47CE-9514-0568A2D2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88C2A-1772-4F8A-AA5A-0C9A02D7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5CD65-B4A4-4291-A56F-E6C1E3D3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85DFD-9BE6-4906-845C-16498B26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38502-AAE5-4AED-8BD4-E6B0BC0F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27B7-F492-4D14-8A84-9DC9F43F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A2BB7-63DE-4AC8-93E6-DE7669BB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C19C3-007E-41E3-A4D0-9773B374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5F7A8-ACB6-46E0-849C-A4CEE2FF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0374A-44B0-45E0-BEB6-CD55E552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E9B80-4676-4D28-B3C0-451BCE4D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FF787-9AC5-421D-83F4-210E1EBB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7DA49-76BC-43CD-953A-223A9BA8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27052-B7AD-42BB-9D57-85505A6B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BA776-829A-48AE-88DE-E8836F03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7831E-5F3D-4BF8-B5FE-24552A6D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5C44-5B4C-48B4-8963-4C84F69F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21EE2-D455-45C8-8258-A0E1B11C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48676-68C9-4D9D-8B75-AB448BAA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E8E4A-549A-4764-A3BA-AE882CC5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F6CA9-569E-49F2-A91A-E4860043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65FF1-6C0F-44DB-9DDF-379F601E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C8CF7-9805-45AA-BDD6-883FAFFA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C3114-5C3A-4701-AEE7-8C66F76C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59869-396E-4E21-9B45-621BD712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1BC13-7A83-41A2-ABB7-85A79B85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5F5AB-E57E-4A08-A324-AB08D1F2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558-2E50-4FEF-92CE-05A106DB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09B45-1115-4A6F-BB1D-820B95FC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05B00-B2CB-4C9C-80AA-5D7AEAF7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94B73-7806-4DA9-9FB5-6F813CCD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B69FA-DA3E-4D0F-A0A3-5B9E9EC8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C5DB5-BECB-4C7D-B311-8308CA23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3A482-567F-4E2B-939A-4BE9488D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FA883-5EF3-4C60-9ACA-121DBAA6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89075-4D28-40C9-8C32-D27A7E09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B40B4-609F-48D3-9537-6DDE47B0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B729B-B378-46F7-8F84-25035050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47E-76D1-4C4E-9780-2F92B943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F30C7-3470-4D53-A1AC-9C3F9FE3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86CD2-02B6-4ADB-AAE3-819E2381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69115-61A6-46C9-8D8F-FB63EE13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EC4D6-0708-4649-9BC8-E0648932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2C878-08B0-4B85-BA0B-5AFB9CFF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862F0-265A-4A5F-9470-6D105DB6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580F6-F920-4CF8-9B7D-B4261369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1915A-FDB4-4310-9614-6C92A428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DD65B-9D18-4362-8316-A4EAE56E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522D5-7958-4F28-A055-6880D1F4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BC1F-15D3-4148-86A7-43533FE6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0BA86-E59A-46B8-9BB8-7FAE986A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0901D-8EE8-41DC-9823-FF9BC0A9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312A0-462F-4654-937A-BA3E8AEF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9150B-D7D8-4CAC-A4C6-76ED5BF3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30954-889A-4F26-B71D-02CBB2F6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6D32D-E846-41C4-BA6F-D171D892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8A1BF-B230-49C9-AD0B-0B7FB54D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F4E15-25C2-4D11-86B7-41EEFA5F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176BF-129A-4736-BF5D-AE87CD35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8BE93-1860-46C4-8B1A-796788D9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DEE-4E8D-480E-A25E-BAE89F71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31B2A-081E-4966-9BDF-6C8C2176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CD817-6CE8-4041-B839-07E478CC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0DE61-A418-4524-847B-6433F460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C3F8E-D2D2-488E-A709-5978DBF9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558B0-7534-4182-86F9-2B30795B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639-3F38-4D89-9851-18AF9F0A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3F7A-DD62-4603-AC33-FCFC5DA0507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2AF3-6C44-416D-A9C1-EB0BA4214F4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C117-484C-4DF0-8F56-82496C56D69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4C13-DDDE-42BE-AC7C-5B87502D49C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C2DC-910C-48D7-A288-29185426E34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2132-262C-4E12-AEC2-E32CD0BE724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37E0-E71D-4C55-9843-7466B81C4F2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" Target=""/><Relationship Id="rId18" Type="http://schemas.openxmlformats.org/officeDocument/2006/relationships/image" Target="../media/image2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4" descr=""/>
          <p:cNvPicPr/>
          <p:nvPr/>
        </p:nvPicPr>
        <p:blipFill>
          <a:blip r:embed="rId1"/>
          <a:stretch/>
        </p:blipFill>
        <p:spPr>
          <a:xfrm>
            <a:off x="353880" y="712800"/>
            <a:ext cx="8624880" cy="33163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476000" y="3573000"/>
            <a:ext cx="6427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нтеллектуальная игра по информатике и географии для учащихся 5 классов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755640" y="2349360"/>
          <a:ext cx="8064360" cy="3959280"/>
        </p:xfrm>
        <a:graphic>
          <a:graphicData uri="http://schemas.openxmlformats.org/drawingml/2006/table">
            <a:tbl>
              <a:tblPr/>
              <a:tblGrid>
                <a:gridCol w="3946680"/>
                <a:gridCol w="1030320"/>
                <a:gridCol w="1028520"/>
                <a:gridCol w="1030320"/>
                <a:gridCol w="1028520"/>
              </a:tblGrid>
              <a:tr h="917640"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6436b"/>
                          </a:solidFill>
                          <a:latin typeface="Candara"/>
                        </a:rPr>
                        <a:t>Устрой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2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6436b"/>
                          </a:solidFill>
                          <a:latin typeface="Candara"/>
                          <a:ea typeface="Calibri"/>
                        </a:rPr>
                        <a:t>Клавиши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7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6436b"/>
                          </a:solidFill>
                          <a:latin typeface="Candara"/>
                          <a:ea typeface="Calibri"/>
                        </a:rPr>
                        <a:t>По материкам и океана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9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12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6436b"/>
                          </a:solidFill>
                          <a:latin typeface="Candara"/>
                          <a:ea typeface="Calibri"/>
                        </a:rPr>
                        <a:t>Самый, сам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1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14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«Все обо всем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2" descr="C:\Users\Admin\AppData\Local\Microsoft\Windows\Temporary Internet Files\Content.IE5\KC86F60G\MCj04404520000[1].wmf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7358040" y="0"/>
            <a:ext cx="136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68360" y="2781360"/>
          <a:ext cx="8064360" cy="3398760"/>
        </p:xfrm>
        <a:graphic>
          <a:graphicData uri="http://schemas.openxmlformats.org/drawingml/2006/table">
            <a:tbl>
              <a:tblPr/>
              <a:tblGrid>
                <a:gridCol w="3946320"/>
                <a:gridCol w="1028880"/>
                <a:gridCol w="1030320"/>
                <a:gridCol w="1028520"/>
                <a:gridCol w="1030320"/>
              </a:tblGrid>
              <a:tr h="91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6436b"/>
                          </a:solidFill>
                          <a:latin typeface="Times New Roman"/>
                          <a:ea typeface="Times New Roman"/>
                        </a:rPr>
                        <a:t>Пословиц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2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6436b"/>
                          </a:solidFill>
                          <a:latin typeface="Times New Roman"/>
                          <a:ea typeface="Times New Roman"/>
                        </a:rPr>
                        <a:t>Антипо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7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80ff"/>
                          </a:solidFill>
                          <a:uFillTx/>
                          <a:latin typeface="Candara"/>
                          <a:hlinkClick r:id="rId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6436b"/>
                          </a:solidFill>
                          <a:latin typeface="Times New Roman"/>
                          <a:ea typeface="Times New Roman"/>
                        </a:rPr>
                        <a:t>Загад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6436b"/>
                          </a:solidFill>
                          <a:latin typeface="Times New Roman"/>
                          <a:ea typeface="Times New Roman"/>
                        </a:rPr>
                        <a:t>Счастливое числ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7760" rIns="77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7760" marR="77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«</a:t>
            </a: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Фольклорный серпантин»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2" descr="C:\Users\Admin\AppData\Local\Microsoft\Windows\Temporary Internet Files\Content.IE5\KC86F60G\MCj04404520000[1].wmf"/>
          <p:cNvPicPr/>
          <p:nvPr/>
        </p:nvPicPr>
        <p:blipFill>
          <a:blip r:embed="rId9"/>
          <a:stretch/>
        </p:blipFill>
        <p:spPr>
          <a:xfrm>
            <a:off x="179280" y="476280"/>
            <a:ext cx="1368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08:10:00Z</dcterms:created>
  <dc:creator>Лиза</dc:creator>
  <dc:description/>
  <dc:language>en-US</dc:language>
  <cp:lastModifiedBy>user</cp:lastModifiedBy>
  <dcterms:modified xsi:type="dcterms:W3CDTF">2013-04-12T04:21:52Z</dcterms:modified>
  <cp:revision>138</cp:revision>
  <dc:subject/>
  <dc:title>Слайд 1</dc:title>
</cp:coreProperties>
</file>