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6AD-0EB6-48EE-9105-14C2A7C4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E17-706C-41FA-9689-6D7D5AB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7821F-5BB2-4695-BE6A-79087CF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56090-8673-4056-91DF-86A7850F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C0469-5991-484B-8F83-A31AE217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9203-4B14-4B8A-8956-8DB5B999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30A6A-51CB-4AA1-87EE-8E2C231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86D03-5E7B-4957-950D-9B9220B1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D5A61-F194-4846-A184-FBCF909D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20069-0BD5-4CA0-865D-53C1D953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5E588-D812-45A8-8ED9-97BA807A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1755A-569D-46EF-A7AF-F96E8EEE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3BD-1F67-433E-AA89-4260D7C2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692FD-B5C0-4E04-9C50-18AEAA59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23943-37E8-42C1-89D6-2CFB6AD2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0A9E5-75E5-4722-AD36-3B64F001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946B3-EE6C-473F-8E80-A6B2626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00D68-2EDF-4906-8276-F6462BA2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BFDBF-E215-40AD-9BB7-EDDC7DD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C7DF6-EB07-4C4D-8912-18337BFC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1019E-E105-48FC-96BA-988C9BA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C4F3F-8C3D-4B31-A65A-0BEFCB09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4EB7D-967D-441F-B797-17986925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DD6-1925-468E-B22E-E30BE591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C83D6-3706-4680-B763-3C2FF097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23094-E9C5-4CCB-8034-2D91A4F0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258B0-C77B-4410-BFD9-3D38E4E4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9819B-DD72-4FDD-85D1-630DA525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FF16-F772-4376-90CD-AABF015C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D4918-B1A2-4862-A492-83E049B4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3D251-44FB-463F-B65C-E7397554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9456C-0F15-4D2C-A9E5-3F97B930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9F7E9-3A91-4748-AFCF-C436574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81715-CE00-4731-B747-88CB646B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1B2F-20C1-478B-9891-24053751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97FCF-A161-4A9C-B06E-FE73AFF1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BC9B3-4A69-41F6-B5BC-63567DFB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25E0B-3BED-418B-AAB6-AF60A215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500EB-00C4-4DE3-A778-D27654D7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59A93-3248-45CF-A9D6-A8E8F21F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7D0AF-DF10-48E0-8896-72F9D100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D4434-BF0E-4E6F-B91C-9DF70DA6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9605E-7E88-4924-89D6-2C960071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B0423-FBD4-4C81-876A-65FD0C14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83631-AA90-4E7C-A0E9-9136AE41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073F-5C7F-4ABC-8BBA-19899D5B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693FE-6B56-4563-BA5E-4283426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2CF7D-B4E2-40F9-90EB-49C3DBDC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E624C-2AC7-43D6-9593-A6D9DE5C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B5E2D-58FE-4A94-A473-96153CD1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92F00-AEB0-45E8-A361-96785921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8680-FE03-4091-8F86-68ED20B9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7E36-1710-43F7-9970-CE16B8E9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0DD6-4F51-4C7C-8D62-E5615B1C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01CA-9050-4935-86CB-6AFA68DA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7C2C-74FA-4378-AA57-A591DEC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C47-E0A8-48C1-954F-557B6433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A44F-AD30-4D9D-8BCF-DC6B7325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0B74-8A57-4DD7-9378-8AF7CCD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A0D5-D994-41A4-B980-0374AC0F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426E-7F57-481B-AF08-5061EC81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77A7-2EF7-48EB-AF30-7DCF4A3D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E010-C67A-46F8-B368-573F0D87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C188-B243-4532-9EA2-E4922C2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BE9E-2E4B-4AB8-ACB9-30B60D6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3173-BB98-4C46-B92E-38741E27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6948-4C96-42FA-9443-064C1D42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D4E-D3DE-4FF6-A1F0-5E7E7E17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13BC-CDEF-4848-9139-09211DD7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ED27-2DF6-4977-AA21-613B0196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D852-1B8A-406F-AE99-B4158038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F59E-4AAB-4006-AC76-013E6A6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7878-3D53-4CC7-812E-E8154583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B345-8EFC-45A1-9C86-90461088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3048-1C13-4DAE-BE32-7DF1EF4B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5BB4-ADF3-4CCD-8B25-F6581843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38C5-E4C8-4D27-95BF-0F015AFF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B3F4-A2F9-4007-BC09-E33382FA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B7C-B192-4E36-BF90-AD2681C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47DF7-5C58-4F6E-9D7D-01330643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8D30-3DAE-411B-8B96-C8925086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B6C7-3D23-422A-94DD-1809B8A7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6EBE-208E-4F0F-9CA6-765268D9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BB59D-73F7-4E62-BAEE-0F17E229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635AB-B26E-4D4F-B546-A4220B3A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A941C-52D1-40B4-B767-AE06FABB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AA393-F315-4263-ACD3-00F18D70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5D962-7660-47D4-B0EB-55683710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E591-0DC4-47F4-9008-AD2178AE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5779-486E-4741-A4F2-B8B0D6F0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A2EB4-2751-4921-8E76-8113E21C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68B46-6F47-403F-B63A-6EE9A239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13815-6CB6-41DB-9EAF-C9E9C040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B189-390D-4DF4-8475-24FB222D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D8731-5144-4AC6-86CA-F4161BC9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EF086-0887-4F1E-84B9-7B2B65E7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D90E7-AAB2-4806-BF9B-3DA7AF4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E294-2C42-47EB-B369-B0B438D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9E295-87DA-46FE-BEDD-BDBDBC82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8E4DB-C07C-411A-ADC3-D9BCFF4D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25B-23EB-43D4-A93C-828B6F19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6B53-3D50-4293-B67E-C8BFA5B6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AD31-A799-498A-95AA-3D39F62B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A312B-6D10-4C0D-A393-D17B8BE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A2CA-C103-44CD-8A10-FC953230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5D62D-3E93-4C5A-9323-4050D22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3D4C-5B68-461B-B6F3-76234F66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ABDA2-5FC3-4069-8310-AD0203F3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35B89-ABBE-432E-B62C-3B4CF651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0E55-0945-4443-8BD8-351C17A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1B8A3-7B5E-45B3-A923-80CD5A7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B20-F83A-4C83-89AA-247398D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2ABA6-58EF-4291-9CE4-E6EB5AA8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5D752-9410-42A9-8F01-6CBADCC4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2C62C-D584-42DA-8687-4F8E0B77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F5851-CEE4-402C-9895-AC149650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F2EE2-6731-4186-9D31-B7A4919E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648B5-49AE-4C5B-9450-B56B4A94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C1D6-4D8D-4727-8BA0-4495E93A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C921B-3284-4FBB-8C7D-8BD8223D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6BFB8-AB19-492B-8B8B-76D5E50A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24E81-B758-4DDB-A4F4-2CD354C4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502-25BD-4B21-AABD-C6A5B1DA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48FB5-23C6-4B06-92BF-B34EFE23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C8B8F-4912-4D21-A8CF-65F93CB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CE9C-3E88-4304-9897-DCAE39B1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F6859-B411-4B87-9FE7-E10FBB21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C6707-A125-4612-A2A7-C6952646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BA206-C7FB-4251-B791-641F4EC5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7BAAD-A5AF-4D5A-8740-97EF8234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25842-38C0-4E39-99D6-67500F63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A8EDF-C0F9-4AF9-AB8B-CD626229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7C4A8-2A09-4D01-A619-C3CBB506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198-A271-418E-8E21-C820E2A5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A7B70-24FE-4724-8FD7-218F052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FD0C0-D180-4263-9073-5570CE72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B2BBF-7839-4A67-BB9F-405443C6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F206A-2636-467B-B212-2F657914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F625-869C-4224-B2B9-635358F9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21C4E-6998-422C-A9D8-CC719479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88451-1147-45AE-95D4-06DC0D4B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5D4D2-A244-440D-BDE6-97EF42B6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2DC0F-5D9C-4D7D-9452-E4B57682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8DC8B-B24D-4DFA-9F62-3A7401DB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C478-8A0D-4F39-9D48-D667CC84A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E293-9343-4C4D-8339-E0A0A50D8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D1B1-C3A1-4CFF-9842-635FB8FA0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14FA-B68F-4C7D-B44D-CB1C60B37A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AB40-1460-496D-8C1D-2B6CD7B86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D434-9850-4C30-B7E4-EFA1171DE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CF1-6081-4705-BB47-39D45694F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A16B-3C54-4609-A04F-6D2F505B9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36C1-0601-4051-A34B-3F5B120980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2B4-5D67-42CE-9523-42853395D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0210-4735-4180-BF80-808E1A3D2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881-BF0B-4A50-8B77-F78D5175B8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Интеллектуальная игр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 географии и информатике</a:t>
            </a:r>
            <a:br>
              <a:rPr sz="4400"/>
            </a:b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«Хочу все знать!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47640" y="69228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то древние греки называли «Великой рекой», обтекающей всю Землю?</a:t>
            </a:r>
            <a:br>
              <a:rPr sz="4400"/>
            </a:b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8"/>
          <p:cNvSpPr/>
          <p:nvPr/>
        </p:nvSpPr>
        <p:spPr>
          <a:xfrm>
            <a:off x="284328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океа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Известно, что земные  сутки длятся на экваторе-24 часа, а  сколько на Северном полюс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8"/>
          <p:cNvSpPr/>
          <p:nvPr/>
        </p:nvSpPr>
        <p:spPr>
          <a:xfrm>
            <a:off x="2771640" y="569268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24 час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Сколько букв на странице, если на каждой строчке 22 буквы, а в на странице  30 ст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18"/>
          <p:cNvSpPr/>
          <p:nvPr/>
        </p:nvSpPr>
        <p:spPr>
          <a:xfrm>
            <a:off x="2484360" y="56926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660 сл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Перевести число 23 в двоичную сист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18"/>
          <p:cNvSpPr/>
          <p:nvPr/>
        </p:nvSpPr>
        <p:spPr>
          <a:xfrm>
            <a:off x="2484360" y="56926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101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Перевести число 100 в десятичную сист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8"/>
          <p:cNvSpPr/>
          <p:nvPr/>
        </p:nvSpPr>
        <p:spPr>
          <a:xfrm>
            <a:off x="2770200" y="569268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Назовите «географическую рыбу», в названии которой можно найти французский город и сторону све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443400"/>
          </a:xfrm>
          <a:prstGeom prst="rect">
            <a:avLst/>
          </a:prstGeom>
          <a:ln w="0">
            <a:noFill/>
          </a:ln>
        </p:spPr>
      </p:pic>
      <p:sp>
        <p:nvSpPr>
          <p:cNvPr id="538" name="TextBox 18"/>
          <p:cNvSpPr/>
          <p:nvPr/>
        </p:nvSpPr>
        <p:spPr>
          <a:xfrm>
            <a:off x="2484360" y="56577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Севрюг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Как древние люди изображали Земл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Объект 4" descr=""/>
          <p:cNvPicPr/>
          <p:nvPr/>
        </p:nvPicPr>
        <p:blipFill>
          <a:blip r:embed="rId2"/>
          <a:stretch/>
        </p:blipFill>
        <p:spPr>
          <a:xfrm>
            <a:off x="2305080" y="2133720"/>
            <a:ext cx="5613480" cy="34448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18"/>
          <p:cNvSpPr/>
          <p:nvPr/>
        </p:nvSpPr>
        <p:spPr>
          <a:xfrm>
            <a:off x="1979640" y="570564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лоский дис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Какую из перечисленных стран  называют страной «восходящего солнц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44" name="TextBox 18"/>
          <p:cNvSpPr/>
          <p:nvPr/>
        </p:nvSpPr>
        <p:spPr>
          <a:xfrm>
            <a:off x="2770200" y="56926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Груша тяжелее, чем яблоко, а яблоко тяжелее персика. Что тяжелее груша или перс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48" name="TextBox 18"/>
          <p:cNvSpPr/>
          <p:nvPr/>
        </p:nvSpPr>
        <p:spPr>
          <a:xfrm>
            <a:off x="2484360" y="5624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Груш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сли бы завтрашний день был вчерашним, то до воскресения осталось бы столько дней, сколько прошло от воскресения до вчерашнего дня. Какой же сегодня ден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51" name="TextBox 18"/>
          <p:cNvSpPr/>
          <p:nvPr/>
        </p:nvSpPr>
        <p:spPr>
          <a:xfrm>
            <a:off x="2484360" y="5624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сред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Рау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714680" y="981000"/>
            <a:ext cx="7178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унд Ι по географии «Проверим зн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 II по информатике « Единицы измер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ΙΙΙ  по географии «Покажем зна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IV по информатике «Мы знаем всё!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V по географии  «Большая карт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VI по информатике  «Логи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унд VIΙ по географии и информатике «Удивим знаниями!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инственный раунд VIΙ «Вопросы из ларца»  или  «Чудеса из сундуч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льный раунд  VIIΙ  «Спецзадание». Головоломка «Румб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6737-6D8C-40D3-B51C-48A19AE3D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47280" y="69228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Два мальчика играли на гитарах, а один на балалайке. На чём играл Юра, если Миша с Петей и Петя с Юрой играли на разных инструмента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Объект 4" descr=""/>
          <p:cNvPicPr/>
          <p:nvPr/>
        </p:nvPicPr>
        <p:blipFill>
          <a:blip r:embed="rId2"/>
          <a:stretch/>
        </p:blipFill>
        <p:spPr>
          <a:xfrm>
            <a:off x="2054160" y="2408400"/>
            <a:ext cx="5614920" cy="38163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18"/>
          <p:cNvSpPr/>
          <p:nvPr/>
        </p:nvSpPr>
        <p:spPr>
          <a:xfrm>
            <a:off x="1258920" y="5692680"/>
            <a:ext cx="66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Юра играл на гита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Из количества букв в названии географического объекта «Урал», отнимите целую часть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8"/>
          <p:cNvSpPr/>
          <p:nvPr/>
        </p:nvSpPr>
        <p:spPr>
          <a:xfrm>
            <a:off x="2484360" y="5624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Число количество материков, умножьте на число океа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Объект 4" descr=""/>
          <p:cNvPicPr/>
          <p:nvPr/>
        </p:nvPicPr>
        <p:blipFill>
          <a:blip r:embed="rId2"/>
          <a:stretch/>
        </p:blipFill>
        <p:spPr>
          <a:xfrm>
            <a:off x="2230560" y="2639880"/>
            <a:ext cx="5621040" cy="33829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8"/>
          <p:cNvSpPr/>
          <p:nvPr/>
        </p:nvSpPr>
        <p:spPr>
          <a:xfrm>
            <a:off x="2484360" y="5624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7280" y="692280"/>
            <a:ext cx="7596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В каком европейском городе, есть улица Пифагора, Архимеда, Ньютона и Копер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Объект 4" descr=""/>
          <p:cNvPicPr/>
          <p:nvPr/>
        </p:nvPicPr>
        <p:blipFill>
          <a:blip r:embed="rId2"/>
          <a:stretch/>
        </p:blipFill>
        <p:spPr>
          <a:xfrm>
            <a:off x="2054160" y="2408400"/>
            <a:ext cx="5614920" cy="303516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8"/>
          <p:cNvSpPr/>
          <p:nvPr/>
        </p:nvSpPr>
        <p:spPr>
          <a:xfrm>
            <a:off x="1258920" y="5692680"/>
            <a:ext cx="662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Амстерд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1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Подска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Объект 4" descr=""/>
          <p:cNvPicPr/>
          <p:nvPr/>
        </p:nvPicPr>
        <p:blipFill>
          <a:blip r:embed="rId2"/>
          <a:stretch/>
        </p:blipFill>
        <p:spPr>
          <a:xfrm>
            <a:off x="1657440" y="981000"/>
            <a:ext cx="7340400" cy="557208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"/>
          <p:cNvSpPr/>
          <p:nvPr/>
        </p:nvSpPr>
        <p:spPr>
          <a:xfrm>
            <a:off x="2195640" y="1484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"/>
          <p:cNvSpPr/>
          <p:nvPr/>
        </p:nvSpPr>
        <p:spPr>
          <a:xfrm>
            <a:off x="2597040" y="32846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3"/>
          <p:cNvSpPr/>
          <p:nvPr/>
        </p:nvSpPr>
        <p:spPr>
          <a:xfrm>
            <a:off x="2180520" y="5238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167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Подсказ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Объект 4" descr=""/>
          <p:cNvPicPr/>
          <p:nvPr/>
        </p:nvPicPr>
        <p:blipFill>
          <a:blip r:embed="rId2"/>
          <a:stretch/>
        </p:blipFill>
        <p:spPr>
          <a:xfrm>
            <a:off x="1316160" y="981000"/>
            <a:ext cx="7931160" cy="496908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"/>
          <p:cNvSpPr/>
          <p:nvPr/>
        </p:nvSpPr>
        <p:spPr>
          <a:xfrm>
            <a:off x="1908000" y="1844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5"/>
          <p:cNvSpPr/>
          <p:nvPr/>
        </p:nvSpPr>
        <p:spPr>
          <a:xfrm>
            <a:off x="2050920" y="3933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Компа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64879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Шар – по-гречески «сфера», а как это будет звучать по ла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498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глобу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Как называется внутренняя оболочка Зем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01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мант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Канал, по которому поднимается магм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04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жерл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Наименьшая единица измерения информации,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би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Один байт – это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8"/>
          <p:cNvSpPr/>
          <p:nvPr/>
        </p:nvSpPr>
        <p:spPr>
          <a:xfrm>
            <a:off x="2771640" y="569268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8 би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Из скольких бит состоит слово ИНФОРМ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18"/>
          <p:cNvSpPr/>
          <p:nvPr/>
        </p:nvSpPr>
        <p:spPr>
          <a:xfrm>
            <a:off x="2771640" y="569268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88 би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Управляющая кнопка: домой 2"/>
          <p:cNvSpPr/>
          <p:nvPr/>
        </p:nvSpPr>
        <p:spPr>
          <a:xfrm>
            <a:off x="7881840" y="5877000"/>
            <a:ext cx="1008000" cy="689040"/>
          </a:xfrm>
          <a:custGeom>
            <a:avLst/>
            <a:gdLst>
              <a:gd name="textAreaLeft" fmla="*/ 44640 w 1008000"/>
              <a:gd name="textAreaRight" fmla="*/ 963360 w 1008000"/>
              <a:gd name="textAreaTop" fmla="*/ 44640 h 689040"/>
              <a:gd name="textAreaBottom" fmla="*/ 644400 h 689040"/>
            </a:gdLst>
            <a:ahLst/>
            <a:rect l="textAreaLeft" t="textAreaTop" r="textAreaRight" b="textAreaBottom"/>
            <a:pathLst>
              <a:path w="31594" h="21600">
                <a:moveTo>
                  <a:pt x="0" y="0"/>
                </a:moveTo>
                <a:lnTo>
                  <a:pt x="31594" y="0"/>
                </a:lnTo>
                <a:lnTo>
                  <a:pt x="31594" y="21600"/>
                </a:lnTo>
                <a:lnTo>
                  <a:pt x="0" y="21600"/>
                </a:lnTo>
                <a:close/>
              </a:path>
              <a:path fill="lightenLess" w="31594" h="21600">
                <a:moveTo>
                  <a:pt x="0" y="0"/>
                </a:moveTo>
                <a:lnTo>
                  <a:pt x="31594" y="0"/>
                </a:lnTo>
                <a:lnTo>
                  <a:pt x="30194" y="1400"/>
                </a:lnTo>
                <a:lnTo>
                  <a:pt x="1400" y="1400"/>
                </a:lnTo>
                <a:close/>
              </a:path>
              <a:path fill="darken" w="31594" h="21600">
                <a:moveTo>
                  <a:pt x="31594" y="0"/>
                </a:moveTo>
                <a:lnTo>
                  <a:pt x="31594" y="21600"/>
                </a:lnTo>
                <a:lnTo>
                  <a:pt x="30194" y="20200"/>
                </a:lnTo>
                <a:lnTo>
                  <a:pt x="30194" y="1400"/>
                </a:lnTo>
                <a:close/>
              </a:path>
              <a:path fill="darkenLess" w="31594" h="21600">
                <a:moveTo>
                  <a:pt x="31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94" y="20200"/>
                </a:lnTo>
                <a:close/>
              </a:path>
              <a:path fill="lighten" w="31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94" h="21600">
                <a:moveTo>
                  <a:pt x="15797" y="3837"/>
                </a:moveTo>
                <a:lnTo>
                  <a:pt x="18373" y="6448"/>
                </a:ln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lnTo>
                  <a:pt x="22760" y="10800"/>
                </a:lnTo>
                <a:lnTo>
                  <a:pt x="21106" y="10800"/>
                </a:lnTo>
                <a:lnTo>
                  <a:pt x="21106" y="17989"/>
                </a:lnTo>
                <a:lnTo>
                  <a:pt x="10488" y="17989"/>
                </a:lnTo>
                <a:lnTo>
                  <a:pt x="10488" y="10800"/>
                </a:lnTo>
                <a:lnTo>
                  <a:pt x="8834" y="10800"/>
                </a:lnTo>
                <a:close/>
              </a:path>
              <a:path fill="darkenLess" w="31594" h="21600">
                <a:moveTo>
                  <a:pt x="18373" y="6448"/>
                </a:moveTo>
                <a:lnTo>
                  <a:pt x="18373" y="4707"/>
                </a:lnTo>
                <a:lnTo>
                  <a:pt x="20149" y="4707"/>
                </a:lnTo>
                <a:lnTo>
                  <a:pt x="20149" y="8224"/>
                </a:lnTo>
                <a:close/>
              </a:path>
              <a:path fill="darkenLess" w="31594" h="21600">
                <a:moveTo>
                  <a:pt x="14874" y="14299"/>
                </a:moveTo>
                <a:lnTo>
                  <a:pt x="16719" y="14299"/>
                </a:lnTo>
                <a:lnTo>
                  <a:pt x="16719" y="17989"/>
                </a:lnTo>
                <a:lnTo>
                  <a:pt x="21106" y="17989"/>
                </a:lnTo>
                <a:lnTo>
                  <a:pt x="21106" y="10800"/>
                </a:lnTo>
                <a:lnTo>
                  <a:pt x="10488" y="10800"/>
                </a:lnTo>
                <a:lnTo>
                  <a:pt x="10488" y="17989"/>
                </a:lnTo>
                <a:lnTo>
                  <a:pt x="1487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7343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Группа островов, находящихся близко  друг к дру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Объект 4" descr=""/>
          <p:cNvPicPr/>
          <p:nvPr/>
        </p:nvPicPr>
        <p:blipFill>
          <a:blip r:embed="rId2"/>
          <a:stretch/>
        </p:blipFill>
        <p:spPr>
          <a:xfrm>
            <a:off x="1981080" y="2060640"/>
            <a:ext cx="5615280" cy="381636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8"/>
          <p:cNvSpPr/>
          <p:nvPr/>
        </p:nvSpPr>
        <p:spPr>
          <a:xfrm>
            <a:off x="2484360" y="569268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архипела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9:31:42Z</dcterms:created>
  <dc:creator>User</dc:creator>
  <dc:description/>
  <dc:language>en-US</dc:language>
  <cp:lastModifiedBy>user</cp:lastModifiedBy>
  <dcterms:modified xsi:type="dcterms:W3CDTF">2013-04-09T09:33:34Z</dcterms:modified>
  <cp:revision>18</cp:revision>
  <dc:subject/>
  <dc:title>Слайд 1</dc:title>
</cp:coreProperties>
</file>