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AF41-7940-4127-B322-7923491FC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A782-2B56-4656-A9E0-88C4AD45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0C748-9A61-4D6F-B61D-A133A7D3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04909-7D5C-4872-8A88-A1814880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7B561-9FB6-4ACA-B147-F750E1B7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B996E-3C1A-4865-ABDA-51AC0AA6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5072F-469E-424D-BD51-7FC12E13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440AF-A790-43D9-8C3D-FC753570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94D05-1D81-4770-84EA-BB17ADA9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1C67F-CD62-4395-A9EF-8A0392F50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D6119-4C25-4CD1-B235-9B1D57C9F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8C50E-827B-4AB4-B49A-95EAFBB9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E7BF-0662-4CC0-8275-66B535C55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992AD-6F4D-43E6-99C7-B2361020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47DB4-912B-4C63-8E2D-2495C9B4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3B200-3F83-4F06-8B33-84B8FC0B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39835-3515-4D6C-B0AD-B9026936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BE78D-2AA7-48B5-A467-639BB57B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82D192-2430-42AE-ADEB-91845D2B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B3BA5-EDBD-4C41-AAA0-D5ADE35D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0CE3A-3D62-4688-AA13-66CFBD1D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AF0B9-CE09-461A-844E-BDD926FE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10697-D78B-4D4D-BEF1-FCF5F9F99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5E1B-24CB-4EBE-892A-1AB417E5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550D4-1FA3-4556-90D8-5C21FE7E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69F88-8BB0-4551-812A-BB326FC88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1512D-73A7-4C44-A238-136DB332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FFCA2-482B-43BB-9229-9CC8CFC2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21B97-7BEA-4794-91D5-1CAE4803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96940-52BB-4707-B2A0-3D9A38AA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7CB7C-627B-45BF-976D-AF3C237A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10231-B345-40CE-B734-5B8B1CEB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1DC5C-21E8-4E5B-A441-A84F903E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BAE0C-AF3C-4433-A2CA-166B449D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6968-6EB7-40CB-A516-C42D5C768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C9EA9-2343-402E-A51E-20A3F2E7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CD9B3-ACEC-4D33-82EA-6A6DFC36B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305F1-8287-4F51-9109-C26441527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71BFF0-966F-464B-A5B9-DB5AAFB5D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2F5579-B945-4510-B7BE-CF85B3C1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D8E50-531F-47A4-9AAE-49434302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6698D-4826-4B73-8C47-F64668AA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5AFA29-63DA-450F-8404-8A2EEC15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07FB49-07BC-4410-B34F-6CD22589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7E8B1F-0391-474B-AC04-D3214988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EAA2-07D9-44E0-A2E9-CC6EB131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253AA-9BEB-4B4E-A617-7EB2715E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01B4F-7E80-43B5-91C1-3EE89308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7587E-310B-4B70-B1A2-94339759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2385E6-8784-4B42-8CD3-5478453F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CA0278-1620-4424-B5C6-581D4E028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F98F-6745-48FF-9DD0-36D4FFE4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3252-11B5-4471-81DC-6F58A012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4155-DCCF-45DD-8807-A50D5D7A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C5C5-B31E-4335-90A6-9516A044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22FD-36EA-4731-81D0-2D3F75EF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4671-91F8-4A80-BCE1-57A50CEE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5992-610D-40C1-B03B-3B0D77C8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BA4B-457C-4A1C-AC31-189B1B0B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3CD5-4FE7-4822-A9CE-D0919040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758C-7251-48CA-AE24-DFC81721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96B7-1570-4102-8750-A024174E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30D87-1921-475F-8B68-79A6E425C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21FAB-52CF-41EE-AB90-4AB3E952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FAB74-C57E-431E-8F23-A41D9686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8CE4B-CE27-4E13-BF9F-EA3F779B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A623D-25D6-476F-AA4E-749519EE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C699-7B4F-42C0-B98A-50915006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23FE9-32B8-4986-B115-02DCC83F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21DF0-E3C5-4458-B22D-DAA4E0CA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4FA06-3FBF-420C-8F8F-F85A4C18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B92D0-EA0C-4A3C-A139-9ABC7853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72F25-893A-4670-8645-7D9289AF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8D233-AA88-4E15-B7BC-AA21D5297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AD204-9A3C-471C-BE5E-CE81FC3B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155A3-4C34-4550-9FA5-3E520B66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7E33C-439B-4EB7-A7F2-9B5F9847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3A16F-8D73-42DD-9F54-25843C36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6B70-3D77-4B48-A56B-10944C1E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B80B6-9BCD-4D4E-B863-78FF94F3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C45BE-C7ED-4012-AF73-1E421FEB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18CF3-5581-4C1C-AECE-E7E156B5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FCBCE-BAD6-4C7C-A8D5-AE402C41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C52BB-2A97-415E-B206-0E4D0872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9E56E-58BE-408F-9D05-30CD71D5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5D12E-C96D-4B0D-82AA-F1714F40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B747C-F378-412D-A1EC-DFC751889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83A77-5AEE-43E3-A903-BC2ED6E48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0825B-5C07-47F6-B674-E5D3D825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0E6F-48DE-41EE-905B-F7C72831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4203B-B31D-4E02-8AB8-C3C0EC62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76577-2C21-41BB-8FFF-B4F3F166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2C4D9-49E9-4D32-B1A3-E26E9C3E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DBC7B-0D58-4400-9743-F22261C5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7B4F4-7F7B-4266-9708-A42A551A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CE4CB-4CBC-4724-9373-4C7D6215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25E29-688B-4CE7-BF28-AF74247B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AEB40-D53D-4FC5-975D-176079BA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837AC-08EB-4294-8C5E-F2F44DB8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B3CE9-9332-406A-884B-E2368091F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B999-E7CE-4646-9E70-DD78C879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BE90E-EE39-438D-8E56-392F66A6C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F1507-3C79-4287-BE40-B722C8B51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A16F3-71CA-45C5-9CE4-4EC2529B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F07BF-7CB0-4EDB-831F-96F79E10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79B8D-1361-4C65-A842-DCF5AAD7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2F949-2ED6-4562-B3E3-F8D46A8B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164A0-9E7C-4119-B1D0-B3C895E7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BB6A9-1541-46C3-A258-DC3161AE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DE131-2EBF-4706-8512-6AF08610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B7127-10B0-407C-B18B-25AE3783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E79D-17E2-4D1A-BFFA-34DA3780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00330-E0FA-47B7-B183-5ACA915C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78482-5287-4E1D-A2F1-790D674B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C6ABF-48AF-4313-B8DB-C85363F2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6703B-3E58-4288-B502-6639C86CC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6572E-098D-4FD3-B314-398B7A9E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0827F-400A-4287-9D12-DFE49EFD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D64C8-BB5C-4641-AE0D-CF7E8B15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124FC-F26D-4A80-ABA4-25A86D1F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628C3-234B-40E9-B180-ACA08309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3CF2E-577E-463E-8BA4-38AC4052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1F39-34D4-4037-B624-5F069B9B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21BCB-BA3F-4220-ACC0-5803579F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AACC2-500F-4321-8019-DE58D560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AB9F3-E094-40D4-97BD-7B5D62E8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EE6C2-783D-410D-A786-DE84F0C3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1F708-46D1-434B-97C9-309DD7D1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51505-1E96-40A2-9BA3-A663429E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50C39-B7F4-4E92-8009-910DF28C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AE489-6FF8-4DCD-9514-3D4DA1D3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B0D4E-62CC-4E97-A4EB-3B6347AE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714DD-9A38-4C2E-9E09-4F55C512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AE75-E5DB-4FFA-9DA7-F5B74E37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C95A9-16DF-4931-8E15-F701F47F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C1448-5581-44C2-9A4E-F794A1A7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FCBB5-A0EB-47C3-B2CE-417B87C9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4FEA2-5E6D-4EDE-8629-4629AC2B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5A9C5-9030-452E-B606-891F1083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B1C6F-7AA4-48DD-8CB0-0E0C5F003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B25C4-809F-4E80-A9CA-338A4D90E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CDAA0-6783-4A16-9F5D-22CAB6F87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72ED9-F3CE-4068-96DE-1AA11A7D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4CB54-4D97-4B79-AB76-93756EEA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4193-29D8-4060-9BEA-35DCB53CB8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5E36-C4B9-4E90-8D5C-0481562D53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35F5-AC87-4190-B79C-0D275404CF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009F-9ACC-43CC-8677-BD8FACF1CE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C9D1-972B-46E3-9E8A-D030E20A95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914A-3DDA-4FF9-93D6-BC7C981B06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96F4-9D29-4DC0-A199-E184D9EA20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D5F6-FDC4-4E6F-8DFB-B888840CBE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F877-1BA1-45CF-B3B1-D8EB1B6EA6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441B-FE17-46E6-95C8-B73C76425C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994F-6192-4CBF-BC6F-071FC1B9F9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1E3F-46D6-42D8-885F-856AD961E2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2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Интеллектуальная игра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о географии и информатике</a:t>
            </a:r>
            <a:br>
              <a:rPr sz="4400"/>
            </a:br>
            <a:r>
              <a:rPr b="1" lang="ru-RU" sz="6000" spc="-1" strike="noStrike">
                <a:solidFill>
                  <a:srgbClr val="c00000"/>
                </a:solidFill>
                <a:latin typeface="Comic Sans MS"/>
              </a:rPr>
              <a:t>«Хочу все знать!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47640" y="692280"/>
            <a:ext cx="7345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Что древние греки называли «Великой рекой», обтекающей всю Землю?</a:t>
            </a: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Объект 4" descr=""/>
          <p:cNvPicPr/>
          <p:nvPr/>
        </p:nvPicPr>
        <p:blipFill>
          <a:blip r:embed="rId2"/>
          <a:stretch/>
        </p:blipFill>
        <p:spPr>
          <a:xfrm>
            <a:off x="1981080" y="2060640"/>
            <a:ext cx="5615280" cy="3816360"/>
          </a:xfrm>
          <a:prstGeom prst="rect">
            <a:avLst/>
          </a:prstGeom>
          <a:ln w="0">
            <a:noFill/>
          </a:ln>
        </p:spPr>
      </p:pic>
      <p:sp>
        <p:nvSpPr>
          <p:cNvPr id="521" name="TextBox 18"/>
          <p:cNvSpPr/>
          <p:nvPr/>
        </p:nvSpPr>
        <p:spPr>
          <a:xfrm>
            <a:off x="2843280" y="569268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океа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7596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Известно, что земные  сутки длятся на экваторе-24 часа, а  сколько на Северном полюс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Объект 4" descr=""/>
          <p:cNvPicPr/>
          <p:nvPr/>
        </p:nvPicPr>
        <p:blipFill>
          <a:blip r:embed="rId2"/>
          <a:stretch/>
        </p:blipFill>
        <p:spPr>
          <a:xfrm>
            <a:off x="1981080" y="2060640"/>
            <a:ext cx="5615280" cy="3816360"/>
          </a:xfrm>
          <a:prstGeom prst="rect">
            <a:avLst/>
          </a:prstGeom>
          <a:ln w="0">
            <a:noFill/>
          </a:ln>
        </p:spPr>
      </p:pic>
      <p:sp>
        <p:nvSpPr>
          <p:cNvPr id="524" name="TextBox 18"/>
          <p:cNvSpPr/>
          <p:nvPr/>
        </p:nvSpPr>
        <p:spPr>
          <a:xfrm>
            <a:off x="2771640" y="5692680"/>
            <a:ext cx="511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24 час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Управляющая кнопка: домой 2"/>
          <p:cNvSpPr/>
          <p:nvPr/>
        </p:nvSpPr>
        <p:spPr>
          <a:xfrm>
            <a:off x="7881840" y="5877000"/>
            <a:ext cx="1008000" cy="689040"/>
          </a:xfrm>
          <a:custGeom>
            <a:avLst/>
            <a:gdLst>
              <a:gd name="textAreaLeft" fmla="*/ 44640 w 1008000"/>
              <a:gd name="textAreaRight" fmla="*/ 963360 w 1008000"/>
              <a:gd name="textAreaTop" fmla="*/ 44640 h 689040"/>
              <a:gd name="textAreaBottom" fmla="*/ 644400 h 689040"/>
            </a:gdLst>
            <a:ahLst/>
            <a:rect l="textAreaLeft" t="textAreaTop" r="textAreaRight" b="textAreaBottom"/>
            <a:pathLst>
              <a:path w="31594" h="21600">
                <a:moveTo>
                  <a:pt x="0" y="0"/>
                </a:moveTo>
                <a:lnTo>
                  <a:pt x="31594" y="0"/>
                </a:lnTo>
                <a:lnTo>
                  <a:pt x="31594" y="21600"/>
                </a:lnTo>
                <a:lnTo>
                  <a:pt x="0" y="21600"/>
                </a:lnTo>
                <a:close/>
              </a:path>
              <a:path fill="lightenLess" w="31594" h="21600">
                <a:moveTo>
                  <a:pt x="0" y="0"/>
                </a:moveTo>
                <a:lnTo>
                  <a:pt x="31594" y="0"/>
                </a:lnTo>
                <a:lnTo>
                  <a:pt x="30194" y="1400"/>
                </a:lnTo>
                <a:lnTo>
                  <a:pt x="1400" y="1400"/>
                </a:lnTo>
                <a:close/>
              </a:path>
              <a:path fill="darken" w="31594" h="21600">
                <a:moveTo>
                  <a:pt x="31594" y="0"/>
                </a:moveTo>
                <a:lnTo>
                  <a:pt x="31594" y="21600"/>
                </a:lnTo>
                <a:lnTo>
                  <a:pt x="30194" y="20200"/>
                </a:lnTo>
                <a:lnTo>
                  <a:pt x="30194" y="1400"/>
                </a:lnTo>
                <a:close/>
              </a:path>
              <a:path fill="darkenLess" w="31594" h="21600">
                <a:moveTo>
                  <a:pt x="31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94" y="20200"/>
                </a:lnTo>
                <a:close/>
              </a:path>
              <a:path fill="lighten" w="31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94" h="21600">
                <a:moveTo>
                  <a:pt x="15797" y="3837"/>
                </a:moveTo>
                <a:lnTo>
                  <a:pt x="18373" y="6448"/>
                </a:lnTo>
                <a:lnTo>
                  <a:pt x="18373" y="4707"/>
                </a:lnTo>
                <a:lnTo>
                  <a:pt x="20149" y="4707"/>
                </a:lnTo>
                <a:lnTo>
                  <a:pt x="20149" y="8224"/>
                </a:lnTo>
                <a:lnTo>
                  <a:pt x="22760" y="10800"/>
                </a:lnTo>
                <a:lnTo>
                  <a:pt x="21106" y="10800"/>
                </a:lnTo>
                <a:lnTo>
                  <a:pt x="21106" y="17989"/>
                </a:lnTo>
                <a:lnTo>
                  <a:pt x="10488" y="17989"/>
                </a:lnTo>
                <a:lnTo>
                  <a:pt x="10488" y="10800"/>
                </a:lnTo>
                <a:lnTo>
                  <a:pt x="8834" y="10800"/>
                </a:lnTo>
                <a:close/>
              </a:path>
              <a:path fill="darkenLess" w="31594" h="21600">
                <a:moveTo>
                  <a:pt x="18373" y="6448"/>
                </a:moveTo>
                <a:lnTo>
                  <a:pt x="18373" y="4707"/>
                </a:lnTo>
                <a:lnTo>
                  <a:pt x="20149" y="4707"/>
                </a:lnTo>
                <a:lnTo>
                  <a:pt x="20149" y="8224"/>
                </a:lnTo>
                <a:close/>
              </a:path>
              <a:path fill="darkenLess" w="31594" h="21600">
                <a:moveTo>
                  <a:pt x="14874" y="14299"/>
                </a:moveTo>
                <a:lnTo>
                  <a:pt x="16719" y="14299"/>
                </a:lnTo>
                <a:lnTo>
                  <a:pt x="16719" y="17989"/>
                </a:lnTo>
                <a:lnTo>
                  <a:pt x="21106" y="17989"/>
                </a:lnTo>
                <a:lnTo>
                  <a:pt x="21106" y="10800"/>
                </a:lnTo>
                <a:lnTo>
                  <a:pt x="10488" y="10800"/>
                </a:lnTo>
                <a:lnTo>
                  <a:pt x="10488" y="17989"/>
                </a:lnTo>
                <a:lnTo>
                  <a:pt x="1487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76360" y="692280"/>
            <a:ext cx="7416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Сколько букв на странице, если на каждой строчке 22 буквы, а в на странице  30 стр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7" name="Объект 4" descr=""/>
          <p:cNvPicPr/>
          <p:nvPr/>
        </p:nvPicPr>
        <p:blipFill>
          <a:blip r:embed="rId2"/>
          <a:stretch/>
        </p:blipFill>
        <p:spPr>
          <a:xfrm>
            <a:off x="2230560" y="2639880"/>
            <a:ext cx="5621040" cy="3382920"/>
          </a:xfrm>
          <a:prstGeom prst="rect">
            <a:avLst/>
          </a:prstGeom>
          <a:ln w="0">
            <a:noFill/>
          </a:ln>
        </p:spPr>
      </p:pic>
      <p:sp>
        <p:nvSpPr>
          <p:cNvPr id="528" name="TextBox 18"/>
          <p:cNvSpPr/>
          <p:nvPr/>
        </p:nvSpPr>
        <p:spPr>
          <a:xfrm>
            <a:off x="2484360" y="5692680"/>
            <a:ext cx="51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660 сл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76360" y="692280"/>
            <a:ext cx="7416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Перевести число 23 в двоичную сист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Объект 4" descr=""/>
          <p:cNvPicPr/>
          <p:nvPr/>
        </p:nvPicPr>
        <p:blipFill>
          <a:blip r:embed="rId2"/>
          <a:stretch/>
        </p:blipFill>
        <p:spPr>
          <a:xfrm>
            <a:off x="2230560" y="2639880"/>
            <a:ext cx="5621040" cy="3382920"/>
          </a:xfrm>
          <a:prstGeom prst="rect">
            <a:avLst/>
          </a:prstGeom>
          <a:ln w="0">
            <a:noFill/>
          </a:ln>
        </p:spPr>
      </p:pic>
      <p:sp>
        <p:nvSpPr>
          <p:cNvPr id="531" name="TextBox 18"/>
          <p:cNvSpPr/>
          <p:nvPr/>
        </p:nvSpPr>
        <p:spPr>
          <a:xfrm>
            <a:off x="2484360" y="5692680"/>
            <a:ext cx="51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1011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7596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Перевести число 100 в десятичную систем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Объект 4" descr=""/>
          <p:cNvPicPr/>
          <p:nvPr/>
        </p:nvPicPr>
        <p:blipFill>
          <a:blip r:embed="rId2"/>
          <a:stretch/>
        </p:blipFill>
        <p:spPr>
          <a:xfrm>
            <a:off x="1981080" y="2060640"/>
            <a:ext cx="5615280" cy="3816360"/>
          </a:xfrm>
          <a:prstGeom prst="rect">
            <a:avLst/>
          </a:prstGeom>
          <a:ln w="0">
            <a:noFill/>
          </a:ln>
        </p:spPr>
      </p:pic>
      <p:sp>
        <p:nvSpPr>
          <p:cNvPr id="534" name="TextBox 18"/>
          <p:cNvSpPr/>
          <p:nvPr/>
        </p:nvSpPr>
        <p:spPr>
          <a:xfrm>
            <a:off x="2770200" y="569268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Управляющая кнопка: домой 2"/>
          <p:cNvSpPr/>
          <p:nvPr/>
        </p:nvSpPr>
        <p:spPr>
          <a:xfrm>
            <a:off x="7881840" y="5877000"/>
            <a:ext cx="1008000" cy="689040"/>
          </a:xfrm>
          <a:custGeom>
            <a:avLst/>
            <a:gdLst>
              <a:gd name="textAreaLeft" fmla="*/ 44640 w 1008000"/>
              <a:gd name="textAreaRight" fmla="*/ 963360 w 1008000"/>
              <a:gd name="textAreaTop" fmla="*/ 44640 h 689040"/>
              <a:gd name="textAreaBottom" fmla="*/ 644400 h 689040"/>
            </a:gdLst>
            <a:ahLst/>
            <a:rect l="textAreaLeft" t="textAreaTop" r="textAreaRight" b="textAreaBottom"/>
            <a:pathLst>
              <a:path w="31594" h="21600">
                <a:moveTo>
                  <a:pt x="0" y="0"/>
                </a:moveTo>
                <a:lnTo>
                  <a:pt x="31594" y="0"/>
                </a:lnTo>
                <a:lnTo>
                  <a:pt x="31594" y="21600"/>
                </a:lnTo>
                <a:lnTo>
                  <a:pt x="0" y="21600"/>
                </a:lnTo>
                <a:close/>
              </a:path>
              <a:path fill="lightenLess" w="31594" h="21600">
                <a:moveTo>
                  <a:pt x="0" y="0"/>
                </a:moveTo>
                <a:lnTo>
                  <a:pt x="31594" y="0"/>
                </a:lnTo>
                <a:lnTo>
                  <a:pt x="30194" y="1400"/>
                </a:lnTo>
                <a:lnTo>
                  <a:pt x="1400" y="1400"/>
                </a:lnTo>
                <a:close/>
              </a:path>
              <a:path fill="darken" w="31594" h="21600">
                <a:moveTo>
                  <a:pt x="31594" y="0"/>
                </a:moveTo>
                <a:lnTo>
                  <a:pt x="31594" y="21600"/>
                </a:lnTo>
                <a:lnTo>
                  <a:pt x="30194" y="20200"/>
                </a:lnTo>
                <a:lnTo>
                  <a:pt x="30194" y="1400"/>
                </a:lnTo>
                <a:close/>
              </a:path>
              <a:path fill="darkenLess" w="31594" h="21600">
                <a:moveTo>
                  <a:pt x="31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94" y="20200"/>
                </a:lnTo>
                <a:close/>
              </a:path>
              <a:path fill="lighten" w="31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94" h="21600">
                <a:moveTo>
                  <a:pt x="15797" y="3837"/>
                </a:moveTo>
                <a:lnTo>
                  <a:pt x="18373" y="6448"/>
                </a:lnTo>
                <a:lnTo>
                  <a:pt x="18373" y="4707"/>
                </a:lnTo>
                <a:lnTo>
                  <a:pt x="20149" y="4707"/>
                </a:lnTo>
                <a:lnTo>
                  <a:pt x="20149" y="8224"/>
                </a:lnTo>
                <a:lnTo>
                  <a:pt x="22760" y="10800"/>
                </a:lnTo>
                <a:lnTo>
                  <a:pt x="21106" y="10800"/>
                </a:lnTo>
                <a:lnTo>
                  <a:pt x="21106" y="17989"/>
                </a:lnTo>
                <a:lnTo>
                  <a:pt x="10488" y="17989"/>
                </a:lnTo>
                <a:lnTo>
                  <a:pt x="10488" y="10800"/>
                </a:lnTo>
                <a:lnTo>
                  <a:pt x="8834" y="10800"/>
                </a:lnTo>
                <a:close/>
              </a:path>
              <a:path fill="darkenLess" w="31594" h="21600">
                <a:moveTo>
                  <a:pt x="18373" y="6448"/>
                </a:moveTo>
                <a:lnTo>
                  <a:pt x="18373" y="4707"/>
                </a:lnTo>
                <a:lnTo>
                  <a:pt x="20149" y="4707"/>
                </a:lnTo>
                <a:lnTo>
                  <a:pt x="20149" y="8224"/>
                </a:lnTo>
                <a:close/>
              </a:path>
              <a:path fill="darkenLess" w="31594" h="21600">
                <a:moveTo>
                  <a:pt x="14874" y="14299"/>
                </a:moveTo>
                <a:lnTo>
                  <a:pt x="16719" y="14299"/>
                </a:lnTo>
                <a:lnTo>
                  <a:pt x="16719" y="17989"/>
                </a:lnTo>
                <a:lnTo>
                  <a:pt x="21106" y="17989"/>
                </a:lnTo>
                <a:lnTo>
                  <a:pt x="21106" y="10800"/>
                </a:lnTo>
                <a:lnTo>
                  <a:pt x="10488" y="10800"/>
                </a:lnTo>
                <a:lnTo>
                  <a:pt x="10488" y="17989"/>
                </a:lnTo>
                <a:lnTo>
                  <a:pt x="1487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476360" y="692280"/>
            <a:ext cx="7416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Назовите «географическую рыбу», в названии которой можно найти французский город и сторону свет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Объект 4" descr=""/>
          <p:cNvPicPr/>
          <p:nvPr/>
        </p:nvPicPr>
        <p:blipFill>
          <a:blip r:embed="rId2"/>
          <a:stretch/>
        </p:blipFill>
        <p:spPr>
          <a:xfrm>
            <a:off x="2230560" y="2639880"/>
            <a:ext cx="5621040" cy="3443400"/>
          </a:xfrm>
          <a:prstGeom prst="rect">
            <a:avLst/>
          </a:prstGeom>
          <a:ln w="0">
            <a:noFill/>
          </a:ln>
        </p:spPr>
      </p:pic>
      <p:sp>
        <p:nvSpPr>
          <p:cNvPr id="538" name="TextBox 18"/>
          <p:cNvSpPr/>
          <p:nvPr/>
        </p:nvSpPr>
        <p:spPr>
          <a:xfrm>
            <a:off x="2484360" y="565776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Севрюг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76360" y="692280"/>
            <a:ext cx="7416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Как древние люди изображали Земл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0" name="Объект 4" descr=""/>
          <p:cNvPicPr/>
          <p:nvPr/>
        </p:nvPicPr>
        <p:blipFill>
          <a:blip r:embed="rId2"/>
          <a:stretch/>
        </p:blipFill>
        <p:spPr>
          <a:xfrm>
            <a:off x="2305080" y="2133720"/>
            <a:ext cx="5613480" cy="3444840"/>
          </a:xfrm>
          <a:prstGeom prst="rect">
            <a:avLst/>
          </a:prstGeom>
          <a:ln w="0">
            <a:noFill/>
          </a:ln>
        </p:spPr>
      </p:pic>
      <p:sp>
        <p:nvSpPr>
          <p:cNvPr id="541" name="TextBox 18"/>
          <p:cNvSpPr/>
          <p:nvPr/>
        </p:nvSpPr>
        <p:spPr>
          <a:xfrm>
            <a:off x="1979640" y="570564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Плоский дис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7596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Какую из перечисленных стран  называют страной «восходящего солнц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Объект 4" descr=""/>
          <p:cNvPicPr/>
          <p:nvPr/>
        </p:nvPicPr>
        <p:blipFill>
          <a:blip r:embed="rId2"/>
          <a:stretch/>
        </p:blipFill>
        <p:spPr>
          <a:xfrm>
            <a:off x="1981080" y="2060640"/>
            <a:ext cx="5615280" cy="3816360"/>
          </a:xfrm>
          <a:prstGeom prst="rect">
            <a:avLst/>
          </a:prstGeom>
          <a:ln w="0">
            <a:noFill/>
          </a:ln>
        </p:spPr>
      </p:pic>
      <p:sp>
        <p:nvSpPr>
          <p:cNvPr id="544" name="TextBox 18"/>
          <p:cNvSpPr/>
          <p:nvPr/>
        </p:nvSpPr>
        <p:spPr>
          <a:xfrm>
            <a:off x="2770200" y="5692680"/>
            <a:ext cx="511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Япо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Управляющая кнопка: домой 2"/>
          <p:cNvSpPr/>
          <p:nvPr/>
        </p:nvSpPr>
        <p:spPr>
          <a:xfrm>
            <a:off x="7881840" y="5877000"/>
            <a:ext cx="1008000" cy="689040"/>
          </a:xfrm>
          <a:custGeom>
            <a:avLst/>
            <a:gdLst>
              <a:gd name="textAreaLeft" fmla="*/ 44640 w 1008000"/>
              <a:gd name="textAreaRight" fmla="*/ 963360 w 1008000"/>
              <a:gd name="textAreaTop" fmla="*/ 44640 h 689040"/>
              <a:gd name="textAreaBottom" fmla="*/ 644400 h 689040"/>
            </a:gdLst>
            <a:ahLst/>
            <a:rect l="textAreaLeft" t="textAreaTop" r="textAreaRight" b="textAreaBottom"/>
            <a:pathLst>
              <a:path w="31594" h="21600">
                <a:moveTo>
                  <a:pt x="0" y="0"/>
                </a:moveTo>
                <a:lnTo>
                  <a:pt x="31594" y="0"/>
                </a:lnTo>
                <a:lnTo>
                  <a:pt x="31594" y="21600"/>
                </a:lnTo>
                <a:lnTo>
                  <a:pt x="0" y="21600"/>
                </a:lnTo>
                <a:close/>
              </a:path>
              <a:path fill="lightenLess" w="31594" h="21600">
                <a:moveTo>
                  <a:pt x="0" y="0"/>
                </a:moveTo>
                <a:lnTo>
                  <a:pt x="31594" y="0"/>
                </a:lnTo>
                <a:lnTo>
                  <a:pt x="30194" y="1400"/>
                </a:lnTo>
                <a:lnTo>
                  <a:pt x="1400" y="1400"/>
                </a:lnTo>
                <a:close/>
              </a:path>
              <a:path fill="darken" w="31594" h="21600">
                <a:moveTo>
                  <a:pt x="31594" y="0"/>
                </a:moveTo>
                <a:lnTo>
                  <a:pt x="31594" y="21600"/>
                </a:lnTo>
                <a:lnTo>
                  <a:pt x="30194" y="20200"/>
                </a:lnTo>
                <a:lnTo>
                  <a:pt x="30194" y="1400"/>
                </a:lnTo>
                <a:close/>
              </a:path>
              <a:path fill="darkenLess" w="31594" h="21600">
                <a:moveTo>
                  <a:pt x="31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94" y="20200"/>
                </a:lnTo>
                <a:close/>
              </a:path>
              <a:path fill="lighten" w="31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94" h="21600">
                <a:moveTo>
                  <a:pt x="15797" y="3837"/>
                </a:moveTo>
                <a:lnTo>
                  <a:pt x="18373" y="6448"/>
                </a:lnTo>
                <a:lnTo>
                  <a:pt x="18373" y="4707"/>
                </a:lnTo>
                <a:lnTo>
                  <a:pt x="20149" y="4707"/>
                </a:lnTo>
                <a:lnTo>
                  <a:pt x="20149" y="8224"/>
                </a:lnTo>
                <a:lnTo>
                  <a:pt x="22760" y="10800"/>
                </a:lnTo>
                <a:lnTo>
                  <a:pt x="21106" y="10800"/>
                </a:lnTo>
                <a:lnTo>
                  <a:pt x="21106" y="17989"/>
                </a:lnTo>
                <a:lnTo>
                  <a:pt x="10488" y="17989"/>
                </a:lnTo>
                <a:lnTo>
                  <a:pt x="10488" y="10800"/>
                </a:lnTo>
                <a:lnTo>
                  <a:pt x="8834" y="10800"/>
                </a:lnTo>
                <a:close/>
              </a:path>
              <a:path fill="darkenLess" w="31594" h="21600">
                <a:moveTo>
                  <a:pt x="18373" y="6448"/>
                </a:moveTo>
                <a:lnTo>
                  <a:pt x="18373" y="4707"/>
                </a:lnTo>
                <a:lnTo>
                  <a:pt x="20149" y="4707"/>
                </a:lnTo>
                <a:lnTo>
                  <a:pt x="20149" y="8224"/>
                </a:lnTo>
                <a:close/>
              </a:path>
              <a:path fill="darkenLess" w="31594" h="21600">
                <a:moveTo>
                  <a:pt x="14874" y="14299"/>
                </a:moveTo>
                <a:lnTo>
                  <a:pt x="16719" y="14299"/>
                </a:lnTo>
                <a:lnTo>
                  <a:pt x="16719" y="17989"/>
                </a:lnTo>
                <a:lnTo>
                  <a:pt x="21106" y="17989"/>
                </a:lnTo>
                <a:lnTo>
                  <a:pt x="21106" y="10800"/>
                </a:lnTo>
                <a:lnTo>
                  <a:pt x="10488" y="10800"/>
                </a:lnTo>
                <a:lnTo>
                  <a:pt x="10488" y="17989"/>
                </a:lnTo>
                <a:lnTo>
                  <a:pt x="1487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76360" y="692280"/>
            <a:ext cx="7416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Груша тяжелее, чем яблоко, а яблоко тяжелее персика. Что тяжелее груша или персик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Объект 4" descr=""/>
          <p:cNvPicPr/>
          <p:nvPr/>
        </p:nvPicPr>
        <p:blipFill>
          <a:blip r:embed="rId2"/>
          <a:stretch/>
        </p:blipFill>
        <p:spPr>
          <a:xfrm>
            <a:off x="2230560" y="2639880"/>
            <a:ext cx="5621040" cy="3382920"/>
          </a:xfrm>
          <a:prstGeom prst="rect">
            <a:avLst/>
          </a:prstGeom>
          <a:ln w="0">
            <a:noFill/>
          </a:ln>
        </p:spPr>
      </p:pic>
      <p:sp>
        <p:nvSpPr>
          <p:cNvPr id="548" name="TextBox 18"/>
          <p:cNvSpPr/>
          <p:nvPr/>
        </p:nvSpPr>
        <p:spPr>
          <a:xfrm>
            <a:off x="2484360" y="562464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Груш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76360" y="907920"/>
            <a:ext cx="7416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Если бы завтрашний день был вчерашним, то до воскресения осталось бы столько дней, сколько прошло от воскресения до вчерашнего дня. Какой же сегодня ден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Объект 4" descr=""/>
          <p:cNvPicPr/>
          <p:nvPr/>
        </p:nvPicPr>
        <p:blipFill>
          <a:blip r:embed="rId2"/>
          <a:stretch/>
        </p:blipFill>
        <p:spPr>
          <a:xfrm>
            <a:off x="2230560" y="2639880"/>
            <a:ext cx="5621040" cy="3382920"/>
          </a:xfrm>
          <a:prstGeom prst="rect">
            <a:avLst/>
          </a:prstGeom>
          <a:ln w="0">
            <a:noFill/>
          </a:ln>
        </p:spPr>
      </p:pic>
      <p:sp>
        <p:nvSpPr>
          <p:cNvPr id="551" name="TextBox 18"/>
          <p:cNvSpPr/>
          <p:nvPr/>
        </p:nvSpPr>
        <p:spPr>
          <a:xfrm>
            <a:off x="2484360" y="562464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сред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Раун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714680" y="981000"/>
            <a:ext cx="71784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унд Ι по географии «Проверим знан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унд  II по информатике « Единицы измерен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унд ΙΙΙ  по географии «Покажем знан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унд IV по информатике «Мы знаем всё!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унд V по географии  «Большая карт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унд VI по информатике  «Логик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унд VIΙ по географии и информатике «Удивим знаниями!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Таинственный раунд VIΙ «Вопросы из ларца»  или  «Чудеса из сундуч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Финальный раунд  VIIΙ  «Спецзадание». Головоломка «Румб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8E85-3707-4820-87BF-F5618313F3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47280" y="692280"/>
            <a:ext cx="7596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alibri"/>
              </a:rPr>
              <a:t>Два мальчика играли на гитарах, а один на балалайке. На чём играл Юра, если Миша с Петей и Петя с Юрой играли на разных инструментах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3" name="Объект 4" descr=""/>
          <p:cNvPicPr/>
          <p:nvPr/>
        </p:nvPicPr>
        <p:blipFill>
          <a:blip r:embed="rId2"/>
          <a:stretch/>
        </p:blipFill>
        <p:spPr>
          <a:xfrm>
            <a:off x="2054160" y="2408400"/>
            <a:ext cx="5614920" cy="3816360"/>
          </a:xfrm>
          <a:prstGeom prst="rect">
            <a:avLst/>
          </a:prstGeom>
          <a:ln w="0">
            <a:noFill/>
          </a:ln>
        </p:spPr>
      </p:pic>
      <p:sp>
        <p:nvSpPr>
          <p:cNvPr id="554" name="TextBox 18"/>
          <p:cNvSpPr/>
          <p:nvPr/>
        </p:nvSpPr>
        <p:spPr>
          <a:xfrm>
            <a:off x="1258920" y="5692680"/>
            <a:ext cx="662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Юра играл на гитар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Управляющая кнопка: домой 2"/>
          <p:cNvSpPr/>
          <p:nvPr/>
        </p:nvSpPr>
        <p:spPr>
          <a:xfrm>
            <a:off x="7881840" y="5877000"/>
            <a:ext cx="1008000" cy="689040"/>
          </a:xfrm>
          <a:custGeom>
            <a:avLst/>
            <a:gdLst>
              <a:gd name="textAreaLeft" fmla="*/ 44640 w 1008000"/>
              <a:gd name="textAreaRight" fmla="*/ 963360 w 1008000"/>
              <a:gd name="textAreaTop" fmla="*/ 44640 h 689040"/>
              <a:gd name="textAreaBottom" fmla="*/ 644400 h 689040"/>
            </a:gdLst>
            <a:ahLst/>
            <a:rect l="textAreaLeft" t="textAreaTop" r="textAreaRight" b="textAreaBottom"/>
            <a:pathLst>
              <a:path w="31594" h="21600">
                <a:moveTo>
                  <a:pt x="0" y="0"/>
                </a:moveTo>
                <a:lnTo>
                  <a:pt x="31594" y="0"/>
                </a:lnTo>
                <a:lnTo>
                  <a:pt x="31594" y="21600"/>
                </a:lnTo>
                <a:lnTo>
                  <a:pt x="0" y="21600"/>
                </a:lnTo>
                <a:close/>
              </a:path>
              <a:path fill="lightenLess" w="31594" h="21600">
                <a:moveTo>
                  <a:pt x="0" y="0"/>
                </a:moveTo>
                <a:lnTo>
                  <a:pt x="31594" y="0"/>
                </a:lnTo>
                <a:lnTo>
                  <a:pt x="30194" y="1400"/>
                </a:lnTo>
                <a:lnTo>
                  <a:pt x="1400" y="1400"/>
                </a:lnTo>
                <a:close/>
              </a:path>
              <a:path fill="darken" w="31594" h="21600">
                <a:moveTo>
                  <a:pt x="31594" y="0"/>
                </a:moveTo>
                <a:lnTo>
                  <a:pt x="31594" y="21600"/>
                </a:lnTo>
                <a:lnTo>
                  <a:pt x="30194" y="20200"/>
                </a:lnTo>
                <a:lnTo>
                  <a:pt x="30194" y="1400"/>
                </a:lnTo>
                <a:close/>
              </a:path>
              <a:path fill="darkenLess" w="31594" h="21600">
                <a:moveTo>
                  <a:pt x="31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94" y="20200"/>
                </a:lnTo>
                <a:close/>
              </a:path>
              <a:path fill="lighten" w="31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94" h="21600">
                <a:moveTo>
                  <a:pt x="15797" y="3837"/>
                </a:moveTo>
                <a:lnTo>
                  <a:pt x="18373" y="6448"/>
                </a:lnTo>
                <a:lnTo>
                  <a:pt x="18373" y="4707"/>
                </a:lnTo>
                <a:lnTo>
                  <a:pt x="20149" y="4707"/>
                </a:lnTo>
                <a:lnTo>
                  <a:pt x="20149" y="8224"/>
                </a:lnTo>
                <a:lnTo>
                  <a:pt x="22760" y="10800"/>
                </a:lnTo>
                <a:lnTo>
                  <a:pt x="21106" y="10800"/>
                </a:lnTo>
                <a:lnTo>
                  <a:pt x="21106" y="17989"/>
                </a:lnTo>
                <a:lnTo>
                  <a:pt x="10488" y="17989"/>
                </a:lnTo>
                <a:lnTo>
                  <a:pt x="10488" y="10800"/>
                </a:lnTo>
                <a:lnTo>
                  <a:pt x="8834" y="10800"/>
                </a:lnTo>
                <a:close/>
              </a:path>
              <a:path fill="darkenLess" w="31594" h="21600">
                <a:moveTo>
                  <a:pt x="18373" y="6448"/>
                </a:moveTo>
                <a:lnTo>
                  <a:pt x="18373" y="4707"/>
                </a:lnTo>
                <a:lnTo>
                  <a:pt x="20149" y="4707"/>
                </a:lnTo>
                <a:lnTo>
                  <a:pt x="20149" y="8224"/>
                </a:lnTo>
                <a:close/>
              </a:path>
              <a:path fill="darkenLess" w="31594" h="21600">
                <a:moveTo>
                  <a:pt x="14874" y="14299"/>
                </a:moveTo>
                <a:lnTo>
                  <a:pt x="16719" y="14299"/>
                </a:lnTo>
                <a:lnTo>
                  <a:pt x="16719" y="17989"/>
                </a:lnTo>
                <a:lnTo>
                  <a:pt x="21106" y="17989"/>
                </a:lnTo>
                <a:lnTo>
                  <a:pt x="21106" y="10800"/>
                </a:lnTo>
                <a:lnTo>
                  <a:pt x="10488" y="10800"/>
                </a:lnTo>
                <a:lnTo>
                  <a:pt x="10488" y="17989"/>
                </a:lnTo>
                <a:lnTo>
                  <a:pt x="1487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476360" y="692280"/>
            <a:ext cx="7416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Из количества букв в названии географического объекта «Урал», отнимите целую часть чис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7" name="Объект 4" descr=""/>
          <p:cNvPicPr/>
          <p:nvPr/>
        </p:nvPicPr>
        <p:blipFill>
          <a:blip r:embed="rId2"/>
          <a:stretch/>
        </p:blipFill>
        <p:spPr>
          <a:xfrm>
            <a:off x="2230560" y="2639880"/>
            <a:ext cx="5621040" cy="3382920"/>
          </a:xfrm>
          <a:prstGeom prst="rect">
            <a:avLst/>
          </a:prstGeom>
          <a:ln w="0">
            <a:noFill/>
          </a:ln>
        </p:spPr>
      </p:pic>
      <p:sp>
        <p:nvSpPr>
          <p:cNvPr id="558" name="TextBox 18"/>
          <p:cNvSpPr/>
          <p:nvPr/>
        </p:nvSpPr>
        <p:spPr>
          <a:xfrm>
            <a:off x="2484360" y="562464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76360" y="692280"/>
            <a:ext cx="7416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Число количество материков, умножьте на число океан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Объект 4" descr=""/>
          <p:cNvPicPr/>
          <p:nvPr/>
        </p:nvPicPr>
        <p:blipFill>
          <a:blip r:embed="rId2"/>
          <a:stretch/>
        </p:blipFill>
        <p:spPr>
          <a:xfrm>
            <a:off x="2230560" y="2639880"/>
            <a:ext cx="5621040" cy="3382920"/>
          </a:xfrm>
          <a:prstGeom prst="rect">
            <a:avLst/>
          </a:prstGeom>
          <a:ln w="0">
            <a:noFill/>
          </a:ln>
        </p:spPr>
      </p:pic>
      <p:sp>
        <p:nvSpPr>
          <p:cNvPr id="561" name="TextBox 18"/>
          <p:cNvSpPr/>
          <p:nvPr/>
        </p:nvSpPr>
        <p:spPr>
          <a:xfrm>
            <a:off x="2484360" y="562464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2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47280" y="692280"/>
            <a:ext cx="7596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99"/>
                </a:solidFill>
                <a:latin typeface="Calibri"/>
              </a:rPr>
              <a:t>В каком европейском городе, есть улица Пифагора, Архимеда, Ньютона и Коперн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3" name="Объект 4" descr=""/>
          <p:cNvPicPr/>
          <p:nvPr/>
        </p:nvPicPr>
        <p:blipFill>
          <a:blip r:embed="rId2"/>
          <a:stretch/>
        </p:blipFill>
        <p:spPr>
          <a:xfrm>
            <a:off x="2054160" y="2408400"/>
            <a:ext cx="5614920" cy="3035160"/>
          </a:xfrm>
          <a:prstGeom prst="rect">
            <a:avLst/>
          </a:prstGeom>
          <a:ln w="0">
            <a:noFill/>
          </a:ln>
        </p:spPr>
      </p:pic>
      <p:sp>
        <p:nvSpPr>
          <p:cNvPr id="564" name="TextBox 18"/>
          <p:cNvSpPr/>
          <p:nvPr/>
        </p:nvSpPr>
        <p:spPr>
          <a:xfrm>
            <a:off x="1258920" y="5692680"/>
            <a:ext cx="662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Амстерда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Управляющая кнопка: домой 2"/>
          <p:cNvSpPr/>
          <p:nvPr/>
        </p:nvSpPr>
        <p:spPr>
          <a:xfrm>
            <a:off x="7881840" y="5877000"/>
            <a:ext cx="1008000" cy="689040"/>
          </a:xfrm>
          <a:custGeom>
            <a:avLst/>
            <a:gdLst>
              <a:gd name="textAreaLeft" fmla="*/ 44640 w 1008000"/>
              <a:gd name="textAreaRight" fmla="*/ 963360 w 1008000"/>
              <a:gd name="textAreaTop" fmla="*/ 44640 h 689040"/>
              <a:gd name="textAreaBottom" fmla="*/ 644400 h 689040"/>
            </a:gdLst>
            <a:ahLst/>
            <a:rect l="textAreaLeft" t="textAreaTop" r="textAreaRight" b="textAreaBottom"/>
            <a:pathLst>
              <a:path w="31594" h="21600">
                <a:moveTo>
                  <a:pt x="0" y="0"/>
                </a:moveTo>
                <a:lnTo>
                  <a:pt x="31594" y="0"/>
                </a:lnTo>
                <a:lnTo>
                  <a:pt x="31594" y="21600"/>
                </a:lnTo>
                <a:lnTo>
                  <a:pt x="0" y="21600"/>
                </a:lnTo>
                <a:close/>
              </a:path>
              <a:path fill="lightenLess" w="31594" h="21600">
                <a:moveTo>
                  <a:pt x="0" y="0"/>
                </a:moveTo>
                <a:lnTo>
                  <a:pt x="31594" y="0"/>
                </a:lnTo>
                <a:lnTo>
                  <a:pt x="30194" y="1400"/>
                </a:lnTo>
                <a:lnTo>
                  <a:pt x="1400" y="1400"/>
                </a:lnTo>
                <a:close/>
              </a:path>
              <a:path fill="darken" w="31594" h="21600">
                <a:moveTo>
                  <a:pt x="31594" y="0"/>
                </a:moveTo>
                <a:lnTo>
                  <a:pt x="31594" y="21600"/>
                </a:lnTo>
                <a:lnTo>
                  <a:pt x="30194" y="20200"/>
                </a:lnTo>
                <a:lnTo>
                  <a:pt x="30194" y="1400"/>
                </a:lnTo>
                <a:close/>
              </a:path>
              <a:path fill="darkenLess" w="31594" h="21600">
                <a:moveTo>
                  <a:pt x="31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94" y="20200"/>
                </a:lnTo>
                <a:close/>
              </a:path>
              <a:path fill="lighten" w="31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94" h="21600">
                <a:moveTo>
                  <a:pt x="15797" y="3837"/>
                </a:moveTo>
                <a:lnTo>
                  <a:pt x="18373" y="6448"/>
                </a:lnTo>
                <a:lnTo>
                  <a:pt x="18373" y="4707"/>
                </a:lnTo>
                <a:lnTo>
                  <a:pt x="20149" y="4707"/>
                </a:lnTo>
                <a:lnTo>
                  <a:pt x="20149" y="8224"/>
                </a:lnTo>
                <a:lnTo>
                  <a:pt x="22760" y="10800"/>
                </a:lnTo>
                <a:lnTo>
                  <a:pt x="21106" y="10800"/>
                </a:lnTo>
                <a:lnTo>
                  <a:pt x="21106" y="17989"/>
                </a:lnTo>
                <a:lnTo>
                  <a:pt x="10488" y="17989"/>
                </a:lnTo>
                <a:lnTo>
                  <a:pt x="10488" y="10800"/>
                </a:lnTo>
                <a:lnTo>
                  <a:pt x="8834" y="10800"/>
                </a:lnTo>
                <a:close/>
              </a:path>
              <a:path fill="darkenLess" w="31594" h="21600">
                <a:moveTo>
                  <a:pt x="18373" y="6448"/>
                </a:moveTo>
                <a:lnTo>
                  <a:pt x="18373" y="4707"/>
                </a:lnTo>
                <a:lnTo>
                  <a:pt x="20149" y="4707"/>
                </a:lnTo>
                <a:lnTo>
                  <a:pt x="20149" y="8224"/>
                </a:lnTo>
                <a:close/>
              </a:path>
              <a:path fill="darkenLess" w="31594" h="21600">
                <a:moveTo>
                  <a:pt x="14874" y="14299"/>
                </a:moveTo>
                <a:lnTo>
                  <a:pt x="16719" y="14299"/>
                </a:lnTo>
                <a:lnTo>
                  <a:pt x="16719" y="17989"/>
                </a:lnTo>
                <a:lnTo>
                  <a:pt x="21106" y="17989"/>
                </a:lnTo>
                <a:lnTo>
                  <a:pt x="21106" y="10800"/>
                </a:lnTo>
                <a:lnTo>
                  <a:pt x="10488" y="10800"/>
                </a:lnTo>
                <a:lnTo>
                  <a:pt x="10488" y="17989"/>
                </a:lnTo>
                <a:lnTo>
                  <a:pt x="1487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741672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Подсказ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Объект 4" descr=""/>
          <p:cNvPicPr/>
          <p:nvPr/>
        </p:nvPicPr>
        <p:blipFill>
          <a:blip r:embed="rId2"/>
          <a:stretch/>
        </p:blipFill>
        <p:spPr>
          <a:xfrm>
            <a:off x="1657440" y="981000"/>
            <a:ext cx="7340400" cy="5572080"/>
          </a:xfrm>
          <a:prstGeom prst="rect">
            <a:avLst/>
          </a:prstGeom>
          <a:ln w="0">
            <a:noFill/>
          </a:ln>
        </p:spPr>
      </p:pic>
      <p:sp>
        <p:nvSpPr>
          <p:cNvPr id="568" name="TextBox 1"/>
          <p:cNvSpPr/>
          <p:nvPr/>
        </p:nvSpPr>
        <p:spPr>
          <a:xfrm>
            <a:off x="2195640" y="148428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2"/>
          <p:cNvSpPr/>
          <p:nvPr/>
        </p:nvSpPr>
        <p:spPr>
          <a:xfrm>
            <a:off x="2597040" y="32846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3"/>
          <p:cNvSpPr/>
          <p:nvPr/>
        </p:nvSpPr>
        <p:spPr>
          <a:xfrm>
            <a:off x="2180520" y="52387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741672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Подсказ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Объект 4" descr=""/>
          <p:cNvPicPr/>
          <p:nvPr/>
        </p:nvPicPr>
        <p:blipFill>
          <a:blip r:embed="rId2"/>
          <a:stretch/>
        </p:blipFill>
        <p:spPr>
          <a:xfrm>
            <a:off x="1316160" y="981000"/>
            <a:ext cx="7931160" cy="4969080"/>
          </a:xfrm>
          <a:prstGeom prst="rect">
            <a:avLst/>
          </a:prstGeom>
          <a:ln w="0">
            <a:noFill/>
          </a:ln>
        </p:spPr>
      </p:pic>
      <p:sp>
        <p:nvSpPr>
          <p:cNvPr id="573" name="TextBox 1"/>
          <p:cNvSpPr/>
          <p:nvPr/>
        </p:nvSpPr>
        <p:spPr>
          <a:xfrm>
            <a:off x="1908000" y="184464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5"/>
          <p:cNvSpPr/>
          <p:nvPr/>
        </p:nvSpPr>
        <p:spPr>
          <a:xfrm>
            <a:off x="2050920" y="393372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7416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Компа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Picture 3" descr=""/>
          <p:cNvPicPr/>
          <p:nvPr/>
        </p:nvPicPr>
        <p:blipFill>
          <a:blip r:embed="rId2"/>
          <a:stretch/>
        </p:blipFill>
        <p:spPr>
          <a:xfrm>
            <a:off x="1835280" y="1484280"/>
            <a:ext cx="648792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76000" y="404640"/>
            <a:ext cx="73436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Шар – по-гречески «сфера», а как это будет звучать по латы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7" name="Объект 4" descr=""/>
          <p:cNvPicPr/>
          <p:nvPr/>
        </p:nvPicPr>
        <p:blipFill>
          <a:blip r:embed="rId2"/>
          <a:stretch/>
        </p:blipFill>
        <p:spPr>
          <a:xfrm>
            <a:off x="1981080" y="2060640"/>
            <a:ext cx="5615280" cy="3816360"/>
          </a:xfrm>
          <a:prstGeom prst="rect">
            <a:avLst/>
          </a:prstGeom>
          <a:ln w="0">
            <a:noFill/>
          </a:ln>
        </p:spPr>
      </p:pic>
      <p:sp>
        <p:nvSpPr>
          <p:cNvPr id="498" name="TextBox 18"/>
          <p:cNvSpPr/>
          <p:nvPr/>
        </p:nvSpPr>
        <p:spPr>
          <a:xfrm>
            <a:off x="2771640" y="569268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глобу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76000" y="404640"/>
            <a:ext cx="73436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Как называется внутренняя оболочка Земл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0" name="Объект 4" descr=""/>
          <p:cNvPicPr/>
          <p:nvPr/>
        </p:nvPicPr>
        <p:blipFill>
          <a:blip r:embed="rId2"/>
          <a:stretch/>
        </p:blipFill>
        <p:spPr>
          <a:xfrm>
            <a:off x="1981080" y="2060640"/>
            <a:ext cx="5615280" cy="3816360"/>
          </a:xfrm>
          <a:prstGeom prst="rect">
            <a:avLst/>
          </a:prstGeom>
          <a:ln w="0">
            <a:noFill/>
          </a:ln>
        </p:spPr>
      </p:pic>
      <p:sp>
        <p:nvSpPr>
          <p:cNvPr id="501" name="TextBox 18"/>
          <p:cNvSpPr/>
          <p:nvPr/>
        </p:nvSpPr>
        <p:spPr>
          <a:xfrm>
            <a:off x="2771640" y="569268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мант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76000" y="404640"/>
            <a:ext cx="73436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Канал, по которому поднимается магм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3" name="Объект 4" descr=""/>
          <p:cNvPicPr/>
          <p:nvPr/>
        </p:nvPicPr>
        <p:blipFill>
          <a:blip r:embed="rId2"/>
          <a:stretch/>
        </p:blipFill>
        <p:spPr>
          <a:xfrm>
            <a:off x="1981080" y="2060640"/>
            <a:ext cx="5615280" cy="3816360"/>
          </a:xfrm>
          <a:prstGeom prst="rect">
            <a:avLst/>
          </a:prstGeom>
          <a:ln w="0">
            <a:noFill/>
          </a:ln>
        </p:spPr>
      </p:pic>
      <p:sp>
        <p:nvSpPr>
          <p:cNvPr id="504" name="TextBox 18"/>
          <p:cNvSpPr/>
          <p:nvPr/>
        </p:nvSpPr>
        <p:spPr>
          <a:xfrm>
            <a:off x="2771640" y="569268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жерл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Управляющая кнопка: домой 2"/>
          <p:cNvSpPr/>
          <p:nvPr/>
        </p:nvSpPr>
        <p:spPr>
          <a:xfrm>
            <a:off x="7881840" y="5877000"/>
            <a:ext cx="1008000" cy="689040"/>
          </a:xfrm>
          <a:custGeom>
            <a:avLst/>
            <a:gdLst>
              <a:gd name="textAreaLeft" fmla="*/ 44640 w 1008000"/>
              <a:gd name="textAreaRight" fmla="*/ 963360 w 1008000"/>
              <a:gd name="textAreaTop" fmla="*/ 44640 h 689040"/>
              <a:gd name="textAreaBottom" fmla="*/ 644400 h 689040"/>
            </a:gdLst>
            <a:ahLst/>
            <a:rect l="textAreaLeft" t="textAreaTop" r="textAreaRight" b="textAreaBottom"/>
            <a:pathLst>
              <a:path w="31594" h="21600">
                <a:moveTo>
                  <a:pt x="0" y="0"/>
                </a:moveTo>
                <a:lnTo>
                  <a:pt x="31594" y="0"/>
                </a:lnTo>
                <a:lnTo>
                  <a:pt x="31594" y="21600"/>
                </a:lnTo>
                <a:lnTo>
                  <a:pt x="0" y="21600"/>
                </a:lnTo>
                <a:close/>
              </a:path>
              <a:path fill="lightenLess" w="31594" h="21600">
                <a:moveTo>
                  <a:pt x="0" y="0"/>
                </a:moveTo>
                <a:lnTo>
                  <a:pt x="31594" y="0"/>
                </a:lnTo>
                <a:lnTo>
                  <a:pt x="30194" y="1400"/>
                </a:lnTo>
                <a:lnTo>
                  <a:pt x="1400" y="1400"/>
                </a:lnTo>
                <a:close/>
              </a:path>
              <a:path fill="darken" w="31594" h="21600">
                <a:moveTo>
                  <a:pt x="31594" y="0"/>
                </a:moveTo>
                <a:lnTo>
                  <a:pt x="31594" y="21600"/>
                </a:lnTo>
                <a:lnTo>
                  <a:pt x="30194" y="20200"/>
                </a:lnTo>
                <a:lnTo>
                  <a:pt x="30194" y="1400"/>
                </a:lnTo>
                <a:close/>
              </a:path>
              <a:path fill="darkenLess" w="31594" h="21600">
                <a:moveTo>
                  <a:pt x="31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94" y="20200"/>
                </a:lnTo>
                <a:close/>
              </a:path>
              <a:path fill="lighten" w="31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94" h="21600">
                <a:moveTo>
                  <a:pt x="15797" y="3837"/>
                </a:moveTo>
                <a:lnTo>
                  <a:pt x="18373" y="6448"/>
                </a:lnTo>
                <a:lnTo>
                  <a:pt x="18373" y="4707"/>
                </a:lnTo>
                <a:lnTo>
                  <a:pt x="20149" y="4707"/>
                </a:lnTo>
                <a:lnTo>
                  <a:pt x="20149" y="8224"/>
                </a:lnTo>
                <a:lnTo>
                  <a:pt x="22760" y="10800"/>
                </a:lnTo>
                <a:lnTo>
                  <a:pt x="21106" y="10800"/>
                </a:lnTo>
                <a:lnTo>
                  <a:pt x="21106" y="17989"/>
                </a:lnTo>
                <a:lnTo>
                  <a:pt x="10488" y="17989"/>
                </a:lnTo>
                <a:lnTo>
                  <a:pt x="10488" y="10800"/>
                </a:lnTo>
                <a:lnTo>
                  <a:pt x="8834" y="10800"/>
                </a:lnTo>
                <a:close/>
              </a:path>
              <a:path fill="darkenLess" w="31594" h="21600">
                <a:moveTo>
                  <a:pt x="18373" y="6448"/>
                </a:moveTo>
                <a:lnTo>
                  <a:pt x="18373" y="4707"/>
                </a:lnTo>
                <a:lnTo>
                  <a:pt x="20149" y="4707"/>
                </a:lnTo>
                <a:lnTo>
                  <a:pt x="20149" y="8224"/>
                </a:lnTo>
                <a:close/>
              </a:path>
              <a:path fill="darkenLess" w="31594" h="21600">
                <a:moveTo>
                  <a:pt x="14874" y="14299"/>
                </a:moveTo>
                <a:lnTo>
                  <a:pt x="16719" y="14299"/>
                </a:lnTo>
                <a:lnTo>
                  <a:pt x="16719" y="17989"/>
                </a:lnTo>
                <a:lnTo>
                  <a:pt x="21106" y="17989"/>
                </a:lnTo>
                <a:lnTo>
                  <a:pt x="21106" y="10800"/>
                </a:lnTo>
                <a:lnTo>
                  <a:pt x="10488" y="10800"/>
                </a:lnTo>
                <a:lnTo>
                  <a:pt x="10488" y="17989"/>
                </a:lnTo>
                <a:lnTo>
                  <a:pt x="1487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476000" y="404640"/>
            <a:ext cx="73436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Наименьшая единица измерения информации, это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7" name="Объект 4" descr=""/>
          <p:cNvPicPr/>
          <p:nvPr/>
        </p:nvPicPr>
        <p:blipFill>
          <a:blip r:embed="rId2"/>
          <a:stretch/>
        </p:blipFill>
        <p:spPr>
          <a:xfrm>
            <a:off x="1981080" y="2060640"/>
            <a:ext cx="5615280" cy="3816360"/>
          </a:xfrm>
          <a:prstGeom prst="rect">
            <a:avLst/>
          </a:prstGeom>
          <a:ln w="0">
            <a:noFill/>
          </a:ln>
        </p:spPr>
      </p:pic>
      <p:sp>
        <p:nvSpPr>
          <p:cNvPr id="508" name="TextBox 18"/>
          <p:cNvSpPr/>
          <p:nvPr/>
        </p:nvSpPr>
        <p:spPr>
          <a:xfrm>
            <a:off x="2771640" y="569268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би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76000" y="404640"/>
            <a:ext cx="73436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Один байт – это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0" name="Объект 4" descr=""/>
          <p:cNvPicPr/>
          <p:nvPr/>
        </p:nvPicPr>
        <p:blipFill>
          <a:blip r:embed="rId2"/>
          <a:stretch/>
        </p:blipFill>
        <p:spPr>
          <a:xfrm>
            <a:off x="1981080" y="2060640"/>
            <a:ext cx="5615280" cy="3816360"/>
          </a:xfrm>
          <a:prstGeom prst="rect">
            <a:avLst/>
          </a:prstGeom>
          <a:ln w="0">
            <a:noFill/>
          </a:ln>
        </p:spPr>
      </p:pic>
      <p:sp>
        <p:nvSpPr>
          <p:cNvPr id="511" name="TextBox 18"/>
          <p:cNvSpPr/>
          <p:nvPr/>
        </p:nvSpPr>
        <p:spPr>
          <a:xfrm>
            <a:off x="2771640" y="569268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8 би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76000" y="404640"/>
            <a:ext cx="73436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Из скольких бит состоит слово ИНФОРМА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Объект 4" descr=""/>
          <p:cNvPicPr/>
          <p:nvPr/>
        </p:nvPicPr>
        <p:blipFill>
          <a:blip r:embed="rId2"/>
          <a:stretch/>
        </p:blipFill>
        <p:spPr>
          <a:xfrm>
            <a:off x="1981080" y="2060640"/>
            <a:ext cx="5615280" cy="3816360"/>
          </a:xfrm>
          <a:prstGeom prst="rect">
            <a:avLst/>
          </a:prstGeom>
          <a:ln w="0">
            <a:noFill/>
          </a:ln>
        </p:spPr>
      </p:pic>
      <p:sp>
        <p:nvSpPr>
          <p:cNvPr id="514" name="TextBox 18"/>
          <p:cNvSpPr/>
          <p:nvPr/>
        </p:nvSpPr>
        <p:spPr>
          <a:xfrm>
            <a:off x="2771640" y="5692680"/>
            <a:ext cx="511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88 би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Управляющая кнопка: домой 2"/>
          <p:cNvSpPr/>
          <p:nvPr/>
        </p:nvSpPr>
        <p:spPr>
          <a:xfrm>
            <a:off x="7881840" y="5877000"/>
            <a:ext cx="1008000" cy="689040"/>
          </a:xfrm>
          <a:custGeom>
            <a:avLst/>
            <a:gdLst>
              <a:gd name="textAreaLeft" fmla="*/ 44640 w 1008000"/>
              <a:gd name="textAreaRight" fmla="*/ 963360 w 1008000"/>
              <a:gd name="textAreaTop" fmla="*/ 44640 h 689040"/>
              <a:gd name="textAreaBottom" fmla="*/ 644400 h 689040"/>
            </a:gdLst>
            <a:ahLst/>
            <a:rect l="textAreaLeft" t="textAreaTop" r="textAreaRight" b="textAreaBottom"/>
            <a:pathLst>
              <a:path w="31594" h="21600">
                <a:moveTo>
                  <a:pt x="0" y="0"/>
                </a:moveTo>
                <a:lnTo>
                  <a:pt x="31594" y="0"/>
                </a:lnTo>
                <a:lnTo>
                  <a:pt x="31594" y="21600"/>
                </a:lnTo>
                <a:lnTo>
                  <a:pt x="0" y="21600"/>
                </a:lnTo>
                <a:close/>
              </a:path>
              <a:path fill="lightenLess" w="31594" h="21600">
                <a:moveTo>
                  <a:pt x="0" y="0"/>
                </a:moveTo>
                <a:lnTo>
                  <a:pt x="31594" y="0"/>
                </a:lnTo>
                <a:lnTo>
                  <a:pt x="30194" y="1400"/>
                </a:lnTo>
                <a:lnTo>
                  <a:pt x="1400" y="1400"/>
                </a:lnTo>
                <a:close/>
              </a:path>
              <a:path fill="darken" w="31594" h="21600">
                <a:moveTo>
                  <a:pt x="31594" y="0"/>
                </a:moveTo>
                <a:lnTo>
                  <a:pt x="31594" y="21600"/>
                </a:lnTo>
                <a:lnTo>
                  <a:pt x="30194" y="20200"/>
                </a:lnTo>
                <a:lnTo>
                  <a:pt x="30194" y="1400"/>
                </a:lnTo>
                <a:close/>
              </a:path>
              <a:path fill="darkenLess" w="31594" h="21600">
                <a:moveTo>
                  <a:pt x="31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94" y="20200"/>
                </a:lnTo>
                <a:close/>
              </a:path>
              <a:path fill="lighten" w="31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94" h="21600">
                <a:moveTo>
                  <a:pt x="15797" y="3837"/>
                </a:moveTo>
                <a:lnTo>
                  <a:pt x="18373" y="6448"/>
                </a:lnTo>
                <a:lnTo>
                  <a:pt x="18373" y="4707"/>
                </a:lnTo>
                <a:lnTo>
                  <a:pt x="20149" y="4707"/>
                </a:lnTo>
                <a:lnTo>
                  <a:pt x="20149" y="8224"/>
                </a:lnTo>
                <a:lnTo>
                  <a:pt x="22760" y="10800"/>
                </a:lnTo>
                <a:lnTo>
                  <a:pt x="21106" y="10800"/>
                </a:lnTo>
                <a:lnTo>
                  <a:pt x="21106" y="17989"/>
                </a:lnTo>
                <a:lnTo>
                  <a:pt x="10488" y="17989"/>
                </a:lnTo>
                <a:lnTo>
                  <a:pt x="10488" y="10800"/>
                </a:lnTo>
                <a:lnTo>
                  <a:pt x="8834" y="10800"/>
                </a:lnTo>
                <a:close/>
              </a:path>
              <a:path fill="darkenLess" w="31594" h="21600">
                <a:moveTo>
                  <a:pt x="18373" y="6448"/>
                </a:moveTo>
                <a:lnTo>
                  <a:pt x="18373" y="4707"/>
                </a:lnTo>
                <a:lnTo>
                  <a:pt x="20149" y="4707"/>
                </a:lnTo>
                <a:lnTo>
                  <a:pt x="20149" y="8224"/>
                </a:lnTo>
                <a:close/>
              </a:path>
              <a:path fill="darkenLess" w="31594" h="21600">
                <a:moveTo>
                  <a:pt x="14874" y="14299"/>
                </a:moveTo>
                <a:lnTo>
                  <a:pt x="16719" y="14299"/>
                </a:lnTo>
                <a:lnTo>
                  <a:pt x="16719" y="17989"/>
                </a:lnTo>
                <a:lnTo>
                  <a:pt x="21106" y="17989"/>
                </a:lnTo>
                <a:lnTo>
                  <a:pt x="21106" y="10800"/>
                </a:lnTo>
                <a:lnTo>
                  <a:pt x="10488" y="10800"/>
                </a:lnTo>
                <a:lnTo>
                  <a:pt x="10488" y="17989"/>
                </a:lnTo>
                <a:lnTo>
                  <a:pt x="1487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76000" y="404640"/>
            <a:ext cx="73436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Группа островов, находящихся близко  друг к друг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Объект 4" descr=""/>
          <p:cNvPicPr/>
          <p:nvPr/>
        </p:nvPicPr>
        <p:blipFill>
          <a:blip r:embed="rId2"/>
          <a:stretch/>
        </p:blipFill>
        <p:spPr>
          <a:xfrm>
            <a:off x="1981080" y="2060640"/>
            <a:ext cx="5615280" cy="3816360"/>
          </a:xfrm>
          <a:prstGeom prst="rect">
            <a:avLst/>
          </a:prstGeom>
          <a:ln w="0">
            <a:noFill/>
          </a:ln>
        </p:spPr>
      </p:pic>
      <p:sp>
        <p:nvSpPr>
          <p:cNvPr id="518" name="TextBox 18"/>
          <p:cNvSpPr/>
          <p:nvPr/>
        </p:nvSpPr>
        <p:spPr>
          <a:xfrm>
            <a:off x="2484360" y="5692680"/>
            <a:ext cx="51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архипела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19:31:42Z</dcterms:created>
  <dc:creator>User</dc:creator>
  <dc:description/>
  <dc:language>en-US</dc:language>
  <cp:lastModifiedBy>user</cp:lastModifiedBy>
  <dcterms:modified xsi:type="dcterms:W3CDTF">2013-04-09T09:33:34Z</dcterms:modified>
  <cp:revision>18</cp:revision>
  <dc:subject/>
  <dc:title>Слайд 1</dc:title>
</cp:coreProperties>
</file>