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43CA-E872-4D87-8D5C-08FFD378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54D7-70A8-4C9D-A269-1CDFCB38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EFED-4278-4739-B816-B39666F5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1182-2F69-474A-B546-932EDB40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8D71-E1D6-4F57-83F7-15A374AB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9E57-4184-476B-8C45-2F633F3E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FEBF-CF2A-402C-B5AB-4B83CAD5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FB42-0359-447B-9280-7E61085F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E44F-DB21-4783-905F-32C5BDAF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C488-B939-4C0B-8776-C4D7EA69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023F-6C53-4EC1-B82C-1EAEC8AE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ED23-28F8-4535-8573-5A828CBF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E4DA-4D00-431A-8319-75294599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C447-B7D9-4C8B-94EA-FEEF0CD3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5B45-F3CB-4918-8269-84A7614A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56BC-4DAE-4845-9F83-8ED2092B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A63B-13AF-4A37-9B91-41C8C2A3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FD2F-496D-4480-87A4-8ABAD013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FD4D-29BB-438B-A642-61CCB2E4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1435-6ADD-442A-91E4-C7189D21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6410-1230-4042-ACA0-D56CD694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8FA7-F7C6-4464-8F67-173549D8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5A1-D71B-42E6-9CEC-C7CB95FD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6E95-DE50-4303-8871-DB301C39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6255-588A-452E-B5A4-8E7DFB8E92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57D1-0A86-4E61-A8C8-5E96B999BA6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5.jpeg"/><Relationship Id="rId13" Type="http://schemas.openxmlformats.org/officeDocument/2006/relationships/image" Target="../media/image9.png"/><Relationship Id="rId14" Type="http://schemas.openxmlformats.org/officeDocument/2006/relationships/image" Target="../media/image16.jpeg"/><Relationship Id="rId15" Type="http://schemas.openxmlformats.org/officeDocument/2006/relationships/image" Target="../media/image9.png"/><Relationship Id="rId16" Type="http://schemas.openxmlformats.org/officeDocument/2006/relationships/image" Target="../media/image17.jpeg"/><Relationship Id="rId17" Type="http://schemas.openxmlformats.org/officeDocument/2006/relationships/image" Target="../media/image9.png"/><Relationship Id="rId18" Type="http://schemas.openxmlformats.org/officeDocument/2006/relationships/image" Target="../media/image18.jpeg"/><Relationship Id="rId19" Type="http://schemas.openxmlformats.org/officeDocument/2006/relationships/image" Target="../media/image9.pn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95440" y="2013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Презентация </a:t>
            </a:r>
            <a:br>
              <a:rPr sz="4400"/>
            </a:b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«Мы – граждане великой России»</a:t>
            </a:r>
            <a:br>
              <a:rPr sz="44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(ко дню Конституции Российской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Федерации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Государственный гимн </a:t>
            </a:r>
            <a:br>
              <a:rPr sz="3600"/>
            </a:b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Российской Федерации</a:t>
            </a:r>
            <a:br>
              <a:rPr sz="28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46040" y="1321920"/>
            <a:ext cx="595476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сия - священная наша держав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сия - любимая наша стра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гучая воля, великая слава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вое достоянье на все времена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авься, Отечество наше свободно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атских народов союз веково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ками данная мудрость народная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авься, страна! Мы гордимся тобой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 южных морей до полярн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кинулись наши леса и по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на ты на свете! Одна ты такая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ранимая Богом родная земля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авься, Отечество наше свободно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атских народов союз веково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ками данная мудрость народная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авься, страна! Мы гордимся тобой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701880" y="6248520"/>
            <a:ext cx="51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Исполняется участниками мероприят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Гимн Российской        Федера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Picture 4" descr="флаг"/>
          <p:cNvPicPr/>
          <p:nvPr/>
        </p:nvPicPr>
        <p:blipFill>
          <a:blip r:embed="rId1"/>
          <a:stretch/>
        </p:blipFill>
        <p:spPr>
          <a:xfrm>
            <a:off x="1073160" y="1547640"/>
            <a:ext cx="7077240" cy="5110200"/>
          </a:xfrm>
          <a:prstGeom prst="rect">
            <a:avLst/>
          </a:prstGeom>
          <a:ln w="0">
            <a:noFill/>
          </a:ln>
        </p:spPr>
      </p:pic>
      <p:pic>
        <p:nvPicPr>
          <p:cNvPr id="236" name="gimn Russia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50119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7520" y="185760"/>
            <a:ext cx="8385120" cy="1238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Государственный герб </a:t>
            </a:r>
            <a:br>
              <a:rPr sz="3200"/>
            </a:b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Российской Федерации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733920" y="1905120"/>
            <a:ext cx="5410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«О государственном гербе Российской Федерации» даёт следующее его описание: Государственный герб Российской Федерации представляет собой четырёхугольный, с закруглёнными нижними углами, заострённый в оконечности красный геральдический щит с золотым двуглавым орлом, поднявшим вверх распущенные крылья. Орёл увенчан двумя малыми коронами и над ними одной большой короной, соединёнными лентой. В правой лапе орл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кипетр, в левой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держава. На груди орла в красном щите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еребряный всадник в синем плаще на серебряном коне, поражающий серебряным копьём чёрного, опрокинутого навзничь, дракон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начале нового тысячелетия возродилась государственная эмблема, имеющая в России 500-летнюю историю.  Двуглавый орёл символизирует государственность Российской Федерации, её суверенитет (независимость), единение народов европейской и азиатской частей Росс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8" descr="0"/>
          <p:cNvPicPr/>
          <p:nvPr/>
        </p:nvPicPr>
        <p:blipFill>
          <a:blip r:embed="rId1"/>
          <a:stretch/>
        </p:blipFill>
        <p:spPr>
          <a:xfrm>
            <a:off x="522360" y="1892160"/>
            <a:ext cx="3047760" cy="327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ecff"/>
                </a:solidFill>
                <a:latin typeface="Arial"/>
              </a:rPr>
              <a:t>Государственный герб </a:t>
            </a:r>
            <a:br>
              <a:rPr sz="3600"/>
            </a:br>
            <a:r>
              <a:rPr b="0" i="1" lang="ru-RU" sz="3600" spc="-1" strike="noStrike">
                <a:solidFill>
                  <a:srgbClr val="ccecff"/>
                </a:solidFill>
                <a:latin typeface="Arial"/>
              </a:rPr>
              <a:t>Российской Федераци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284800" y="1857240"/>
            <a:ext cx="385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покоен за наше Отечество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Его охраняет не год 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Двуглавый орёл человеч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России на крыльях несё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В когтях его скипетр с державо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Корона венчает ег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Увенчан он русскою слав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Единством народа всег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Как символ Европы и Ази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Украшен медалью злато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Копьем поражает драк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еоргий – наш всадник свят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Наш герб – крепленье Отечеств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Оплот он богатства ег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Пусть помнит Руси человечество – Святыня дороже всего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8" descr="1"/>
          <p:cNvPicPr/>
          <p:nvPr/>
        </p:nvPicPr>
        <p:blipFill>
          <a:blip r:embed="rId1"/>
          <a:stretch/>
        </p:blipFill>
        <p:spPr>
          <a:xfrm>
            <a:off x="209520" y="1798560"/>
            <a:ext cx="487692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ccecff"/>
                </a:solidFill>
                <a:latin typeface="Arial"/>
              </a:rPr>
              <a:t>Государственный флаг                                                                                                       Российской Федерации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436640" y="1887120"/>
            <a:ext cx="47070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8e4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сударственный флаг Российской Федерации представляет собой прямоугольное полотнище из трёх равновеликих горизонтальных полос: верхней - белого, средней - синего и нижней - красного цвета. Отношение ширины флага к его длине 2:3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88e4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сударственный флаг Российской Федерации постоянно поднят на зданиях органов власти нашей страны. Он вывешивается в дни государственных праздников и торжественных церемоний. Поднимается на зданиях дипломатических представительств России за рубежо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88e4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лаг свидетельствует о принадлежности к России, обозначает её территорию, подтверждает государственные функции органов, над зданиями которых он ре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9" descr="3"/>
          <p:cNvPicPr/>
          <p:nvPr/>
        </p:nvPicPr>
        <p:blipFill>
          <a:blip r:embed="rId1"/>
          <a:stretch/>
        </p:blipFill>
        <p:spPr>
          <a:xfrm>
            <a:off x="247680" y="2158920"/>
            <a:ext cx="412920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2"/>
          <p:cNvPicPr/>
          <p:nvPr/>
        </p:nvPicPr>
        <p:blipFill>
          <a:blip r:embed="rId1"/>
          <a:stretch/>
        </p:blipFill>
        <p:spPr>
          <a:xfrm>
            <a:off x="193680" y="1633680"/>
            <a:ext cx="5396040" cy="43542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5564160" y="1842840"/>
            <a:ext cx="3579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ловно крылья полотнище плещется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Отражая ветра напор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имвол нашего государства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Флаг соцветия триколо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Белый цвет – символ чистоты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 свобода – полоской неб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 все это, как знаешь ты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Обрамляет кровью побед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Я горжусь тобой, символ Родины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Что сумел в себя ты вобр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 просторы свои, и историю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И любовь, что дала нам мать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Д.Попова, 16 лет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ecff"/>
                </a:solidFill>
                <a:latin typeface="Arial"/>
              </a:rPr>
              <a:t>Государственный флаг                                                                                                       Российской Федерации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blank"/>
          <p:cNvPicPr/>
          <p:nvPr/>
        </p:nvPicPr>
        <p:blipFill>
          <a:blip r:embed="rId1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blank"/>
          <p:cNvPicPr/>
          <p:nvPr/>
        </p:nvPicPr>
        <p:blipFill>
          <a:blip r:embed="rId2"/>
          <a:stretch/>
        </p:blipFill>
        <p:spPr>
          <a:xfrm>
            <a:off x="0" y="0"/>
            <a:ext cx="190440" cy="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1440" y="174600"/>
          <a:ext cx="9142560" cy="1555920"/>
        </p:xfrm>
        <a:graphic>
          <a:graphicData uri="http://schemas.openxmlformats.org/drawingml/2006/table">
            <a:tbl>
              <a:tblPr/>
              <a:tblGrid>
                <a:gridCol w="5492880"/>
                <a:gridCol w="3649680"/>
              </a:tblGrid>
              <a:tr h="1191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ы государственной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ласти в РФ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2" name="Picture 44" descr="blank"/>
          <p:cNvPicPr/>
          <p:nvPr/>
        </p:nvPicPr>
        <p:blipFill>
          <a:blip r:embed="rId3"/>
          <a:stretch/>
        </p:blipFill>
        <p:spPr>
          <a:xfrm>
            <a:off x="1917720" y="241200"/>
            <a:ext cx="19080" cy="9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6" descr="================"/>
          <p:cNvPicPr/>
          <p:nvPr/>
        </p:nvPicPr>
        <p:blipFill>
          <a:blip r:embed="rId4"/>
          <a:stretch/>
        </p:blipFill>
        <p:spPr>
          <a:xfrm>
            <a:off x="185760" y="1434960"/>
            <a:ext cx="4762440" cy="38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9" descr="blank"/>
          <p:cNvPicPr/>
          <p:nvPr/>
        </p:nvPicPr>
        <p:blipFill>
          <a:blip r:embed="rId5"/>
          <a:stretch/>
        </p:blipFill>
        <p:spPr>
          <a:xfrm>
            <a:off x="155520" y="2443320"/>
            <a:ext cx="9720" cy="950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0" descr="ПРЕЗИДЕНТ РОССИЙСКОЙ ФЕДЕРАЦИИ"/>
          <p:cNvPicPr/>
          <p:nvPr/>
        </p:nvPicPr>
        <p:blipFill>
          <a:blip r:embed="rId6"/>
          <a:stretch/>
        </p:blipFill>
        <p:spPr>
          <a:xfrm>
            <a:off x="722160" y="1779480"/>
            <a:ext cx="1417680" cy="1443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1" descr="ФЕДЕРАЛЬНЫЕ ОРГАНЫ ИСПОЛНИТЕЛЬНОЙ ВЛАСТИ РОССИИ"/>
          <p:cNvPicPr/>
          <p:nvPr/>
        </p:nvPicPr>
        <p:blipFill>
          <a:blip r:embed="rId7"/>
          <a:stretch/>
        </p:blipFill>
        <p:spPr>
          <a:xfrm>
            <a:off x="2598840" y="1806480"/>
            <a:ext cx="1430280" cy="1430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2" descr="ФЕДЕРАЛЬНОЕ СОБРАНИЕ РОССИИ"/>
          <p:cNvPicPr/>
          <p:nvPr/>
        </p:nvPicPr>
        <p:blipFill>
          <a:blip r:embed="rId8"/>
          <a:stretch/>
        </p:blipFill>
        <p:spPr>
          <a:xfrm>
            <a:off x="4456080" y="1785960"/>
            <a:ext cx="1434960" cy="1460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3" descr="СУДЕБНАЯ ВЛАСТЬ РОССИИ"/>
          <p:cNvPicPr/>
          <p:nvPr/>
        </p:nvPicPr>
        <p:blipFill>
          <a:blip r:embed="rId9"/>
          <a:stretch/>
        </p:blipFill>
        <p:spPr>
          <a:xfrm>
            <a:off x="6275520" y="1800360"/>
            <a:ext cx="1366560" cy="1415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4" descr="blank"/>
          <p:cNvPicPr/>
          <p:nvPr/>
        </p:nvPicPr>
        <p:blipFill>
          <a:blip r:embed="rId10"/>
          <a:stretch/>
        </p:blipFill>
        <p:spPr>
          <a:xfrm>
            <a:off x="155520" y="4302000"/>
            <a:ext cx="9720" cy="95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5" descr="blank"/>
          <p:cNvPicPr/>
          <p:nvPr/>
        </p:nvPicPr>
        <p:blipFill>
          <a:blip r:embed="rId11"/>
          <a:stretch/>
        </p:blipFill>
        <p:spPr>
          <a:xfrm>
            <a:off x="155520" y="5338800"/>
            <a:ext cx="238320" cy="9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6" descr="СОВЕТ БЕЗОПАСНОСТИ РОССИИ"/>
          <p:cNvPicPr/>
          <p:nvPr/>
        </p:nvPicPr>
        <p:blipFill>
          <a:blip r:embed="rId12"/>
          <a:stretch/>
        </p:blipFill>
        <p:spPr>
          <a:xfrm>
            <a:off x="754200" y="4235400"/>
            <a:ext cx="1393560" cy="1830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7" descr="blank"/>
          <p:cNvPicPr/>
          <p:nvPr/>
        </p:nvPicPr>
        <p:blipFill>
          <a:blip r:embed="rId13"/>
          <a:stretch/>
        </p:blipFill>
        <p:spPr>
          <a:xfrm>
            <a:off x="1857240" y="5338800"/>
            <a:ext cx="190800" cy="9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8" descr="ЦЕНТРАЛЬНАЯ ИЗБИРАТЕЛЬНАЯ КОМИССИЯ РОССИИ"/>
          <p:cNvPicPr/>
          <p:nvPr/>
        </p:nvPicPr>
        <p:blipFill>
          <a:blip r:embed="rId14"/>
          <a:stretch/>
        </p:blipFill>
        <p:spPr>
          <a:xfrm>
            <a:off x="2638440" y="4221000"/>
            <a:ext cx="1420920" cy="1865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9" descr="blank"/>
          <p:cNvPicPr/>
          <p:nvPr/>
        </p:nvPicPr>
        <p:blipFill>
          <a:blip r:embed="rId15"/>
          <a:stretch/>
        </p:blipFill>
        <p:spPr>
          <a:xfrm>
            <a:off x="3559320" y="533880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0" descr="СЧЕТНАЯ ПАЛАТА РОССИИ"/>
          <p:cNvPicPr/>
          <p:nvPr/>
        </p:nvPicPr>
        <p:blipFill>
          <a:blip r:embed="rId16"/>
          <a:stretch/>
        </p:blipFill>
        <p:spPr>
          <a:xfrm>
            <a:off x="4559400" y="4208400"/>
            <a:ext cx="1392120" cy="1827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1" descr="blank"/>
          <p:cNvPicPr/>
          <p:nvPr/>
        </p:nvPicPr>
        <p:blipFill>
          <a:blip r:embed="rId17"/>
          <a:stretch/>
        </p:blipFill>
        <p:spPr>
          <a:xfrm>
            <a:off x="5261040" y="5338800"/>
            <a:ext cx="190440" cy="9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2" descr="ГЕНЕРАЛЬНАЯ ПРОКУРАТУРА РОССИЙСКОЙ ФЕДЕРАЦИИ"/>
          <p:cNvPicPr/>
          <p:nvPr/>
        </p:nvPicPr>
        <p:blipFill>
          <a:blip r:embed="rId18"/>
          <a:stretch/>
        </p:blipFill>
        <p:spPr>
          <a:xfrm>
            <a:off x="6340320" y="4216320"/>
            <a:ext cx="1697040" cy="18334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3" descr="blank"/>
          <p:cNvPicPr/>
          <p:nvPr/>
        </p:nvPicPr>
        <p:blipFill>
          <a:blip r:embed="rId19"/>
          <a:stretch/>
        </p:blipFill>
        <p:spPr>
          <a:xfrm>
            <a:off x="6962760" y="5338800"/>
            <a:ext cx="247680" cy="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74840" y="50400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В настоящее время Россия занимает часть восточной Европы и северную часть Азии. Это самое большое государство в мире по площади - 17075400 кв.км. Протяжённость сухопутных границ - 20322 км, морских - около 38000 км. Cтолицей Российской Федерации является город Москва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0" name="Picture 7" descr="4"/>
          <p:cNvPicPr/>
          <p:nvPr/>
        </p:nvPicPr>
        <p:blipFill>
          <a:blip r:embed="rId1"/>
          <a:stretch/>
        </p:blipFill>
        <p:spPr>
          <a:xfrm>
            <a:off x="604800" y="1187280"/>
            <a:ext cx="8078760" cy="376416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8"/>
          <p:cNvSpPr/>
          <p:nvPr/>
        </p:nvSpPr>
        <p:spPr>
          <a:xfrm>
            <a:off x="174600" y="150840"/>
            <a:ext cx="8798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ecff"/>
                </a:solidFill>
                <a:latin typeface="Arial"/>
              </a:rPr>
              <a:t>Территория Российской Федерации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9800" y="179280"/>
            <a:ext cx="8385120" cy="711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Россия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моя любимая Родин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Жигулевский заповедник. Суходольные луга.&#13;&#10;Zhiguli reserve. Watershead meadows."/>
          <p:cNvPicPr/>
          <p:nvPr/>
        </p:nvPicPr>
        <p:blipFill>
          <a:blip r:embed="rId1"/>
          <a:stretch/>
        </p:blipFill>
        <p:spPr>
          <a:xfrm>
            <a:off x="0" y="1163520"/>
            <a:ext cx="9144000" cy="602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30360" y="231480"/>
            <a:ext cx="8231040" cy="493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Наша малая родина –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Южный Ура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Зимний лес. Средневозрастный березово-сосновый лес.&#13;&#10;Winter forest. Middleaged pine-birch forest."/>
          <p:cNvPicPr/>
          <p:nvPr/>
        </p:nvPicPr>
        <p:blipFill>
          <a:blip r:embed="rId1"/>
          <a:stretch/>
        </p:blipFill>
        <p:spPr>
          <a:xfrm>
            <a:off x="0" y="855720"/>
            <a:ext cx="9144000" cy="60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4800600" y="320040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оссия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к из песни слов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ерезок юная листв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ругом леса, поля и реки, Раздолье, русская душа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юблю тебя, моя Росс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 ясный свет твоих оче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 голос звонкий, как руч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юблю, глубоко понима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тепей задумчивую грус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юблю всё то, что называ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дним широким словом РУС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776160" y="3841920"/>
            <a:ext cx="407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, Россия, с нелегкой судьбою стра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У меня ты, Россия, как сердце, одн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я другу скажу, я скажу и врагу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ез тебя, как без сердца, я прожить не смог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Ю. Друн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533520" y="609480"/>
            <a:ext cx="77724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резентация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«Мы – граждане великой России»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(ко дню Конституции Российской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Федерац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98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66"/>
                </a:solidFill>
                <a:latin typeface="Arial"/>
              </a:rPr>
              <a:t>Уральские  го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5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4" descr="Уральские горы. Среднее течение Чусовой. Светлохвойная тайга.&#13;&#10;Ural Mountains. Middle course of the Chusovaya river. Coniferous taiga."/>
          <p:cNvPicPr/>
          <p:nvPr/>
        </p:nvPicPr>
        <p:blipFill>
          <a:blip r:embed="rId1"/>
          <a:stretch/>
        </p:blipFill>
        <p:spPr>
          <a:xfrm>
            <a:off x="0" y="1106640"/>
            <a:ext cx="9144000" cy="57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9800" y="177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Население Российской Федерации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18760" y="454140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ренное самое многочисленное население РФ - русские. Россия как территориальная целостность, сопоставимая с современной территорией Российской Федерации, в основном сложилась к середине XVIII ве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1 января 1999 года Россия - шестое по численности населения государство мира с населением 146,3 млн. человек. Средняя плотность населения - 8,6 человек на 1 кв.к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циональный состав России отличается большим разнообразием. Россия - многоязычная страна, её население разговаривает почти на 150 языках и 97,72% жителей владеют русским язык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8" descr="5"/>
          <p:cNvPicPr/>
          <p:nvPr/>
        </p:nvPicPr>
        <p:blipFill>
          <a:blip r:embed="rId1"/>
          <a:stretch/>
        </p:blipFill>
        <p:spPr>
          <a:xfrm>
            <a:off x="1482840" y="1230480"/>
            <a:ext cx="58467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Викторина </a:t>
            </a:r>
            <a:br>
              <a:rPr sz="3200"/>
            </a:b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«Кто лучше всех знает Россию?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36120" y="1688760"/>
            <a:ext cx="800748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сия – самая большая по площади страна мира. Какова же её площадь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сия имеет самое большое в мире количество морей, омывающих её берега. Сколько же их всего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е российское море самое мелководное на земле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е российское озеро самое глубокое в мире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оссии самое большое количество озёр. Сколько же их у нас всего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российская река самая большая в мире среди рек, не имеющих стока в Мировой океан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 российская картинная галерея самая большая в мир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4680000" y="255276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6878520" y="2900520"/>
            <a:ext cx="359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27756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й российский город является самым большим из полярных городов мир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аком городе России находится самая высокая статуя в мире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й российский город  занимает первое место в мире по количеству мостов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крепость нашей страны самая крупная во всем мире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е чудо-дерево России, единственное в мире, имеет белую кор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нашей стране расположен единственный в мире музей мамонтов. В каком городе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овите россиянина, который 12 апреля 1961 г. Впервые в истории человечества совершил полёт в космо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584280" y="6026040"/>
            <a:ext cx="80071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1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10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33000" y="-426960"/>
            <a:ext cx="7116840" cy="1805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Цели презентации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582120" y="1484280"/>
            <a:ext cx="79916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ассмотреть историю возникновения государственных символов России и конституции РФ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раскрыть значение конституции РФ как основного закона государства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оспитывать чувство патриотизма, уважения к Российскому государству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С праздником 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09320" y="1068480"/>
            <a:ext cx="8296200" cy="55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9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 Днем Конституци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2 декабря Россия отмечает День Конституции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т праздник близок каждому гражданину страны, кому небезразличны судьба Родины, кто хочет, чтобы все поколения россиян испытывали гордость за свою великую держав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йствующая Конституция впервые реально предоставила нам права на свободу слова, политический выбор, общечеловеческие ценности, без которых немыслима сегодня жизнь цивилизованного человека. Десять лет - небольшой срок в истории государства. Однако, по мере укрепления экономики и государственности, развит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мократии и духовного возрождения, День Конституции стал всенародным праздником, близким каждому из нас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Желаем всем крепкого здоровья, счастья, успехов, мира и благополучия. Пусть этот праздник принесет в каждый дом надежду, радость и уверенность в завтрашнем дн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ccecff"/>
                </a:solidFill>
                <a:latin typeface="Arial"/>
              </a:rPr>
              <a:t>День Конституции Российской Федерации (12 декабря)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ституция (от латинского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nstitutio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— это основной закон государства, определяющий его общественное и государственное устройство, порядок и принципы образования представительных органов власти, избирательную систему, права и обязанности граждан. Конституция - основа всего законодательства государства, т. е. государственные законы не могут ей противоречи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йствующая Конституция Российской Федерации была принята на Всенародном референдуме 12 декабря 1993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гласно Конституции 1993 г.,  Российская Федерация есть демократическое федеративное правовое государство с республиканской формой правления. Высшей ценностью провозглашаются человек, его права и свобо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1973160" y="5979960"/>
            <a:ext cx="68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омментированное чтение статей №1-3 Конституции РФ участниками мероприят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93280" y="641160"/>
            <a:ext cx="7931160" cy="42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8ae"/>
                </a:solidFill>
                <a:latin typeface="Albertus Medium"/>
              </a:rPr>
              <a:t>Зачем нужна  конституция</a:t>
            </a:r>
            <a:r>
              <a:rPr b="1" i="1" lang="en-US" sz="4000" spc="-1" strike="noStrike">
                <a:solidFill>
                  <a:srgbClr val="0068ae"/>
                </a:solidFill>
                <a:latin typeface="Albertus Medium"/>
              </a:rPr>
              <a:t>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45680" y="813960"/>
            <a:ext cx="84250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    </a:t>
            </a:r>
            <a:br>
              <a:rPr sz="9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чнем с того, что хотя слово “конституция” и происходит от латинского constitutio (устройство), основного закона в Римском государстве не существовало. Ну, то есть римское право, послужившее основой для правовых систем многих государств, было, а вот конституции в Римской Империи не было. Да и зачем, скажите на милость, в империи иметь конституцию, когда император и сам знает, как своими подданными распоряжаться надо. Конституция в этом случае только помешать может. Захочется, скажем, государю-императору что-нибудь “этакое”, своевольное, вытворить, а нельзя – конституция не позволяет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т тут-то конфуз и выйдет. Нарушишь конституцию – прослывешь тираном, подданные уважать перестанут. А не нарушишь – опять-таки казус приключится: ну какой же, скажут, ты император, коли то, чего хочешь, приказать не можешь. Одним словом, с какой стороны ни посмотреть, а в Империи конституция ни к чему. Кроме мороки, никакой пользы от нее нет. Другое дело – демократия. По-гречески “власть народа” то есть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т уж без “основного”, самого главного закона не обойтись. Он своеобразную “императорскую” роль над прочими законодательными актами выполняет. И ежели какой закон или постановление не удовлетворяют конституции, то и действовать они не могут. Впрочем, некоторые страны и в наши дни благополучно без конституции обходятся. Великобритания, например. У чопорных сынов Туманного Альбиона никакой конституции отродясь не бывало. И ничего, живут себе помаленьку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о всем прочем мире Англию причисляют едва ли не к числу самых демократичных государств мира. Но, как известно, у британцев и без конституции своих “национальных особенностей” хватает: и королева-то у них “царствует, но не правит”, и лорды в палатах заседают, и суды прецедентным правом руководствуются, то есть решения принимают “по аналогии” со своими предшественниками. Так что на подданных британской короны равняться нечего, с конституцией-то оно того, надежней жить получается.</a:t>
            </a:r>
            <a:br>
              <a:rPr sz="1400"/>
            </a:br>
            <a:br>
              <a:rPr sz="12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Конституция РФ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7040" y="1266480"/>
            <a:ext cx="8069400" cy="53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ята всенародным голосование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2 декабря 1993 года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  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ы, многонациональный народ Российской Федерации, соединенные общей судьбой на своей земле, утверждая права и свободы человека, гражданский мир и согласие, соединяя исторически сложившееся государственное единство, исходя из общепризнанных принципов равноправия и самоопределения народов, чтя память предков, передавших нам любовь и уважение к Отечеству, веру в добро и справедливость, возрождая суверенную государственность России и утверждая незыблемость ее демократической основы, стремясь обеспечить благополучие и процветание России, исходя из ответственности за свою Родину перед нынешним и будущими поколениями, сознавая себя частью мирового сообщества, принимаем КОНСТИТУЦИЮ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 символах государст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 ...древняя эмблема или цвет нации, подобно гербу древнего рода, должны быть всегда и неизменно сохраняемы нетронутыми. В противном случае самая эмблема теряет символическое и историческое свое значение, не приобретает популярности в народе и становится не более как официальным, казенным штемпелем. »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ладимир Белинский (XIX век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79080" y="288720"/>
            <a:ext cx="8402760" cy="87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ecff"/>
                </a:solidFill>
                <a:latin typeface="Arial"/>
              </a:rPr>
              <a:t>История написания гимна Росс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657600" y="1371600"/>
            <a:ext cx="5278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3 ноября 1990 г. на сессии Верховного Совета РСФСР состоялось первое исполнение нового государственного гимна РСФС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7 ноября 1990 г. гимн был единогласно утверждён как государственный гимн РСФС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авда, это был гимн без слов, одна только музыка. Что же это была за музыка? Это было незавершённое музыкальное произведение великого русского композитора М. И. Глин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 вопросу о гимне вернулись в 2000 г. Текст нового гимна страны принадлежит известному советскому писателю С. В. Михалкову, а музыка осталась от прежнего гимна и принадлежит композитору А. В. Александров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сударственный гимн Российской Федерации был утверждён Государственной Думой в декабре 2000 г. Текст гимна утверждён указом президента РФ В. В. Путина 30 декабря 2000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ак накануне Нового года и нового века у России появился новый гимн. Государственный гимн — один из главных символов страны, поэтому его исполнение сопровождается знаками наивысшего уважения — все присутствующие встают, а военные отдают честь или салютую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руж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13" descr="http://0"/>
          <p:cNvPicPr/>
          <p:nvPr/>
        </p:nvPicPr>
        <p:blipFill>
          <a:blip r:embed="rId1"/>
          <a:stretch/>
        </p:blipFill>
        <p:spPr>
          <a:xfrm>
            <a:off x="357120" y="1374840"/>
            <a:ext cx="332424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Пользователь Windows</cp:lastModifiedBy>
  <dcterms:modified xsi:type="dcterms:W3CDTF">2011-12-11T16:58:02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0c000000000001024140</vt:lpwstr>
  </property>
  <property fmtid="{D5CDD505-2E9C-101B-9397-08002B2CF9AE}" pid="3" name="Version">
    <vt:r8>1</vt:r8>
  </property>
</Properties>
</file>