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8.jpeg" ContentType="image/jpeg"/>
  <Override PartName="/ppt/media/image31.jpeg" ContentType="image/jpeg"/>
  <Override PartName="/ppt/media/image4.jpeg" ContentType="image/jpeg"/>
  <Override PartName="/ppt/media/image34.wmf" ContentType="image/x-wmf"/>
  <Override PartName="/ppt/media/image5.jpeg" ContentType="image/jpeg"/>
  <Override PartName="/ppt/media/image35.png" ContentType="image/png"/>
  <Override PartName="/ppt/media/image42.gif" ContentType="image/gif"/>
  <Override PartName="/ppt/media/image1.jpeg" ContentType="image/jpeg"/>
  <Override PartName="/ppt/media/image10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40.gif" ContentType="image/gif"/>
  <Override PartName="/ppt/media/image33.png" ContentType="image/png"/>
  <Override PartName="/ppt/media/image41.gif" ContentType="image/gif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3.png" ContentType="image/png"/>
  <Override PartName="/ppt/media/image2.png" ContentType="image/pn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11.png" ContentType="image/pn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813-E410-42C2-959E-BD524AE4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1CE-039A-4F60-8D52-775440B9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34B-644A-4B5A-936F-BCA450C9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E27-F178-46FA-AF6E-784B4433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55F-19EE-4B0D-AC3A-72A499DA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69A-0EAD-44D2-9DF7-D6F1DAEE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D77-8BA6-4645-803F-AB850D27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815-F07A-4C1E-AD9B-8E89BBCE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44E-50C4-4277-A6DE-72B4F8E8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C92-8630-41BC-ADEC-F26D67FC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D51-C021-44C2-8F5E-620250C3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08A-6DD1-4116-962C-598BAC5C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76BD-E105-4E8D-8912-381B35A70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familysearch?p=125&amp;text=&#1092;&#1088;&#1072;&#1082;&#1090;&#1072;&#1083;&#1100;&#1085;&#1072;&#1103;%20&#1075;&#1088;&#1072;&#1092;&#1080;&#1082;&#1072;&amp;noreask=1&amp;img_url=img-fotki.yandex.ru/get/5407/semenocatya.10/0_1510fb_5777a9cf_L.jpg&amp;rpt=simage&amp;lr=39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yandex.ru/familysearch?p=125&amp;text=&#1092;&#1088;&#1072;&#1082;&#1090;&#1072;&#1083;&#1100;&#1085;&#1072;&#1103;%20&#1075;&#1088;&#1072;&#1092;&#1080;&#1082;&#1072;&amp;noreask=1&amp;img_url=img-fotki.yandex.ru/get/5407/semenocatya.10/0_1510fb_5777a9cf_L.jpg&amp;rpt=simage&amp;lr=39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24.wmf"/><Relationship Id="rId6" Type="http://schemas.openxmlformats.org/officeDocument/2006/relationships/package" Target="../embeddings/oleObject2.xls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8BE2-E453-4FE7-8FCF-E2A6E2783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http://im2-tub-ru.yandex.net/i?id=432805025-55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234936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http://im2-tub-ru.yandex.net/i?id=432805025-55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851280" y="292428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8" descr=""/>
          <p:cNvPicPr/>
          <p:nvPr/>
        </p:nvPicPr>
        <p:blipFill>
          <a:blip r:embed="rId6"/>
          <a:stretch/>
        </p:blipFill>
        <p:spPr>
          <a:xfrm>
            <a:off x="146160" y="804960"/>
            <a:ext cx="8974080" cy="1500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3924360" y="6021360"/>
            <a:ext cx="52196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Учитель информатики МБОУ СОШ №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Хачкиева Л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59280" y="3141720"/>
            <a:ext cx="6084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 Искусство  - выражение самых глубоких мыслей самым простым способом».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йнштей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2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C463-24E2-447B-AB29-951D45BC9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Заголовок 3" descr=""/>
          <p:cNvPicPr/>
          <p:nvPr/>
        </p:nvPicPr>
        <p:blipFill>
          <a:blip r:embed="rId2"/>
          <a:stretch/>
        </p:blipFill>
        <p:spPr>
          <a:xfrm>
            <a:off x="0" y="-208080"/>
            <a:ext cx="8229600" cy="23716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ag.gif"/>
          <p:cNvPicPr/>
          <p:nvPr/>
        </p:nvPicPr>
        <p:blipFill>
          <a:blip r:embed="rId3"/>
          <a:stretch/>
        </p:blipFill>
        <p:spPr>
          <a:xfrm>
            <a:off x="5580000" y="836640"/>
            <a:ext cx="3694320" cy="2205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0" y="1773360"/>
            <a:ext cx="54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лучение движущихся изображений на ЭВМ называется компьютерной анимацией. Слово "анимация" обозначает "оживление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9"/>
          <p:cNvSpPr/>
          <p:nvPr/>
        </p:nvSpPr>
        <p:spPr>
          <a:xfrm>
            <a:off x="96840" y="3191040"/>
            <a:ext cx="533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исунки, выводимые последовательно на экран с определенной частотой, создают иллюзию дви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http://anime.wayy.ru/_ph/13/2/564170031.gif"/>
          <p:cNvPicPr/>
          <p:nvPr/>
        </p:nvPicPr>
        <p:blipFill>
          <a:blip r:embed="rId4"/>
          <a:stretch/>
        </p:blipFill>
        <p:spPr>
          <a:xfrm>
            <a:off x="39600" y="440064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http://anime.wayy.ru/_ph/45/2/527332486.gif"/>
          <p:cNvPicPr/>
          <p:nvPr/>
        </p:nvPicPr>
        <p:blipFill>
          <a:blip r:embed="rId5"/>
          <a:stretch/>
        </p:blipFill>
        <p:spPr>
          <a:xfrm>
            <a:off x="3995640" y="4476600"/>
            <a:ext cx="38102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4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DA1A-79E3-4819-AD39-D3B29FF40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324000" y="249228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e1e20"/>
                </a:solidFill>
                <a:latin typeface="Century Schoolbook"/>
              </a:rPr>
              <a:t>Компьютерная графика - </a:t>
            </a:r>
            <a:r>
              <a:rPr b="1" i="1" lang="ru-RU" sz="3200" spc="-1" strike="noStrike">
                <a:solidFill>
                  <a:srgbClr val="0e1e20"/>
                </a:solidFill>
                <a:latin typeface="Century Schoolbook"/>
              </a:rPr>
              <a:t>раздел информатики, который изучает средства и способы создания и обработки графических изображений при помощи компьютерной тех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http://im5-tub-ru.yandex.net/i?id=389829334-12-72"/>
          <p:cNvPicPr/>
          <p:nvPr/>
        </p:nvPicPr>
        <p:blipFill>
          <a:blip r:embed="rId2"/>
          <a:stretch/>
        </p:blipFill>
        <p:spPr>
          <a:xfrm>
            <a:off x="324000" y="333360"/>
            <a:ext cx="1428480" cy="1333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6" descr="http://im7-tub-ru.yandex.net/i?id=2818364-53-72"/>
          <p:cNvPicPr/>
          <p:nvPr/>
        </p:nvPicPr>
        <p:blipFill>
          <a:blip r:embed="rId3"/>
          <a:stretch/>
        </p:blipFill>
        <p:spPr>
          <a:xfrm>
            <a:off x="1692360" y="11970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7" descr="http://im7-tub-ru.yandex.net/i?id=166825618-31-72"/>
          <p:cNvPicPr/>
          <p:nvPr/>
        </p:nvPicPr>
        <p:blipFill>
          <a:blip r:embed="rId4"/>
          <a:stretch/>
        </p:blipFill>
        <p:spPr>
          <a:xfrm>
            <a:off x="2987640" y="404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8" descr="http://im2-tub-ru.yandex.net/i?id=531316265-31-72"/>
          <p:cNvPicPr/>
          <p:nvPr/>
        </p:nvPicPr>
        <p:blipFill>
          <a:blip r:embed="rId5"/>
          <a:stretch/>
        </p:blipFill>
        <p:spPr>
          <a:xfrm>
            <a:off x="4427640" y="134136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9" descr="http://im5-tub-ru.yandex.net/i?id=335080234-03-72"/>
          <p:cNvPicPr/>
          <p:nvPr/>
        </p:nvPicPr>
        <p:blipFill>
          <a:blip r:embed="rId6"/>
          <a:stretch/>
        </p:blipFill>
        <p:spPr>
          <a:xfrm>
            <a:off x="5796000" y="40464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0" descr="http://im4-tub-ru.yandex.net/i?id=354541117-03-72"/>
          <p:cNvPicPr/>
          <p:nvPr/>
        </p:nvPicPr>
        <p:blipFill>
          <a:blip r:embed="rId7"/>
          <a:stretch/>
        </p:blipFill>
        <p:spPr>
          <a:xfrm>
            <a:off x="7164360" y="1413000"/>
            <a:ext cx="1428840" cy="1047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79D4-3EFF-44F0-A0E5-367DE1038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http://im0-tub-ru.yandex.net/i?id=51042043-07-72"/>
          <p:cNvPicPr/>
          <p:nvPr/>
        </p:nvPicPr>
        <p:blipFill>
          <a:blip r:embed="rId1"/>
          <a:stretch/>
        </p:blipFill>
        <p:spPr>
          <a:xfrm>
            <a:off x="4152960" y="300996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http://im5-tub-ru.yandex.net/i?id=389829334-12-7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3"/>
          <a:stretch/>
        </p:blipFill>
        <p:spPr>
          <a:xfrm>
            <a:off x="542880" y="189000"/>
            <a:ext cx="8047080" cy="2017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6021360" y="1292400"/>
            <a:ext cx="2354400" cy="30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rcRect l="5538" t="0" r="6006" b="0"/>
          <a:stretch/>
        </p:blipFill>
        <p:spPr>
          <a:xfrm>
            <a:off x="5508720" y="3741840"/>
            <a:ext cx="2305080" cy="218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rcRect l="0" t="0" r="21920" b="0"/>
          <a:stretch/>
        </p:blipFill>
        <p:spPr>
          <a:xfrm>
            <a:off x="7048440" y="2201760"/>
            <a:ext cx="2129040" cy="333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7"/>
          <a:stretch/>
        </p:blipFill>
        <p:spPr>
          <a:xfrm>
            <a:off x="4286160" y="1735200"/>
            <a:ext cx="1716120" cy="1693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8"/>
          <a:stretch/>
        </p:blipFill>
        <p:spPr>
          <a:xfrm>
            <a:off x="5708520" y="5923080"/>
            <a:ext cx="3435480" cy="847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9"/>
          <a:stretch/>
        </p:blipFill>
        <p:spPr>
          <a:xfrm>
            <a:off x="15840" y="79200"/>
            <a:ext cx="83664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193680" y="1886040"/>
            <a:ext cx="40384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93680" y="1824120"/>
            <a:ext cx="4038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Первоначально результатами работы ЭВМ были числа на бума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12760" y="2708280"/>
            <a:ext cx="403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Со временем  появились рисунки в режиме символьной печати</a:t>
            </a: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93680" y="3848040"/>
            <a:ext cx="581832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Со временем  появились новые устройства вывода информации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рафопостроители (плоттер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рафические диспле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нтеры цветной печа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2f2f2"/>
                </a:solidFill>
                <a:latin typeface="Arial"/>
              </a:rPr>
              <a:t>совершенствовалось и программное обеспе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7200" y="122400"/>
            <a:ext cx="8278920" cy="1584000"/>
          </a:xfrm>
          <a:prstGeom prst="rect">
            <a:avLst/>
          </a:prstGeom>
          <a:ln w="0">
            <a:noFill/>
          </a:ln>
        </p:spPr>
      </p:pic>
      <p:sp>
        <p:nvSpPr>
          <p:cNvPr id="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51F8-245C-4B78-BCD0-E9AA976EA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486000" y="1628640"/>
            <a:ext cx="39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 науке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научн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420480" y="2276640"/>
            <a:ext cx="73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Бухгалтерия, экономика, статистика - </a:t>
            </a: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делов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06520" y="2924280"/>
            <a:ext cx="8635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 работе конструкторов, архитекторов, изобретателей новой техники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конструкторск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217440" y="3716280"/>
            <a:ext cx="892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исование и черчение на экране компьютера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00"/>
                </a:solidFill>
                <a:latin typeface="Arial"/>
              </a:rPr>
              <a:t>иллюстративная 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442800" y="4437000"/>
            <a:ext cx="86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Рекламные ролики, мультфильмы, компьютерные игры, видеоуро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идеопрезентации   </a:t>
            </a: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-            </a:t>
            </a:r>
            <a:r>
              <a:rPr b="1" i="1" lang="ru-RU" sz="2000" spc="-1" strike="noStrike">
                <a:solidFill>
                  <a:srgbClr val="336600"/>
                </a:solidFill>
                <a:latin typeface="Arial"/>
              </a:rPr>
              <a:t>художественная и рекламная граф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0"/>
          <p:cNvSpPr/>
          <p:nvPr/>
        </p:nvSpPr>
        <p:spPr>
          <a:xfrm>
            <a:off x="324000" y="530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лучение движущихся изображений на экране диспле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компьютерная ани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EF2-257E-4B76-8A46-6558F5C21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79280" y="1484280"/>
            <a:ext cx="424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Это направление появилось первы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Первые компьютеры использовались лишь для решения научных и производственных задач. Первые графики на машине получали в режиме символьной печа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Затем появились специальные устройства - графопостроители (плоттеры) для вычерчивания чертежей и графиков чернильным пером на бумаг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Современная научная компьютерная графика дает возможность проводить вычислительные эксперименты с наглядным представлением их результат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00"/>
                </a:solidFill>
                <a:latin typeface="Arial"/>
              </a:rPr>
              <a:t>Назначение научной графики - наглядное изображение объектов научных исследований, графическая обработка результатов расчетов, проведение вычислительных экспериментов с наглядным представлением их результа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692520" cy="304668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7" descr=""/>
          <p:cNvPicPr/>
          <p:nvPr/>
        </p:nvPicPr>
        <p:blipFill>
          <a:blip r:embed="rId3"/>
          <a:stretch/>
        </p:blipFill>
        <p:spPr>
          <a:xfrm>
            <a:off x="1262160" y="42840"/>
            <a:ext cx="7431120" cy="15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4"/>
          <a:stretch/>
        </p:blipFill>
        <p:spPr>
          <a:xfrm>
            <a:off x="4500720" y="4359240"/>
            <a:ext cx="3760560" cy="249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5"/>
          <a:stretch/>
        </p:blipFill>
        <p:spPr>
          <a:xfrm>
            <a:off x="0" y="0"/>
            <a:ext cx="179388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D11-44EA-40D8-BDAB-6BF49CE01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5364000" y="4111560"/>
            <a:ext cx="3780000" cy="2746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6" descr=""/>
          <p:cNvPicPr/>
          <p:nvPr/>
        </p:nvPicPr>
        <p:blipFill>
          <a:blip r:embed="rId3"/>
          <a:stretch/>
        </p:blipFill>
        <p:spPr>
          <a:xfrm>
            <a:off x="1262160" y="42840"/>
            <a:ext cx="7053120" cy="154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7"/>
          <p:cNvSpPr/>
          <p:nvPr/>
        </p:nvSpPr>
        <p:spPr>
          <a:xfrm>
            <a:off x="250920" y="11253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Плановые показатели, отчетная документация, статистические сводки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- вот объекты, для которых с помощью деловой графики создаются иллюстративные матери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Назначение деловой графики -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</a:rPr>
              <a:t>создание иллюстраций, часто используемых в работе различных учреж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Объект 1"/>
          <p:cNvGraphicFramePr/>
          <p:nvPr/>
        </p:nvGraphicFramePr>
        <p:xfrm>
          <a:off x="5076720" y="1341360"/>
          <a:ext cx="3927600" cy="2449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Объект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341360"/>
                    <a:ext cx="392760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Объект 2"/>
          <p:cNvGraphicFramePr/>
          <p:nvPr/>
        </p:nvGraphicFramePr>
        <p:xfrm>
          <a:off x="1835280" y="4844880"/>
          <a:ext cx="3228840" cy="2013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8" name="Объект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35280" y="4844880"/>
                    <a:ext cx="322884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9C8-E58F-4F97-84AA-0E0BECBE4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Заголовок 3" descr=""/>
          <p:cNvPicPr/>
          <p:nvPr/>
        </p:nvPicPr>
        <p:blipFill>
          <a:blip r:embed="rId2"/>
          <a:stretch/>
        </p:blipFill>
        <p:spPr>
          <a:xfrm>
            <a:off x="457200" y="29844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0" y="2060640"/>
            <a:ext cx="50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а в сочетании с расчетами позволяет проводить в наглядной форме поиск оптимальной конструкции, наиболее удачной компоновки деталей, прогнозировать последствия, к которым могут привести изменения ко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конструкторской графики – использование в работе инженеров-конструкторов и изобретателей для создания чертеж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716360" y="4869000"/>
            <a:ext cx="2592360" cy="183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Объект 1"/>
          <p:cNvGraphicFramePr/>
          <p:nvPr/>
        </p:nvGraphicFramePr>
        <p:xfrm>
          <a:off x="5040360" y="1197000"/>
          <a:ext cx="4008240" cy="281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Объект 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40360" y="1197000"/>
                    <a:ext cx="400824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Объект 2"/>
          <p:cNvGraphicFramePr/>
          <p:nvPr/>
        </p:nvGraphicFramePr>
        <p:xfrm>
          <a:off x="6977160" y="3768840"/>
          <a:ext cx="2165400" cy="175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Объект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77160" y="3768840"/>
                    <a:ext cx="216540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E7E-1C3A-4B8D-9A1D-488312303F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Заголовок 4" descr=""/>
          <p:cNvPicPr/>
          <p:nvPr/>
        </p:nvPicPr>
        <p:blipFill>
          <a:blip r:embed="rId2"/>
          <a:stretch/>
        </p:blipFill>
        <p:spPr>
          <a:xfrm>
            <a:off x="457200" y="-237960"/>
            <a:ext cx="8229600" cy="23716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7"/>
          <p:cNvSpPr/>
          <p:nvPr/>
        </p:nvSpPr>
        <p:spPr>
          <a:xfrm>
            <a:off x="324000" y="162864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Иллюстративная графика - это произвольное рисование и черчение на экране компью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рограммные средства, позволяющие человеку использовать компьютер для произвольного рисования, черчения подобно тому, как он это делает на бумаге с помощью карандашей, кисточек, красок, циркулей, линеек и других инструментов, относятся к иллюстративной граф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5649840" y="5157720"/>
            <a:ext cx="3494160" cy="1700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4"/>
          <a:stretch/>
        </p:blipFill>
        <p:spPr>
          <a:xfrm>
            <a:off x="4932360" y="4157640"/>
            <a:ext cx="194328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5"/>
          <a:stretch/>
        </p:blipFill>
        <p:spPr>
          <a:xfrm>
            <a:off x="6407280" y="3057480"/>
            <a:ext cx="2736720" cy="210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Объект 1"/>
          <p:cNvGraphicFramePr/>
          <p:nvPr/>
        </p:nvGraphicFramePr>
        <p:xfrm>
          <a:off x="6546960" y="1093680"/>
          <a:ext cx="2457360" cy="196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Объект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46960" y="1093680"/>
                    <a:ext cx="24573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8" descr="http://im2-tub-ru.yandex.net/i?id=432805025-55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457200" y="-36360"/>
            <a:ext cx="8229600" cy="1920600"/>
          </a:xfrm>
          <a:prstGeom prst="rect">
            <a:avLst/>
          </a:prstGeom>
          <a:ln w="0">
            <a:noFill/>
          </a:ln>
        </p:spPr>
      </p:pic>
      <p:sp>
        <p:nvSpPr>
          <p:cNvPr id="11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472-9D27-4AC5-B5B3-DB019EE2A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5580000" y="4746600"/>
            <a:ext cx="2772000" cy="20858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5"/>
          <p:cNvSpPr/>
          <p:nvPr/>
        </p:nvSpPr>
        <p:spPr>
          <a:xfrm>
            <a:off x="611280" y="154620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Художественная и рекламная графика - ставшая популярной во многом благодаря телевидению. С помощью компьютера создаются рекламные ролики, мультфильмы, компьютерные игры, видеоуроки, видеопрезентации. Отличительной особенностью графических пакетов является возможность создания реалистических изображений и "движущихся картинок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 (700x525, 78Kb)"/>
          <p:cNvPicPr/>
          <p:nvPr/>
        </p:nvPicPr>
        <p:blipFill>
          <a:blip r:embed="rId4"/>
          <a:srcRect l="24572" t="0" r="24362" b="0"/>
          <a:stretch/>
        </p:blipFill>
        <p:spPr>
          <a:xfrm>
            <a:off x="6516720" y="1844640"/>
            <a:ext cx="1663560" cy="2443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рисунки Ивана Билибина"/>
          <p:cNvPicPr/>
          <p:nvPr/>
        </p:nvPicPr>
        <p:blipFill>
          <a:blip r:embed="rId5"/>
          <a:stretch/>
        </p:blipFill>
        <p:spPr>
          <a:xfrm>
            <a:off x="1523880" y="5024520"/>
            <a:ext cx="3641760" cy="1644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0:39:50Z</dcterms:created>
  <dc:creator>D</dc:creator>
  <dc:description/>
  <dc:language>en-US</dc:language>
  <cp:lastModifiedBy>user</cp:lastModifiedBy>
  <dcterms:modified xsi:type="dcterms:W3CDTF">2013-04-17T12:24:08Z</dcterms:modified>
  <cp:revision>63</cp:revision>
  <dc:subject/>
  <dc:title>Слайд 1</dc:title>
</cp:coreProperties>
</file>