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8.jpeg" ContentType="image/jpeg"/>
  <Override PartName="/ppt/media/image31.jpeg" ContentType="image/jpeg"/>
  <Override PartName="/ppt/media/image4.jpeg" ContentType="image/jpeg"/>
  <Override PartName="/ppt/media/image34.wmf" ContentType="image/x-wmf"/>
  <Override PartName="/ppt/media/image5.jpeg" ContentType="image/jpeg"/>
  <Override PartName="/ppt/media/image35.png" ContentType="image/png"/>
  <Override PartName="/ppt/media/image42.gif" ContentType="image/gif"/>
  <Override PartName="/ppt/media/image1.jpeg" ContentType="image/jpeg"/>
  <Override PartName="/ppt/media/image10.png" ContentType="image/png"/>
  <Override PartName="/ppt/media/image12.png" ContentType="image/png"/>
  <Override PartName="/ppt/media/image36.png" ContentType="image/png"/>
  <Override PartName="/ppt/media/image39.png" ContentType="image/png"/>
  <Override PartName="/ppt/media/image40.gif" ContentType="image/gif"/>
  <Override PartName="/ppt/media/image33.png" ContentType="image/png"/>
  <Override PartName="/ppt/media/image41.gif" ContentType="image/gif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3.png" ContentType="image/png"/>
  <Override PartName="/ppt/media/image2.png" ContentType="image/pn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D50-DFFF-4370-826A-34C7EC4F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905-5640-4F63-B545-BDEBDD6E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32F-B892-4567-805E-C5295D5A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51D-22F2-414F-BCA5-F77A6B1B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4A4-31BE-4F86-9956-C3CF124A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069-43A3-4122-97A0-35D64490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A52-0776-4700-A504-797A3B91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1C8-EC11-4915-AE12-C485150D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DFF-2DCC-49E0-9B3B-9DBD6F54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B8F-AFE1-4952-8EB2-CB1E144B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159-1A42-4B9A-BE5A-BA29D959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AC4-8987-4B08-B6C9-DE4BA397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1D76-C017-4CE8-A911-76B93BB03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familysearch?p=125&amp;text=&#1092;&#1088;&#1072;&#1082;&#1090;&#1072;&#1083;&#1100;&#1085;&#1072;&#1103;%20&#1075;&#1088;&#1072;&#1092;&#1080;&#1082;&#1072;&amp;noreask=1&amp;img_url=img-fotki.yandex.ru/get/5407/semenocatya.10/0_1510fb_5777a9cf_L.jpg&amp;rpt=simage&amp;lr=39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yandex.ru/familysearch?p=125&amp;text=&#1092;&#1088;&#1072;&#1082;&#1090;&#1072;&#1083;&#1100;&#1085;&#1072;&#1103;%20&#1075;&#1088;&#1072;&#1092;&#1080;&#1082;&#1072;&amp;noreask=1&amp;img_url=img-fotki.yandex.ru/get/5407/semenocatya.10/0_1510fb_5777a9cf_L.jpg&amp;rpt=simage&amp;lr=39" TargetMode="External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4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FDC2-6E13-4B0E-AC80-47CA692856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http://im2-tub-ru.yandex.net/i?id=432805025-55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2349360"/>
            <a:ext cx="3384360" cy="2592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http://im2-tub-ru.yandex.net/i?id=432805025-55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51280" y="29242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8" descr=""/>
          <p:cNvPicPr/>
          <p:nvPr/>
        </p:nvPicPr>
        <p:blipFill>
          <a:blip r:embed="rId6"/>
          <a:stretch/>
        </p:blipFill>
        <p:spPr>
          <a:xfrm>
            <a:off x="146160" y="804960"/>
            <a:ext cx="8974080" cy="1500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3924360" y="6021360"/>
            <a:ext cx="5219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Учитель информатики МБОУ СОШ №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Хачкиева Л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059280" y="3141720"/>
            <a:ext cx="6084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 Искусство  - выражение самых глубоких мыслей самым простым способом».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йнштей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2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8B5B-FB98-4028-AF20-95FCA3973C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Заголовок 3" descr=""/>
          <p:cNvPicPr/>
          <p:nvPr/>
        </p:nvPicPr>
        <p:blipFill>
          <a:blip r:embed="rId2"/>
          <a:stretch/>
        </p:blipFill>
        <p:spPr>
          <a:xfrm>
            <a:off x="0" y="-208080"/>
            <a:ext cx="8229600" cy="23716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ag.gif"/>
          <p:cNvPicPr/>
          <p:nvPr/>
        </p:nvPicPr>
        <p:blipFill>
          <a:blip r:embed="rId3"/>
          <a:stretch/>
        </p:blipFill>
        <p:spPr>
          <a:xfrm>
            <a:off x="5580000" y="836640"/>
            <a:ext cx="3694320" cy="2205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8"/>
          <p:cNvSpPr/>
          <p:nvPr/>
        </p:nvSpPr>
        <p:spPr>
          <a:xfrm>
            <a:off x="0" y="1773360"/>
            <a:ext cx="54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Получение движущихся изображений на ЭВМ называется компьютерной анимацией. Слово "анимация" обозначает "оживление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9"/>
          <p:cNvSpPr/>
          <p:nvPr/>
        </p:nvSpPr>
        <p:spPr>
          <a:xfrm>
            <a:off x="96840" y="3191040"/>
            <a:ext cx="533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Рисунки, выводимые последовательно на экран с определенной частотой, создают иллюзию дви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http://anime.wayy.ru/_ph/13/2/564170031.gif"/>
          <p:cNvPicPr/>
          <p:nvPr/>
        </p:nvPicPr>
        <p:blipFill>
          <a:blip r:embed="rId4"/>
          <a:stretch/>
        </p:blipFill>
        <p:spPr>
          <a:xfrm>
            <a:off x="39600" y="4400640"/>
            <a:ext cx="2751120" cy="2751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http://anime.wayy.ru/_ph/45/2/527332486.gif"/>
          <p:cNvPicPr/>
          <p:nvPr/>
        </p:nvPicPr>
        <p:blipFill>
          <a:blip r:embed="rId5"/>
          <a:stretch/>
        </p:blipFill>
        <p:spPr>
          <a:xfrm>
            <a:off x="3995640" y="4476600"/>
            <a:ext cx="38102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4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18C5-1453-44D5-AE7C-4843A2F86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324000" y="249228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1e20"/>
                </a:solidFill>
                <a:latin typeface="Century Schoolbook"/>
              </a:rPr>
              <a:t>Компьютерная графика - </a:t>
            </a:r>
            <a:r>
              <a:rPr b="1" i="1" lang="ru-RU" sz="3200" spc="-1" strike="noStrike">
                <a:solidFill>
                  <a:srgbClr val="0e1e20"/>
                </a:solidFill>
                <a:latin typeface="Century Schoolbook"/>
              </a:rPr>
              <a:t>раздел информатики, который изучает средства и способы создания и обработки графических изображений при помощи компьютерной тех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5" descr="http://im5-tub-ru.yandex.net/i?id=389829334-12-72"/>
          <p:cNvPicPr/>
          <p:nvPr/>
        </p:nvPicPr>
        <p:blipFill>
          <a:blip r:embed="rId2"/>
          <a:stretch/>
        </p:blipFill>
        <p:spPr>
          <a:xfrm>
            <a:off x="324000" y="333360"/>
            <a:ext cx="142848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6" descr="http://im7-tub-ru.yandex.net/i?id=2818364-53-72"/>
          <p:cNvPicPr/>
          <p:nvPr/>
        </p:nvPicPr>
        <p:blipFill>
          <a:blip r:embed="rId3"/>
          <a:stretch/>
        </p:blipFill>
        <p:spPr>
          <a:xfrm>
            <a:off x="1692360" y="11970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7" descr="http://im7-tub-ru.yandex.net/i?id=166825618-31-72"/>
          <p:cNvPicPr/>
          <p:nvPr/>
        </p:nvPicPr>
        <p:blipFill>
          <a:blip r:embed="rId4"/>
          <a:stretch/>
        </p:blipFill>
        <p:spPr>
          <a:xfrm>
            <a:off x="2987640" y="4046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8" descr="http://im2-tub-ru.yandex.net/i?id=531316265-31-72"/>
          <p:cNvPicPr/>
          <p:nvPr/>
        </p:nvPicPr>
        <p:blipFill>
          <a:blip r:embed="rId5"/>
          <a:stretch/>
        </p:blipFill>
        <p:spPr>
          <a:xfrm>
            <a:off x="4427640" y="134136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9" descr="http://im5-tub-ru.yandex.net/i?id=335080234-03-72"/>
          <p:cNvPicPr/>
          <p:nvPr/>
        </p:nvPicPr>
        <p:blipFill>
          <a:blip r:embed="rId6"/>
          <a:stretch/>
        </p:blipFill>
        <p:spPr>
          <a:xfrm>
            <a:off x="5796000" y="40464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0" descr="http://im4-tub-ru.yandex.net/i?id=354541117-03-72"/>
          <p:cNvPicPr/>
          <p:nvPr/>
        </p:nvPicPr>
        <p:blipFill>
          <a:blip r:embed="rId7"/>
          <a:stretch/>
        </p:blipFill>
        <p:spPr>
          <a:xfrm>
            <a:off x="7164360" y="1413000"/>
            <a:ext cx="1428840" cy="10476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E827-53B4-445C-BC56-2C6DA47CB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http://im0-tub-ru.yandex.net/i?id=51042043-07-72"/>
          <p:cNvPicPr/>
          <p:nvPr/>
        </p:nvPicPr>
        <p:blipFill>
          <a:blip r:embed="rId1"/>
          <a:stretch/>
        </p:blipFill>
        <p:spPr>
          <a:xfrm>
            <a:off x="4152960" y="300996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http://im5-tub-ru.yandex.net/i?id=389829334-12-7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5" descr=""/>
          <p:cNvPicPr/>
          <p:nvPr/>
        </p:nvPicPr>
        <p:blipFill>
          <a:blip r:embed="rId3"/>
          <a:stretch/>
        </p:blipFill>
        <p:spPr>
          <a:xfrm>
            <a:off x="542880" y="189000"/>
            <a:ext cx="8047080" cy="201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6021360" y="1292400"/>
            <a:ext cx="2354400" cy="309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rcRect l="5538" t="0" r="6006" b="0"/>
          <a:stretch/>
        </p:blipFill>
        <p:spPr>
          <a:xfrm>
            <a:off x="5508720" y="3741840"/>
            <a:ext cx="2305080" cy="218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6"/>
          <a:srcRect l="0" t="0" r="21920" b="0"/>
          <a:stretch/>
        </p:blipFill>
        <p:spPr>
          <a:xfrm>
            <a:off x="7048440" y="2201760"/>
            <a:ext cx="2129040" cy="3335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7"/>
          <a:stretch/>
        </p:blipFill>
        <p:spPr>
          <a:xfrm>
            <a:off x="4286160" y="1735200"/>
            <a:ext cx="1716120" cy="1693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8"/>
          <a:stretch/>
        </p:blipFill>
        <p:spPr>
          <a:xfrm>
            <a:off x="5708520" y="5923080"/>
            <a:ext cx="3435480" cy="84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9"/>
          <a:stretch/>
        </p:blipFill>
        <p:spPr>
          <a:xfrm>
            <a:off x="15840" y="79200"/>
            <a:ext cx="83664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193680" y="1886040"/>
            <a:ext cx="40384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93680" y="1824120"/>
            <a:ext cx="4038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Arial"/>
              </a:rPr>
              <a:t>Первоначально результатами работы ЭВМ были числа на бума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12760" y="2708280"/>
            <a:ext cx="4038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Arial"/>
              </a:rPr>
              <a:t>Со временем  появились рисунки в режиме символьной печати</a:t>
            </a: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93680" y="3848040"/>
            <a:ext cx="581832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Arial"/>
              </a:rPr>
              <a:t>Со временем  появились новые устройства вывода информации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рафопостроители (плоттер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рафические диспле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нтеры цветной печа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2f2f2"/>
                </a:solidFill>
                <a:latin typeface="Arial"/>
              </a:rPr>
              <a:t>совершенствовалось и программное обеспе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7200" y="122400"/>
            <a:ext cx="8278920" cy="1584000"/>
          </a:xfrm>
          <a:prstGeom prst="rect">
            <a:avLst/>
          </a:prstGeom>
          <a:ln w="0">
            <a:noFill/>
          </a:ln>
        </p:spPr>
      </p:pic>
      <p:sp>
        <p:nvSpPr>
          <p:cNvPr id="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D831-2BCE-40C3-8F4E-95335EF216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486000" y="1628640"/>
            <a:ext cx="39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В науке 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научная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420480" y="2276640"/>
            <a:ext cx="73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Бухгалтерия, экономика, статистика - </a:t>
            </a: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деловая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506520" y="2924280"/>
            <a:ext cx="8635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В работе конструкторов, архитекторов, изобретателей новой техники</a:t>
            </a: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конструкторская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217440" y="3716280"/>
            <a:ext cx="892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рисование и черчение на экране компьютера 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иллюстративная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9"/>
          <p:cNvSpPr/>
          <p:nvPr/>
        </p:nvSpPr>
        <p:spPr>
          <a:xfrm>
            <a:off x="442800" y="4437000"/>
            <a:ext cx="86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Рекламные ролики, мультфильмы, компьютерные игры, видеоуро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видеопрезентации   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-            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художественная и рекламная граф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0"/>
          <p:cNvSpPr/>
          <p:nvPr/>
        </p:nvSpPr>
        <p:spPr>
          <a:xfrm>
            <a:off x="324000" y="530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получение движущихся изображений на экране диспле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37F4-691A-4EDC-821E-6309C2E47F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79280" y="1484280"/>
            <a:ext cx="4248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Это направление появилось перв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Первые компьютеры использовались лишь для решения научных и производственных задач. Первые графики на машине получали в режиме символьной печа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Затем появились специальные устройства - графопостроители (плоттеры) для вычерчивания чертежей и графиков чернильным пером на бумаг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Современная научная компьютерная графика дает возможность проводить вычислительные эксперименты с наглядным представлением их результа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Назначение научной графики - наглядное изображение объектов научных исследований, графическая обработка результатов расчетов, проведение вычислительных экспериментов с наглядным представлением их результа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692520" cy="304668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3"/>
          <a:stretch/>
        </p:blipFill>
        <p:spPr>
          <a:xfrm>
            <a:off x="1262160" y="42840"/>
            <a:ext cx="7431120" cy="15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4500720" y="4359240"/>
            <a:ext cx="3760560" cy="2498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5"/>
          <a:stretch/>
        </p:blipFill>
        <p:spPr>
          <a:xfrm>
            <a:off x="0" y="0"/>
            <a:ext cx="1793880" cy="1352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F96F-4C0E-4A26-85B9-3E20B1BA4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5364000" y="4111560"/>
            <a:ext cx="3780000" cy="27464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6" descr=""/>
          <p:cNvPicPr/>
          <p:nvPr/>
        </p:nvPicPr>
        <p:blipFill>
          <a:blip r:embed="rId3"/>
          <a:stretch/>
        </p:blipFill>
        <p:spPr>
          <a:xfrm>
            <a:off x="1262160" y="42840"/>
            <a:ext cx="7053120" cy="154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7"/>
          <p:cNvSpPr/>
          <p:nvPr/>
        </p:nvSpPr>
        <p:spPr>
          <a:xfrm>
            <a:off x="250920" y="112536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Плановые показатели, отчетная документация, статистические сводки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- вот объекты, для которых с помощью деловой графики создаются иллюстративные материа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Назначение деловой графики -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создание иллюстраций, часто используемых в работе различных учреж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Объект 1"/>
          <p:cNvGraphicFramePr/>
          <p:nvPr/>
        </p:nvGraphicFramePr>
        <p:xfrm>
          <a:off x="5076720" y="1341360"/>
          <a:ext cx="3927600" cy="24494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6" name="Объект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1341360"/>
                    <a:ext cx="392760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Объект 2"/>
          <p:cNvGraphicFramePr/>
          <p:nvPr/>
        </p:nvGraphicFramePr>
        <p:xfrm>
          <a:off x="1835280" y="4844880"/>
          <a:ext cx="3228840" cy="20131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8" name="Объект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35280" y="4844880"/>
                    <a:ext cx="322884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CC8C-DBF8-4043-A35E-C3093ADF4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Заголовок 3" descr=""/>
          <p:cNvPicPr/>
          <p:nvPr/>
        </p:nvPicPr>
        <p:blipFill>
          <a:blip r:embed="rId2"/>
          <a:stretch/>
        </p:blipFill>
        <p:spPr>
          <a:xfrm>
            <a:off x="457200" y="29844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0" y="206064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а в сочетании с расчетами позволяет проводить в наглядной форме поиск оптимальной конструкции, наиболее удачной компоновки деталей, прогнозировать последствия, к которым могут привести изменения ко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конструкторской графики – использование в работе инженеров-конструкторов и изобретателей для создания чертеж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4716360" y="4869000"/>
            <a:ext cx="2592360" cy="183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Объект 1"/>
          <p:cNvGraphicFramePr/>
          <p:nvPr/>
        </p:nvGraphicFramePr>
        <p:xfrm>
          <a:off x="5040360" y="1197000"/>
          <a:ext cx="4008240" cy="281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Объект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40360" y="1197000"/>
                    <a:ext cx="400824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Объект 2"/>
          <p:cNvGraphicFramePr/>
          <p:nvPr/>
        </p:nvGraphicFramePr>
        <p:xfrm>
          <a:off x="6977160" y="3768840"/>
          <a:ext cx="2165400" cy="175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" name="Объект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77160" y="3768840"/>
                    <a:ext cx="21654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5B91-627E-432F-AFB8-CAB3CE7915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Заголовок 4" descr=""/>
          <p:cNvPicPr/>
          <p:nvPr/>
        </p:nvPicPr>
        <p:blipFill>
          <a:blip r:embed="rId2"/>
          <a:stretch/>
        </p:blipFill>
        <p:spPr>
          <a:xfrm>
            <a:off x="457200" y="-237960"/>
            <a:ext cx="8229600" cy="23716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7"/>
          <p:cNvSpPr/>
          <p:nvPr/>
        </p:nvSpPr>
        <p:spPr>
          <a:xfrm>
            <a:off x="324000" y="162864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Иллюстративная графика - это произвольное рисование и черчение на экране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Программные средства, позволяющие человеку использовать компьютер для произвольного рисования, черчения подобно тому, как он это делает на бумаге с помощью карандашей, кисточек, красок, циркулей, линеек и других инструментов, относятся к иллюстративной граф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5649840" y="5157720"/>
            <a:ext cx="3494160" cy="1700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4"/>
          <a:stretch/>
        </p:blipFill>
        <p:spPr>
          <a:xfrm>
            <a:off x="4932360" y="4157640"/>
            <a:ext cx="1943280" cy="27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5"/>
          <a:stretch/>
        </p:blipFill>
        <p:spPr>
          <a:xfrm>
            <a:off x="6407280" y="3057480"/>
            <a:ext cx="2736720" cy="21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Объект 1"/>
          <p:cNvGraphicFramePr/>
          <p:nvPr/>
        </p:nvGraphicFramePr>
        <p:xfrm>
          <a:off x="6546960" y="1093680"/>
          <a:ext cx="2457360" cy="196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Объект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46960" y="1093680"/>
                    <a:ext cx="245736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457200" y="-36360"/>
            <a:ext cx="8229600" cy="1920600"/>
          </a:xfrm>
          <a:prstGeom prst="rect">
            <a:avLst/>
          </a:prstGeom>
          <a:ln w="0">
            <a:noFill/>
          </a:ln>
        </p:spPr>
      </p:pic>
      <p:sp>
        <p:nvSpPr>
          <p:cNvPr id="11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3436-811E-459A-9F88-DD1090408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5580000" y="4746600"/>
            <a:ext cx="2772000" cy="20858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5"/>
          <p:cNvSpPr/>
          <p:nvPr/>
        </p:nvSpPr>
        <p:spPr>
          <a:xfrm>
            <a:off x="611280" y="154620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Художественная и рекламная графика - ставшая популярной во многом благодаря телевидению. С помощью компьютера создаются рекламные ролики, мультфильмы, компьютерные игры, видеоуроки, видеопрезентации. Отличительной особенностью графических пакетов является возможность создания реалистических изображений и "движущихся картинок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 (700x525, 78Kb)"/>
          <p:cNvPicPr/>
          <p:nvPr/>
        </p:nvPicPr>
        <p:blipFill>
          <a:blip r:embed="rId4"/>
          <a:srcRect l="24572" t="0" r="24362" b="0"/>
          <a:stretch/>
        </p:blipFill>
        <p:spPr>
          <a:xfrm>
            <a:off x="6516720" y="1844640"/>
            <a:ext cx="1663560" cy="2443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рисунки Ивана Билибина"/>
          <p:cNvPicPr/>
          <p:nvPr/>
        </p:nvPicPr>
        <p:blipFill>
          <a:blip r:embed="rId5"/>
          <a:stretch/>
        </p:blipFill>
        <p:spPr>
          <a:xfrm>
            <a:off x="1523880" y="5024520"/>
            <a:ext cx="3641760" cy="1644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20:39:50Z</dcterms:created>
  <dc:creator>D</dc:creator>
  <dc:description/>
  <dc:language>en-US</dc:language>
  <cp:lastModifiedBy>user</cp:lastModifiedBy>
  <dcterms:modified xsi:type="dcterms:W3CDTF">2013-04-17T12:24:08Z</dcterms:modified>
  <cp:revision>63</cp:revision>
  <dc:subject/>
  <dc:title>Слайд 1</dc:title>
</cp:coreProperties>
</file>