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D03-D56D-48ED-A291-C2F93FFE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B11-A05C-497E-9025-E93DBDEE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986-0133-429F-A169-3F946E94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2FED-D6AE-4B64-8A2F-47CABA08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97B4-0595-4045-9B55-F42C0602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01B8-9057-4613-AF59-91629C1E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D22F-6419-4688-9105-9DFAB71D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8B17-BDB6-401C-B007-CC55FFC7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F1FB-AD55-49F0-BF35-A7325CC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F6AD-5C72-43BB-B180-9637DBE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1B0F-7508-40B6-82FE-0C377BA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F27-A0DB-48CA-9F31-924A7011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1507-C771-4062-9537-DBB11CA6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243E-1094-4859-88B8-65A1E53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75AA-518C-480D-8C2E-FE5B26EA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FD4B-690D-416F-8253-32037B3D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A9E7-8337-4600-9433-2AC17293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358-ABD1-4BB7-87BB-57E761DF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D30-4652-4DE9-8A59-9EFB43ED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83A-2A92-4688-A333-3AD146A2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EA7-F526-4443-9F48-842FC0B0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DCD-A018-4B72-95B5-764DE70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DF8-9979-48B1-AAC0-A6E56F9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C76-52FC-46A1-9A74-5BAFBE1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3BA-0B42-485F-A14E-4A7E494ACE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B671-F9A3-4521-8E6D-E1E9705B912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78343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КОНТРОЛЬНАЯ РАБОТА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ПО МХК В 10 КЛАССЕ</a:t>
            </a:r>
            <a:br>
              <a:rPr sz="3200"/>
            </a:br>
            <a:r>
              <a:rPr b="1" lang="en-US" sz="2000" spc="-1" strike="noStrike">
                <a:solidFill>
                  <a:srgbClr val="006633"/>
                </a:solidFill>
                <a:latin typeface="Garamond"/>
              </a:rPr>
              <a:t>(ПРОГРАММА ПОД РЕДАКЦИЕЙ Л.Г. ЕМОХОНОВОЙ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068280"/>
            <a:ext cx="65534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ХУДОЖЕСТВЕННАЯ КУЛЬТУРА СРЕДНИХ ВЕ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ЗАПАД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ределите храмы и укажите место их нахож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4010040" cy="3009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450036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16200" y="580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580536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отнесите витражи с их изображениям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еверное окно-роза. Нотр-Дам. Па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клонение волхвов. Собор Сен-Дени.Па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1280" y="3446640"/>
            <a:ext cx="2841480" cy="213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2448000" cy="2238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89640" y="5608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81640" y="568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АРХИТЕКТУРА СРЕДНЕВЕКОВЬ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еделите архитектурные сооружения по принадлежности к стилю (романскому или готическ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2076480" cy="1505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40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51640" y="2133720"/>
            <a:ext cx="1513080" cy="230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604360" y="4005360"/>
            <a:ext cx="9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06676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050920" y="54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24360" y="2565360"/>
            <a:ext cx="213372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6616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5076720" y="4365720"/>
            <a:ext cx="1285920" cy="1428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6588000" y="4653000"/>
            <a:ext cx="21146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356000" y="5445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1640" y="539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568152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определение терми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романская культу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ед вами разрез романской базилики. Укажите нефы, трансепты, свод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95560" y="2714760"/>
            <a:ext cx="27212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романский стиль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огда называют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онастырским стиле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звестно, что архитектура романского стиля воспроизводит модель жизни человека Средневековья, а что передаёт декоративное убранство романских собор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кажите, какие   сооружения романской культуры представлены на слай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3533760" cy="2762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2399040" cy="27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10000" y="56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10720" y="56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МАНСКАЯ КУЛЬТУР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отнесите название капители с её изображение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Избиение младенцев. Капитель 12 в. Кафедральный собор. Монреа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Львы. Капитель. 11 в. Церковь Сен-Мишель де Кю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600360" cy="2386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3291120" cy="241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60560" y="5799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4920" y="57340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определение терми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«ГОТИ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чему готический храм называют «каменной энциклопедией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УЛЬТУРА ГОТ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айте определения следующим поняти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Нервюр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Готическая ро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"/>
              </a:rPr>
              <a:t>Шпал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3:10:50Z</dcterms:created>
  <dc:creator>1</dc:creator>
  <dc:description/>
  <dc:language>en-US</dc:language>
  <cp:lastModifiedBy>1</cp:lastModifiedBy>
  <dcterms:modified xsi:type="dcterms:W3CDTF">2013-04-18T02:39:30Z</dcterms:modified>
  <cp:revision>4</cp:revision>
  <dc:subject/>
  <dc:title>КОНТРОЛЬНАЯ РАБОТА  ПО МХК В 10 КЛАССЕ (ПРОГРАММА ПОД РЕДАКЦИЕЙ Л.Г. ЕМОХОНОВОЙ)</dc:title>
</cp:coreProperties>
</file>