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926-24B9-4AEF-96B1-6E8FE927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68A-D679-44AA-8807-5EF9573F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BD2-10E0-45E8-8E6E-849DA510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006-63B2-4348-86D8-DCBB5F79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9699-4F52-435D-AE41-1E967F56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DF9C-D4BD-4D1D-8490-2E061107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FAEA-8593-4C7E-BD9D-FD8D4CDB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DDA0-A06D-42E5-960B-AD25CB8E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1097-75B6-4C9F-99DA-660C1103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9A2B-940A-43F5-BBAB-BA42D5EA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77D6-34A1-431D-A92C-A0F3C8B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841-F11F-492B-A11D-3A1C8155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785D-6A96-4FE4-91EE-4CA5123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CD5D-1BC5-4438-86B5-8BC20B3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5DE5-84DE-4184-B2CD-B56685A5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80E5-16B7-4606-9437-F23BFB6D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C24A-D8FC-4436-B106-D5089E7C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216-B472-48BB-91E3-F6E273E9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131-0DA1-40C6-9FA7-CDF3E033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7A9-246A-45A1-8DDF-67C664C4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54B-5FB2-49EB-8504-35112D26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C8F-59E3-4B04-9EFB-A00685A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8A8-AB0C-43C0-A2F0-923EE9F4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254-E12A-4BC8-819E-7716C263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F7EE-45C8-4020-859F-1999F1C54C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F6BF-0E10-412B-A0A7-AF541C8070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197000"/>
            <a:ext cx="78343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КОНТРОЛЬНАЯ РАБОТА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ПО МХК В 10 КЛАССЕ</a:t>
            </a:r>
            <a:br>
              <a:rPr sz="3200"/>
            </a:b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(ПРОГРАММА ПОД РЕДАКЦИЕЙ Л.Г. ЕМОХОНОВОЙ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068280"/>
            <a:ext cx="65534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ХУДОЖЕСТВЕННАЯ КУЛЬТУРА СРЕДНИХ ВЕ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ЗАПАДНАЯ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УЛЬТУРА ГО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ите храмы и укажите место их нахож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010040" cy="3009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450036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16200" y="5805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1840" y="5805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УЛЬТУРА ГО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отнесите витражи с их изображения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еверное окно-роза. Нотр-Дам. Пар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клонение волхвов. Собор Сен-Дени.Пар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3446640"/>
            <a:ext cx="2841480" cy="213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448000" cy="2238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89640" y="560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81640" y="568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АРХИТЕКТУРА СРЕДНЕВЕКОВЬ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еделите архитектурные сооружения по принадлежности к стилю (романскому или готическо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076480" cy="1505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34000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2133720"/>
            <a:ext cx="1513080" cy="2303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604360" y="400536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06676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050920" y="54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924360" y="2565360"/>
            <a:ext cx="213372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6616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076720" y="4365720"/>
            <a:ext cx="1285920" cy="142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6588000" y="4653000"/>
            <a:ext cx="21146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356000" y="5445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1640" y="539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568152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МАНСКАЯ КУЛЬ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йте определение терми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романская культу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МАНСКАЯ КУЛЬ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д вами разрез романской базилики. Укажите нефы, трансепты, сво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95560" y="2714760"/>
            <a:ext cx="27212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МАНСКАЯ КУЛЬ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романский стиль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огда называют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монастырским стиле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звестно, что архитектура романского стиля воспроизводит модель жизни человека Средневековья, а что передаёт декоративное убранство романских собор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МАНСКАЯ КУЛЬ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кажите, какие   сооружения романской культуры представлены на слай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3533760" cy="2762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2399040" cy="27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10000" y="56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10720" y="56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МАНСКАЯ КУЛЬ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отнесите название капители с её изображение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Избиение младенцев. Капитель 12 в. Кафедральный собор. Монре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Львы. Капитель. 11 в. Церковь Сен-Мишель де Кю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600360" cy="23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3291120" cy="2416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60560" y="579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4920" y="57340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УЛЬТУРА ГО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йте определение терми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ГОТИ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УЛЬТУРА ГО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готический храм называют «каменной энциклопедией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УЛЬТУРА ГО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йте определения следующим поняти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"/>
              </a:rPr>
              <a:t>Нервю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"/>
              </a:rPr>
              <a:t>Готическая ро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"/>
              </a:rPr>
              <a:t>Шпале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3:10:50Z</dcterms:created>
  <dc:creator>1</dc:creator>
  <dc:description/>
  <dc:language>en-US</dc:language>
  <cp:lastModifiedBy>1</cp:lastModifiedBy>
  <dcterms:modified xsi:type="dcterms:W3CDTF">2013-04-18T02:39:30Z</dcterms:modified>
  <cp:revision>4</cp:revision>
  <dc:subject/>
  <dc:title>КОНТРОЛЬНАЯ РАБОТА  ПО МХК В 10 КЛАССЕ (ПРОГРАММА ПОД РЕДАКЦИЕЙ Л.Г. ЕМОХОНОВОЙ)</dc:title>
</cp:coreProperties>
</file>