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02B-0CD9-4A5D-B774-40D5AC7A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2B68-6E7D-4208-B725-30A3864E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46D7A-D17F-4088-AEAC-DC43939C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1FC49-EF50-43A6-A4F8-E65AF6AD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EE639-BD8D-4CDF-9E66-EEED8987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D5CB6-8A00-4D00-BE01-BF6F9054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346ED-D9F5-4147-939B-BA3FD0EB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144C1-6239-4B85-85B7-4A563C80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705B1-17C6-4891-B620-36E321DC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5BA88-34DE-40CE-97C2-1D395A83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40361-B805-4E29-87A0-2A22A98E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BD1-6062-4903-A3DF-3DB85D5A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46E-0F40-4E57-88E3-D2BEBC24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CAF3-6189-4AFA-9CCE-797C4A18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2F76-E6C0-45DF-983E-A1E09FE6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C7C6-3E14-4C50-86E9-B320CA66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5A84-87EA-4BC5-A480-25E2329B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6F37-9634-4AC0-8352-E99FFEF0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C2A0-40FA-42AA-983A-8846368D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DA3F-57FA-461F-B7E0-3AFA3C39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E9A-B887-4C6A-847A-06EEA8E2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245A-1D3C-430F-9F25-BA5D8B10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4110-3D5A-43D0-9652-0BF80014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E611-C572-4165-A81E-8A58AD2E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AB75-3F10-41F0-8D5A-244066F9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0F6D-995C-4560-96AD-08557654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25ED7-F1F2-4E48-AC95-3DA68CC9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9310F-5B06-4F81-AA48-54FCB302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BF070-D37F-4F52-A38E-8E4CF0EA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9D8C3-EB69-44E8-920B-21CCF775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88929-B19D-480D-BD32-50401C03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D61-3CC2-47E9-A834-0158C42B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C852C-E9DB-4BD1-936C-150AF64D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4BC6F-020C-4794-9332-FA6C3C00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6478D-655B-478C-A901-3B6D2221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49332-0966-482C-B2ED-451351BF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93A7D-F848-4B40-A825-712A8097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F2D48-F9E5-4F94-A9CF-05EF9393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6F5AA-7852-4A52-9B85-78C3239C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896E5-27B4-46FE-9469-BF428321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3E62D-CC6E-431C-8437-50DCE204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27A49-6649-4945-81D7-509945F5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FBBA-DE90-47E2-87B2-A1F07741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E7CD9-5142-4251-9BCD-33EB6A1B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E6FAF-F637-4BD0-BEA9-036AC3D8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D0BA7-A083-4E0C-B952-828F1E04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13371-B719-4C7E-9792-54C23AB2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01F8D-345F-4D50-B9D4-DD8EC12B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9BD49-8370-4D58-9EFC-A0B35B00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0B2E1-E9A9-4F3A-98FB-F4338D1F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5C9B9-6AD2-4774-8436-57D8F2AF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9BCA3-0698-41BF-A875-05DF93A8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62FB7-1B76-4D02-B639-CFCCB7C3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E92C-DD36-4266-9E83-FB3E9885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01A0B-E015-4307-AEA7-AFCC67AC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F2856-D826-4E21-90CF-57EA6293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8371D-FA23-47DD-8DB9-DBC70028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6864B-4F9C-45ED-9DB5-2C42A79B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837F6-116D-417A-81DA-5AA3CCE0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F5ED3-7BE9-4F9C-8914-508D148D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E1B9C-724F-429B-BA33-33B1891F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27315-E176-4D34-9118-05947321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00F75-871E-48E9-9168-D496598F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8CCD8-7224-407A-8BB7-E59EBCD1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9589-5486-4DB9-84BD-C6BB19EA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652DD-6250-4F5B-A3B5-07FCBBD4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D2A43-8934-48BE-B3DB-630BA641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50B3D-CB8D-4ED3-B6F7-4EAC5604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09DF7-AEE0-44AD-BDF5-7BE3BE73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A4797-30C7-486C-A01C-843E468D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D4051-4967-4796-81CE-86FB456C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DAD87-3098-4295-8C05-13590A52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6AC86-5FB1-48E8-8DD4-123EF02A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2FEE5-3C59-498C-AFED-82C8C333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F333E-83FD-4614-A1B1-855FC804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BEC8-5829-4D01-BED9-FB382E11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9A283-13D1-4AEE-A24F-795B7F16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231EC-6BA8-4592-BDAD-DBDE50BF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14412-5A09-4E70-8199-D11E16B2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85237-AFB6-4484-9985-04EBF092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8616D-173D-49AE-8009-7A2D3AF1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965A2-9460-4F49-86D0-DC67623F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12A94-7633-4867-BF7C-69C3D6DA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9CFE1-BD70-47DE-959B-E5D2326C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D7AFB-CF57-47DF-8ACD-5DDCBFA3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55661-001C-49D3-88F8-A7A03177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861C-995B-4652-9750-3368BEB5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62FAA-F4B3-4809-897D-83856187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E03A8-6CA2-4FC5-9E2C-22E63DB1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85CDE-E1AD-4E64-A8D1-8C9B3903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743E0-6CB2-41EA-A554-E7756DB9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BD026-BABC-42A8-B7E9-87F9CEBD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4ACC4-1843-455A-8DD8-52337D58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B98ED-D33B-4078-92DD-18595193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EFDF6-53AE-4C26-9254-CEA2C1C0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6EAEF-54A5-4150-8FF0-F08FA326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A06DA-E6B7-4A5E-84D0-C22C865C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AC4-9913-41A9-ABF5-2C74AF9F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8AFE4-28EB-461F-8783-F87905AF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F7FAC-AD5E-46CB-AC68-2D22A173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3CAF6-EDD5-42B8-924D-7EA2B584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9B890-2312-410B-9E03-63F05C2C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44B66-3B81-4A4E-907E-4F715C0D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BB49A-E275-474D-BE37-023A1A03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26180-8573-40FA-9E80-E6C81DCA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DB96A-06E5-4ECA-B4AB-9E584E4A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31444-070B-4316-AC50-F74198CD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7B000-311E-45E1-AB62-A763891C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C6DD-4E66-46AA-B504-6A8ED96819D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4293-3E0F-44D5-ABF1-52CD7EA0047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FE14-76AC-45F6-964F-F942DB11E3B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4903-A69C-454A-93B7-FDF55726774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284A-086E-4E3A-86CF-BEF1FB27C1D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FAC7-4730-468B-9EF1-61167A137F2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3ED5-1D0E-4DF6-8D8C-9131797B761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6476-97A4-4DAA-A4BB-8DD529682E4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4D09-CCDE-4843-B210-53476787706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39680" y="566640"/>
            <a:ext cx="8937720" cy="3584520"/>
          </a:xfrm>
          <a:prstGeom prst="rect">
            <a:avLst/>
          </a:prstGeom>
          <a:ln w="0">
            <a:noFill/>
          </a:ln>
        </p:spPr>
      </p:pic>
      <p:sp>
        <p:nvSpPr>
          <p:cNvPr id="400" name="TextBox 2"/>
          <p:cNvSpPr/>
          <p:nvPr/>
        </p:nvSpPr>
        <p:spPr>
          <a:xfrm>
            <a:off x="5500800" y="4643280"/>
            <a:ext cx="335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ыполн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Вдовина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Семьдянкина 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роверила: Кузьмин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-36360" y="244440"/>
            <a:ext cx="9034200" cy="17175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Проверить выполнения норм СаНПина по обеспечению безопасности работы в школе (норма воздуха на ученика-6м³</a:t>
            </a:r>
            <a:r>
              <a:rPr b="0" lang="ru-RU" sz="44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390600" y="5394240"/>
            <a:ext cx="8534160" cy="8604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368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абинет №210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чеников 28 человек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=abc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=3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*5,50*5,60=92,4(м³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=92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,4/28=3,3 (м³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Picture 3" descr="C:\Users\1\Desktop\Безымянный.png"/>
          <p:cNvPicPr/>
          <p:nvPr/>
        </p:nvPicPr>
        <p:blipFill>
          <a:blip r:embed="rId2"/>
          <a:stretch/>
        </p:blipFill>
        <p:spPr>
          <a:xfrm>
            <a:off x="4071960" y="714240"/>
            <a:ext cx="48578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390600" y="5394240"/>
            <a:ext cx="8534160" cy="8604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368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абинет №102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чеников 28 человек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=abc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=3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* 5,50*5,60=92,4(м³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=92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,4/28=3,3 (м³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C:\Users\1\Desktop\Безымянный.png"/>
          <p:cNvPicPr/>
          <p:nvPr/>
        </p:nvPicPr>
        <p:blipFill>
          <a:blip r:embed="rId2"/>
          <a:stretch/>
        </p:blipFill>
        <p:spPr>
          <a:xfrm>
            <a:off x="4214880" y="928800"/>
            <a:ext cx="457200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390600" y="5394240"/>
            <a:ext cx="8534160" cy="8604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500040" y="571320"/>
            <a:ext cx="4214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абинет №301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=abc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=8,90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*5,60*3=149,52(м³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=149,52/28=5,34(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³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C:\Users\1\Desktop\Безымянный2.png"/>
          <p:cNvPicPr/>
          <p:nvPr/>
        </p:nvPicPr>
        <p:blipFill>
          <a:blip r:embed="rId2"/>
          <a:stretch/>
        </p:blipFill>
        <p:spPr>
          <a:xfrm>
            <a:off x="4429080" y="785880"/>
            <a:ext cx="44290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сле проверки норм СаНПина в кабинетах №102,№210,№301 для класса в 28 человек норма воздуха не выполняетс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бинете №102,№210: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(воздуха на 1 человека)=3,3(м³),а должно быть 6 м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бине №301: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(воздуха на 1 человека)=5,34 м³, а должно быть 6 м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Учебные помещения проветриваются во время перемен, а рекреационные - во время уроков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До начала занятий и после их окончания необходимо осуществлять сквозное проветривание учебных помещений. Длительность сквозного проветривания определяется погодными условиями согласно </a:t>
            </a:r>
            <a:r>
              <a:rPr b="0" lang="ru-RU" sz="2700" spc="-1" strike="noStrike" u="sng">
                <a:solidFill>
                  <a:srgbClr val="ad1f1f"/>
                </a:solidFill>
                <a:uFillTx/>
                <a:latin typeface="Franklin Gothic Book"/>
                <a:hlinkClick r:id="rId2" action="ppaction://hlinksldjump"/>
              </a:rPr>
              <a:t>таблице 1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Также, можно уменьшить численность человек, посещающих урок. Разделить класс на несколько групп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Улучшить вентиляцию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95120" y="55440"/>
            <a:ext cx="8802720" cy="148140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ая соединительная линия 6"/>
          <p:cNvSpPr/>
          <p:nvPr/>
        </p:nvSpPr>
        <p:spPr>
          <a:xfrm flipV="1">
            <a:off x="3214800" y="1928880"/>
            <a:ext cx="2857320" cy="7128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8"/>
          <p:cNvSpPr/>
          <p:nvPr/>
        </p:nvSpPr>
        <p:spPr>
          <a:xfrm>
            <a:off x="3214800" y="1857240"/>
            <a:ext cx="2928960" cy="7164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285840" y="1571760"/>
          <a:ext cx="8686800" cy="497196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16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аружная температура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град. С   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лительность проветривания помещения, мин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 малые перемены                         в большие перемен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                                                                 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 между сменами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 +10 до +6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 - 10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25 - 35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 +5 до 0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 - 7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20 - 30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5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 0 до -5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- 5                                       15 - 25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 -5 до -10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- 3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10 - 15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иже -10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 - 1,5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	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5 - 10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5:00:11Z</dcterms:created>
  <dc:creator>1</dc:creator>
  <dc:description/>
  <dc:language>en-US</dc:language>
  <cp:lastModifiedBy>arm205</cp:lastModifiedBy>
  <dcterms:modified xsi:type="dcterms:W3CDTF">2012-02-06T23:49:21Z</dcterms:modified>
  <cp:revision>44</cp:revision>
  <dc:subject/>
  <dc:title>Цель работы:</dc:title>
</cp:coreProperties>
</file>