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E8B-73C0-44FC-A069-843E57F3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A12-4717-41A1-A478-0D69AB0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C5A01-65AA-4B3B-9327-DEA7592C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F346-3C14-42B8-AD63-5ABA41F9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2D38-72DB-441D-A308-F51F417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165C7-BFF3-49CF-8BB5-500495D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3CC3F-876A-4F9C-9B43-6DC6394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09980-CFA7-408F-B82D-274F65C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AA85-B320-435A-9DDB-8C4BE83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43DE2-112A-4A76-9481-E518FD79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1232A-BEEB-4D31-B813-5C08D7C0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E4A-4F37-4211-AD5A-210E4D92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126-5F12-43AF-A980-5B57BC67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825-1224-46BE-8B4E-FEAB8DBA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797-7983-4058-BC3F-6BEE63E1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A15-FC1A-42FD-B54E-B26E500B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AE5E-D18F-4A59-A22D-EBB68FC7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3635-BC18-408B-884F-E7008AA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477-9C05-46A4-8704-F3565D51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26D-BE7A-4BAC-92D2-6D830D0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CA1-7B7E-4B65-A525-CA4AFE2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948-310F-452B-9746-9DA210F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B90-A122-4501-A417-4BF4883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6A8-1CFC-42E4-A90B-00E8EE2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17B1-7354-4EFF-BF3B-DF77AF3F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DA8-E01B-4815-A5B3-1AFBBFE0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10A9-910D-4AA8-8772-DF534108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277F-11CB-4173-A3D3-C27A436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F50B-435B-46A5-8018-7D76C65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B37B-2423-413F-899D-F60C75BD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BFE6-F361-4821-9A54-3EB5526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0FC-B3EE-485B-9D0C-0165171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BB58-A96B-4C02-92E4-01170F12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A9D0-0EC6-4D11-9BC0-0356142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0C78-4222-449E-9017-B00A01E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5CED-DF1A-4DE9-8CC7-E590BA7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C1D9-20D7-4C55-A5FF-BD42E302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7C45-B074-4ED3-BC80-46446500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2B33-F93E-4D0D-B8E5-92D98B16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FF71-D14B-4263-AA11-5222E03B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5DD8-672C-4811-AA8F-8C9A06A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A041-F14B-47E8-A69A-41F9456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615-FF60-4629-9E4E-E2F9A65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8843-0F06-4BA2-9731-E03F1CBE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FC82-852A-4D45-9389-01ED5C7A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33C3-032D-442D-8866-CB59D64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386F-41E0-42BB-B86A-494C192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3717-04EF-4A42-A4F6-D2C314E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7AB8-D5F3-4AC0-ACEE-E543422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D18C-B5DA-4EEB-B280-D64B22F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38FD-FB1C-44A2-A978-6B16FA6E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75DE9-2C4B-4DE3-B10C-8C47FED2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599C-C054-4F37-BB1A-198F701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5AE-94DF-4510-AF37-2A71388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AB5D-6239-4D43-9E0F-F0E99E35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C5863-8338-4E1D-9E56-C03374F9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69F8-2B29-4EE6-9E71-94AE1471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FB1E-7624-4234-83AA-EF16B550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BF25-EAA6-47D7-9D39-10F08117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F3D7-F687-46AC-B1E4-69D5B26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A7C6-99C0-458E-A9FF-7B6B416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D7D7-C507-4FC3-9785-945D458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E704-A499-44D2-8AC1-F554AA1E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DBE8-2634-4952-B487-2FE674E5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EA7-37E9-4253-B5DC-7418329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18DB-0E0E-4CDD-BEAD-5997F3A2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AE20-0D8C-4A4A-B544-CD8DFA54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1130-93EF-45BF-9AE3-7AA79195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B7B3-F92D-4CA6-9ECB-D9A89F5A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D68A-3DA9-4E88-A4D1-F3AAC37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E55C-2A42-49E1-A3C7-A320F07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4708-5298-4670-BE21-54F5325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2F56-EA56-46C0-9453-481CAAC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C1CC-8B2A-4226-96A3-E3FB6629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7DCD-93BF-4794-BD1C-F177706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25C-D436-4014-AD79-C2AAFCB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1AD9-B4A4-444E-9A73-05CA7A7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5E0D-29D0-47CB-BFF8-03621159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6518-9D8A-4A31-9F78-FA191CA5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D12F-CFE8-4C19-99A9-E708E5E2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F6D1-7676-406D-8F2E-3C311601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62BB-7CF3-41ED-8DCA-29C5823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8F63-FE1D-40D2-945F-963A39E0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B536-9AFE-4E9F-8D6B-E591578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7AB1-2351-4D7B-B2FB-3D81C9D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3D73-BD85-4C48-8BE7-5F44C697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6B7-99E3-4756-ABDB-E098576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49420-F37E-47C7-AE20-058717A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5A3D-D02B-48C7-8078-F06B244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F957A-F8EF-4BE1-AC5E-96038A5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BBD58-5BD6-4B64-B115-3CAAC4BB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4B71-2F66-41E5-AB83-537BDCA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B23E7-9F99-4F9C-BABB-9B9179F0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C48F-0178-4867-A70A-C1C9189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D048-E7F6-4B98-8A30-DAB87B1E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B57E-12A9-4F10-929B-C0185E7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D8733-4E3D-464F-AB74-53CBE87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6AC-8888-4AB0-AED3-3547929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B6EF-EBF8-4036-9015-A1430E6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8486-7438-412E-AB47-EFF9296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5BE9-0B96-4425-B166-0C38FB1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9338D-6883-4313-A6C2-D38CC33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65D9-CCBB-467E-9D6B-3FA613D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332C4-585B-4D70-BDAC-E58637B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C23C9-DA87-4D49-A1AF-BC868515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D3301-9CD3-4772-91FB-0CCD929C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E96E-D39E-440C-AF4C-2EEFC0CE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4015-62F5-4CB4-8922-F009840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A1B0-8DB7-447B-B599-1D2042E2B6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0B3F-B468-4450-A733-83F6EC748A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C7A-8DAB-44C8-B2E9-C3CA2FD096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B15-D8E4-48D0-8448-40A4EB6261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8E3-A314-4065-A1DC-9BAF6AA89B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E56-B091-442E-9191-94891F51B7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FD9-C0A9-4F10-87D4-4A075A84F6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D3E1-114F-4444-98C8-B0F407AD38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7EAF-7518-475F-B6C4-238324C5E8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9680" y="566640"/>
            <a:ext cx="8937720" cy="35845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5500800" y="46432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довин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емьдянкина 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оверила: Кузьм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34200" cy="1717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Проверить выполнения норм СаНПина по обеспечению безопасности работы в школе (норма воздуха на ученика-6м³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68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2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ников 28 челове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5,50*5,60=92,4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92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4/28=3,3 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3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4071960" y="714240"/>
            <a:ext cx="48578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68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10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ников 28 челове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 5,50*5,60=92,4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92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4/28=3,3 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4214880" y="928800"/>
            <a:ext cx="4572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421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30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8,90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5,60*3=149,52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149,52/28=5,34(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³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Users\1\Desktop\Безымянный2.png"/>
          <p:cNvPicPr/>
          <p:nvPr/>
        </p:nvPicPr>
        <p:blipFill>
          <a:blip r:embed="rId2"/>
          <a:stretch/>
        </p:blipFill>
        <p:spPr>
          <a:xfrm>
            <a:off x="4429080" y="785880"/>
            <a:ext cx="44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е проверки норм СаНПина в кабинетах №102,№210,№301 для класса в 28 человек норма воздуха не выполня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бинете №102,№210: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воздуха на 1 человека)=3,3(м³),а должно быть 6 м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бине №301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воздуха на 1 человека)=5,34 м³, а должно быть 6 м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Учебные помещения проветриваются во время перемен, а рекреационные - во время уроков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До начала занятий и после их окончания необходимо осуществлять сквозное проветривание учебных помещений. Длительность сквозного проветривания определяется погодными условиями согласно </a:t>
            </a:r>
            <a:r>
              <a:rPr b="0" lang="ru-RU" sz="27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таблице 1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Также, можно уменьшить численность человек, посещающих урок. Разделить класс на несколько групп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Улучшить вентиляцию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55440"/>
            <a:ext cx="8802720" cy="1481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ая соединительная линия 6"/>
          <p:cNvSpPr/>
          <p:nvPr/>
        </p:nvSpPr>
        <p:spPr>
          <a:xfrm flipV="1">
            <a:off x="3214800" y="1928880"/>
            <a:ext cx="2857320" cy="712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8"/>
          <p:cNvSpPr/>
          <p:nvPr/>
        </p:nvSpPr>
        <p:spPr>
          <a:xfrm>
            <a:off x="3214800" y="1857240"/>
            <a:ext cx="2928960" cy="716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85840" y="1571760"/>
          <a:ext cx="8686800" cy="4971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ружная температур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рад. С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лительность проветривания помещения,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 малые перемены                         в большие перем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              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 между сменам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+10 до +6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- 10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25 - 3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+5 до 0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- 7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20 - 3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0 до -5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- 5                                       15 - 2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-5 до -10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- 3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10 - 1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же -1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- 1,5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5 - 1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5:00:11Z</dcterms:created>
  <dc:creator>1</dc:creator>
  <dc:description/>
  <dc:language>en-US</dc:language>
  <cp:lastModifiedBy>arm205</cp:lastModifiedBy>
  <dcterms:modified xsi:type="dcterms:W3CDTF">2012-02-06T23:49:21Z</dcterms:modified>
  <cp:revision>44</cp:revision>
  <dc:subject/>
  <dc:title>Цель работы:</dc:title>
</cp:coreProperties>
</file>