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AA4-C595-44F0-8C7B-282E3BB9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6BB-558B-4A05-819D-B26A6D2F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2E6-96D1-495A-A66A-CEDB5846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879-B225-4DED-847B-717C2369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901-44CC-43C2-B006-F5C259B1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D30-9485-4C66-80BA-E59F9B4A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F48-55AA-4572-BD73-9B65A4F9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104-F4B5-4237-849E-0EE56E0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F260-E4B6-4659-A0D4-62367B96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5A6-BDE8-4DF4-8805-51AE1059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F93-C190-4C8F-93FD-795D402F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248-D442-4594-9B73-E0493BCE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355D-E75E-4E39-9B3B-6EBD7FDCD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vmdaily.ru/photo/large/file67jre5lwq4m4yu5ecbg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newsfiber.com/p/s/m?msg=4TDf3W1sdqk%3D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beslan-2004.front.ru%2Fbeslan-33.jpg&amp;iorient=&amp;nojs=1&amp;icolor=&amp;site=&amp;text=&#1079;&#1072;&#1093;&#1074;&#1072;&#1090;%20&#1079;&#1072;&#1083;&#1086;&#1078;&#1085;&#1080;&#1082;&#1086;&#1074;%20&#1074;%20&#1073;&#1077;&#1089;&#1083;&#1072;&#1085;&#1077;&amp;wp=&amp;pos=10&amp;isize=&amp;type=&amp;recent=&amp;rpt=simage&amp;itype=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g-fotki.yandex.ru/get/4612/86637231.7/0_713ca_ffd6f7da_XL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region15.ru/fotoreport/beslan_zalojniki/dscn6100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dl.ziza.ru/other/042011/26/zal/tn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hatithinkabout.info/uploads/ru/NrVDj8WLDP_large.jpg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900igr.net/datas/obg/Vrednye-i-poleznye-privychki/0010-010-K-chemu-privodjat-vrednye-privychki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orzik.net/uploads/posts/2011-11/1321962869_podborka_68.jp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nglamour.net/wp-content/uploads/2011/12/10-vrednyih-opasnyih-zhenskih-privyichek-1.jpg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www.proza.ru/pics/2011/01/21/1115.jpg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rofi-forex.org/system/news/A31-21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rmor.kiev.ua/Tanks/WWII/T34/T34attack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ohn.ru/_nw/15/02844853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podkat.ru/uploads/posts/thumbs/1205337613_okazanie_pervojj_medicinskojj_pomoshhi.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graphics8.nytimes.com/images/2008/08/08/world/24372516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llisny.com/images/wtc3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aksakal.info/uploads/posts/2011-11/1321642162_nevskiy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graphics8.nytimes.com/packages/images/photo/2010/03/29/0330-MOSCOW/34609968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wired.com/images_blogs/photos/uncategorized/2008/12/02/25962244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origin.images.blip.tv/Deamon_bite-kidnapPart1774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img_url=fakty.ua%2Fphotos%2Farticle%2F14%2F76%2F147663w200zc0.jpg&amp;iorient=&amp;nojs=1&amp;icolor=&amp;site=&amp;text=&#1092;&#1086;&#1090;&#1086;%20&#1086;%20%20&#1087;&#1086;&#1093;&#1080;&#1097;&#1077;&#1085;&#1080;&#1077;%20&#1083;&#1102;&#1076;&#1077;&#1081;&amp;wp=&amp;pos=149&amp;type=&amp;isize=&amp;recent=&amp;rpt=simage&amp;itype=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lol54.ru/uploads/posts/2009-11/1258649588_www.caravan.kz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125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89000"/>
            <a:ext cx="7632720" cy="76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Тәрбия сәгатенең      темасы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Безгә куркыны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яный!</a:t>
            </a: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ыйныф</a:t>
            </a:r>
            <a:r>
              <a:rPr b="0" lang="tt-RU" sz="7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tt-RU" sz="3200" spc="-1" strike="noStrike">
                <a:solidFill>
                  <a:srgbClr val="ffff00"/>
                </a:solidFill>
                <a:latin typeface="Times New Roman"/>
              </a:rPr>
              <a:t>җитәкчесе:  Сөнгатова Гөлнара Зөлкар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ь кызы</a:t>
            </a:r>
            <a:r>
              <a:rPr b="0" lang="tt-RU" sz="7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Arial"/>
              </a:rPr>
              <a:t>Бик зур фаҗиг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48160"/>
            <a:ext cx="4427640" cy="3309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Убийца Алины Гилемхановой сказал, что сделал все правильно"/>
          <p:cNvPicPr/>
          <p:nvPr/>
        </p:nvPicPr>
        <p:blipFill>
          <a:blip r:embed="rId3"/>
          <a:stretch/>
        </p:blipFill>
        <p:spPr>
          <a:xfrm>
            <a:off x="4788000" y="1197000"/>
            <a:ext cx="4356000" cy="405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268280"/>
            <a:ext cx="44276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Кешеләрне зало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ник итеп а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568680"/>
            <a:ext cx="3772080" cy="328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921120"/>
            <a:ext cx="3851280" cy="2936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1125360"/>
            <a:ext cx="3809880" cy="3095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1484280"/>
            <a:ext cx="52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00"/>
                </a:solidFill>
                <a:latin typeface="Arial"/>
              </a:rPr>
              <a:t>Зало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i="1" lang="tt-RU" sz="3200" spc="-1" strike="noStrike">
                <a:solidFill>
                  <a:srgbClr val="ffff00"/>
                </a:solidFill>
                <a:latin typeface="Arial"/>
              </a:rPr>
              <a:t>ник-көчләп кулга алынга һәм ирексезләп тотылган ке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00"/>
                </a:solidFill>
                <a:latin typeface="Arial"/>
              </a:rPr>
              <a:t>Кешеләр күп җыелган урынн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17800"/>
            <a:ext cx="4572000" cy="304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4040" y="1413000"/>
            <a:ext cx="507996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Arial"/>
              </a:rPr>
              <a:t>Зыянлы һәм начар гадәтл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65400"/>
            <a:ext cx="914400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79960" cy="3060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141720"/>
            <a:ext cx="4140360" cy="259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3809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Arial"/>
              </a:rPr>
              <a:t>Азарт уенн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789360"/>
            <a:ext cx="2905200" cy="3068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859280" y="2997360"/>
            <a:ext cx="4284720" cy="3860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0352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916360" y="1341360"/>
            <a:ext cx="50799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00"/>
                </a:solidFill>
                <a:latin typeface="Arial"/>
              </a:rPr>
              <a:t>Укучылар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Беркайчан да азарт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еннарда катнашмагы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сегезд</a:t>
            </a:r>
            <a:r>
              <a:rPr b="1" lang="tt-RU" sz="4000" spc="-1" strike="noStrike">
                <a:solidFill>
                  <a:srgbClr val="ffffff"/>
                </a:solidFill>
                <a:latin typeface="Arial"/>
              </a:rPr>
              <a:t>ә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тотыгыз: буш сыр, тычкан өчен капкында гына бу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ff00"/>
                </a:solidFill>
                <a:latin typeface="Arial"/>
              </a:rPr>
              <a:t>Бервакытта исегездән чыгармагыз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Һәр кешенең сәламәтлеге, тормыштагы урыны, куркынычсызлыгы бары тик үзеннән 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Сак булыгыз: белмәгән кешеләр белән элемтәгә кермәгез, машиналарга утырып китмәгез, начар гадәтләрне үзегезгә иптәш итеп алмагыз, кич йөрүнең файдалы түгел икәнен исегездән чыгармагы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Үз тормышыгызга зыян килүдән сакланыгы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ffffff"/>
                </a:solidFill>
                <a:latin typeface="Arial"/>
              </a:rPr>
              <a:t>Өлкәннәр киңәшен тыңлагыз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3390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19640" y="3645000"/>
            <a:ext cx="3924360" cy="321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347652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219640" y="0"/>
            <a:ext cx="3924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ffffff"/>
                </a:solidFill>
                <a:latin typeface="Arial"/>
              </a:rPr>
              <a:t>Иг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ъ</a:t>
            </a:r>
            <a:r>
              <a:rPr b="1" lang="tt-RU" sz="7200" spc="-1" strike="noStrike">
                <a:solidFill>
                  <a:srgbClr val="ffffff"/>
                </a:solidFill>
                <a:latin typeface="Arial"/>
              </a:rPr>
              <a:t>тибарыгыз өчен рәхмәт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иа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ь</a:t>
            </a: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 характердагы көтелмәгән хәллә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Сугыш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Террористик акт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Кешеләрне заложникка(урлау) 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Кешеләр күп җыелган урыннар.(толп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Балаларны көчлә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Зыянлы һәм начар гадәтлә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</a:rPr>
              <a:t>Азартлы  уенн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cc3300"/>
                </a:solidFill>
                <a:latin typeface="Times New Roman"/>
              </a:rPr>
              <a:t>Сугышл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Дәүләтләр арасы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Милли –азатлык сугыш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Гра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даннар сугыш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Колониаль суг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268800"/>
            <a:ext cx="44276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635280" cy="269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4111560"/>
            <a:ext cx="3995640" cy="2746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71640" y="2276640"/>
            <a:ext cx="4032360" cy="2681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067280" y="404640"/>
            <a:ext cx="46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</a:rPr>
              <a:t>Кешеләр әйдәгез тынычлыкны саклый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5589720"/>
            <a:ext cx="403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867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imes New Roman"/>
              </a:rPr>
              <a:t>Уяу булый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ffffff"/>
                </a:solidFill>
                <a:latin typeface="Arial"/>
              </a:rPr>
              <a:t>Террор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946240" cy="3149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3500280"/>
            <a:ext cx="4788000" cy="3357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500280"/>
            <a:ext cx="388764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6760" y="1052640"/>
            <a:ext cx="35672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ffffff"/>
                </a:solidFill>
                <a:latin typeface="Times New Roman"/>
              </a:rPr>
              <a:t>Файдалы киңәшлә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Һәрвакыт уяу булырга.Таныш булмаган кешеләр, аларның үз-үзләрен дөрес тотмау күренешен күрсәгез әти-әниләргә, укытучыларга, тәртип саклау органнарына хәбәр итеге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Очраган сумка, пакет, чемодан, портфе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күрсәгез кулыгызга алырга кирәк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Үз көчегез белән күңелегезгә сәер булып тоелган әйберләрне  зарарсызландырырга тырышмагыз. Бу бик куркыныч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Тиз генә куркыныч зонадан чыгып китү ягын карагы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Террористик акт башкарылган очракта, Сезгә зыян килмәсә, башкаларга булышырга тырышгы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ffff00"/>
                </a:solidFill>
                <a:latin typeface="Arial"/>
              </a:rPr>
              <a:t>Кешеләрне урлау һәм зало</a:t>
            </a: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жникка а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Кешеләрне урлау- киднеппинг дип а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балаларны урлау” дип тәрҗемә ител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Ул ике төрле юл белән башкары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Алдау ю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00"/>
                </a:solidFill>
                <a:latin typeface="Arial"/>
              </a:rPr>
              <a:t>Көч кулланы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67280" cy="3057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3954600"/>
            <a:ext cx="3924360" cy="290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2565360"/>
            <a:ext cx="26794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000" spc="-1" strike="noStrike">
                <a:solidFill>
                  <a:srgbClr val="000000"/>
                </a:solidFill>
                <a:latin typeface="Arial"/>
              </a:rPr>
              <a:t>Балалар нәрсә өчен урла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Җинаятьче тарафыннан сату ө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Үч алу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Шәхси һәм политик мәсьәләләрне чишү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Балаларны  кан һәм эчке органнар  доноры итү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Баласы булмаган гаиләләргә сату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Arial"/>
              </a:rPr>
              <a:t>Коллыкка бирү өч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4:10:21Z</dcterms:created>
  <dc:creator>Admin</dc:creator>
  <dc:description/>
  <dc:language>en-US</dc:language>
  <cp:lastModifiedBy>Admin</cp:lastModifiedBy>
  <dcterms:modified xsi:type="dcterms:W3CDTF">2013-04-18T14:47:30Z</dcterms:modified>
  <cp:revision>3</cp:revision>
  <dc:subject/>
  <dc:title>Слайд 1</dc:title>
</cp:coreProperties>
</file>