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B2D9-B391-4016-85D1-ED0C77772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2C35-794C-40A5-8785-3CC1E708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5649-26A1-4666-AFF3-B0957B64E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327F-CF75-4F7E-966B-29FA416B9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1187-3451-4CEC-9024-F139FD31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3A48-A611-4CD4-9ECD-10E5048E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71C1-15F1-4CF4-9EBF-A6474B96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D14A-6600-44C5-85E2-63C7B66C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245C-6073-4524-8236-3DD13AC3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F6C8-2372-4013-ABAC-8D6C5F8C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61C5-FC9F-4082-9943-2991BA5F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34C2-A161-4F2C-9FFD-7D9C89D7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BF1B-A951-44EF-8A30-3C2CC4CCF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3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7b7d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26920" y="1628640"/>
            <a:ext cx="756144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рок алгебры в 11 классе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solidFill>
            <a:srgbClr val="d6ec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Задания по группа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solidFill>
            <a:srgbClr val="f2ace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 группа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нение производной для нахождения наибольшего и наименьшего значений функции без указания числового промежутка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5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solidFill>
            <a:srgbClr val="eac3b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Задания по группа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solidFill>
            <a:srgbClr val="c3bae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 группа: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нение производной для нахождения точек экстремума функции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beebb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из.пауз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Наклон головы вперёд-наз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Наклон головы влево- в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Описать головой полу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Руки вперёд, кисти «замком», повороты сцепленными руками влево- в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Руки вниз, поднимаем и опускаем пл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e9dbb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 в групп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d6c2d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йти наименьшее значение функции    у=(х</a:t>
            </a:r>
            <a:r>
              <a:rPr b="0" lang="ru-RU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+25)/х   на отрезке    (-10;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b6e8b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8964720" cy="5472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c5acf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 в групп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b6e8b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пределите точку минимума функ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У=(2х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16х+16)е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28-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20728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aaf4b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полнение оценочного ли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572000" cy="5300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ценочный лист. Фамилия учащего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648320" y="1557360"/>
          <a:ext cx="4495320" cy="5300280"/>
        </p:xfrm>
        <a:graphic>
          <a:graphicData uri="http://schemas.openxmlformats.org/drawingml/2006/table">
            <a:tbl>
              <a:tblPr/>
              <a:tblGrid>
                <a:gridCol w="642960"/>
                <a:gridCol w="641520"/>
                <a:gridCol w="641520"/>
                <a:gridCol w="642960"/>
                <a:gridCol w="641520"/>
                <a:gridCol w="641880"/>
                <a:gridCol w="642960"/>
              </a:tblGrid>
              <a:tr h="89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2c2a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лодцы! Удачи на ЕГЭ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56000" y="1600200"/>
            <a:ext cx="4392360" cy="506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8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bcedb1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solidFill>
            <a:srgbClr val="b6b3e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Применение производной при реше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задач ЕГ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ef0b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«Лишь дифференциальное исчисление даёт естествознанию возможность изображать математически не только состояния, но и процессы движения.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Ф. Энгель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87640" y="4365720"/>
            <a:ext cx="3960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a8f6f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бщие зад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efaf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чем нужна производна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Где мы встречаемся с производной и используем её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Можно ли без неё обойтись в математике и не тольк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51280" y="4869000"/>
            <a:ext cx="2143080" cy="1562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8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7b8a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bbe9b5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роизводная - одно из самых важных понятий математического анализа. Знание производной необходимо инженерам-технологам, конструкторам, экономистам, физикам, учён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e8b6d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стный счё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bbafe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 карточкам в парах проверяем основные формулы дифференцирования функц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Находим производные представленных функц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8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1adc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йти производную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b9b0ee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) = 4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) = е</a:t>
            </a:r>
            <a:r>
              <a:rPr b="0" i="1" lang="ru-RU" sz="3600" spc="-1" strike="noStrike" baseline="30000">
                <a:solidFill>
                  <a:srgbClr val="000000"/>
                </a:solidFill>
                <a:latin typeface="Arial"/>
              </a:rPr>
              <a:t>2х                  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) = 2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ln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(5-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)              6)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) = 12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7)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) = 78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8)(4х-2)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eef0a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f1adde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 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  12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2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   2е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  - 1/(5-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  3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  12(4х-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)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0f2a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Задания по группа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afe7e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 групп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нение производной для нахождения наибольшего и наименьшего значений функции на указанном промежутк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7:20:01Z</dcterms:created>
  <dc:creator>вова</dc:creator>
  <dc:description/>
  <dc:language>en-US</dc:language>
  <cp:lastModifiedBy>вова</cp:lastModifiedBy>
  <dcterms:modified xsi:type="dcterms:W3CDTF">2013-04-11T19:36:45Z</dcterms:modified>
  <cp:revision>2</cp:revision>
  <dc:subject/>
  <dc:title>Слайд 1</dc:title>
</cp:coreProperties>
</file>