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1FF-5528-4442-B9EE-5DBB7EB5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B68-8C50-45AF-B512-03B02B0B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6AC2-3055-49D5-A69C-9760C9BA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4B5-9BB8-4A6E-B951-522B6ACB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24D-3264-4AB9-AFC7-D52661D6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B77-E0E8-4D97-AAAD-9B7BB7B0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34DA-4099-4554-B090-4E5DC3CC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7F8-EBC1-4D3A-A1D7-315C340C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23E-C239-4DC6-8829-E701AB93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396-04AF-4A71-BD1A-229FA27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842-9F50-4503-96E4-0E90C259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B9D-B3B9-4B64-B0C4-2FD48166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252E-2A03-41B9-96F1-83B57997D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3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b7d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920" y="1628640"/>
            <a:ext cx="756144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алгебры в 11 классе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d6ec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я по групп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solidFill>
            <a:srgbClr val="f2ace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 группа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нение производной для нахождения наибольшего и наименьшего значений функции без указания числового промежутк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eac3b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я по групп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solidFill>
            <a:srgbClr val="c3bae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 группа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нение производной для нахождения точек экстремума функции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eebb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з.пау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Наклон головы вперёд-наз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Наклон головы влево-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Описать головой полу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Руки вперёд, кисти «замком», повороты сцепленными руками влево- в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Руки вниз, поднимаем и опускаем пл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9dbb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d6c2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йти наименьшее значение функции    у=(х</a:t>
            </a:r>
            <a:r>
              <a:rPr b="0" lang="ru-RU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25)/х   на отрезке    (-10;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b6e8b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8964720" cy="547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c5acf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6e8b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пределите точку минимума 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=(2х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16х+16)е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28-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207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aaf4b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полнение оценочного 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572000" cy="5300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ценочный лист. Фамилия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48320" y="1557360"/>
          <a:ext cx="4495320" cy="5300280"/>
        </p:xfrm>
        <a:graphic>
          <a:graphicData uri="http://schemas.openxmlformats.org/drawingml/2006/table">
            <a:tbl>
              <a:tblPr/>
              <a:tblGrid>
                <a:gridCol w="642960"/>
                <a:gridCol w="641520"/>
                <a:gridCol w="641520"/>
                <a:gridCol w="642960"/>
                <a:gridCol w="641520"/>
                <a:gridCol w="641880"/>
                <a:gridCol w="642960"/>
              </a:tblGrid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2c2a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лодцы! Удачи на ЕГЭ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4392360" cy="50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8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bcedb1"/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b6b3e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производной при реш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ч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ef0b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Лишь дифференциальное исчисление даёт естествознанию возможность изображать математически не только состояния, но и процессы движения.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Ф. Энге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4365720"/>
            <a:ext cx="396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a8f6f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бщие 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efaf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чем нужна производна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Где мы встречаемся с производной и используем её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Можно ли без неё обойтись в математике и не тольк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51280" y="4869000"/>
            <a:ext cx="2143080" cy="156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7b8a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e9b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роизводная - одно из самых важных понятий математического анализа. Знание производной необходимо инженерам-технологам, конструкторам, экономистам, физикам, учё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8b6d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стный сч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baf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карточкам в парах проверяем основные формулы дифференцирования функц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Находим производные представленных функц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1adc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ти производну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b9b0e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4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е</a:t>
            </a:r>
            <a:r>
              <a:rPr b="0" i="1" lang="ru-RU" sz="3600" spc="-1" strike="noStrike" baseline="30000">
                <a:solidFill>
                  <a:srgbClr val="000000"/>
                </a:solidFill>
                <a:latin typeface="Arial"/>
              </a:rPr>
              <a:t>2х                  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2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(5-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             6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12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7)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) = 78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8)(4х-2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ef0a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f1add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 12х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2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  2е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 - 1/(5-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  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  12(4х-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)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0f2a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Задания по группа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afe7e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 групп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нение производной для нахождения наибольшего и наименьшего значений функции на указанном промежут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7:20:01Z</dcterms:created>
  <dc:creator>вова</dc:creator>
  <dc:description/>
  <dc:language>en-US</dc:language>
  <cp:lastModifiedBy>вова</cp:lastModifiedBy>
  <dcterms:modified xsi:type="dcterms:W3CDTF">2013-04-11T19:36:45Z</dcterms:modified>
  <cp:revision>2</cp:revision>
  <dc:subject/>
  <dc:title>Слайд 1</dc:title>
</cp:coreProperties>
</file>