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7347-C1C6-412A-AEEB-D1068FB45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06D3-46E6-4D19-8904-78058A2F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F6D2-A06E-4D28-B291-7CA9483AF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9D21-989A-4A1A-8612-816B1EF8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7E63-7EB9-47C1-8006-1CAF2409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6DF9-29F5-426B-8057-E055E103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F462-898E-49BB-9FEE-682BA4F6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3759-E789-4D82-9CED-485611E0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8292-FA07-4D50-89B5-812848B6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F4D3-DC60-48C9-A62C-6705FCB1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F353-650C-443B-9ADE-ED709956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49DA-9A74-42BD-8F04-2C68DF2D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869F-1C0A-47B4-9EBA-11571B7B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46F4-9E4E-4FA5-AA7D-1EE078C4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5958-DBEC-467A-9DC1-FA8FD15E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CE98-B352-4AD1-A7B1-255060782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61A1-641C-467C-996B-68A19947E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DAE2-F884-43F5-87B0-7E7A7746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60AA-DA25-4D4B-BE5F-04BB9AD1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F4DD-D6FE-4274-828F-68B19BE3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8ADF-3DAA-40D5-A3A2-89D3B23D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5B49-A9AE-411D-83F1-D626A6F8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82D2-DEAE-4AB7-A467-F545EA26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6305-83AF-428E-9FDD-A4D54B5E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A1D2-B1C9-4BE9-B6BC-88BBCBA06397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8D71-FADC-4110-B542-29FE5BF037F8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85840" y="3885840"/>
            <a:ext cx="850104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полнила: Крутова Н.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011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Прямоугольник 4" descr=""/>
          <p:cNvPicPr/>
          <p:nvPr/>
        </p:nvPicPr>
        <p:blipFill>
          <a:blip r:embed="rId2"/>
          <a:stretch/>
        </p:blipFill>
        <p:spPr>
          <a:xfrm>
            <a:off x="60480" y="549360"/>
            <a:ext cx="8742240" cy="2243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2"/>
          <a:stretch/>
        </p:blipFill>
        <p:spPr>
          <a:xfrm>
            <a:off x="450720" y="-219240"/>
            <a:ext cx="8242560" cy="1365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1ceec"/>
                </a:solidFill>
                <a:latin typeface="Calibri"/>
              </a:rPr>
              <a:t>Это самый распространённый метод проблемного обучения и в той или иной мере используется на большинстве уроков, включая уроки-лекции. В зависимости от сложности задания степень охвата учащихся поисковой деятельностью различна: от выступлений сравнительно небольшой группы наиболее подготовленных учеников до фронтального письменного ответа всего класса. Независимо от количества активных участников ученики, как правило, выполняют самостоятельно не все этапы поиска, а только некоторые, чередуясь с учителем. Поэтому иногда этот метод называется в педагогической литературе частично-поисковым. Выбор вопросов для заданий должен способствовать формированию умений и навыков анализа сущности явлений общественной жизни (оценка событий и их значения, выяснение причинно-следственных связей, тенденций развития, сравнение родственных и противоположных событий и явлений). Важно сообщить учащимся не только необходимые для обобщения факты, но и использовать их опорные знания, умения, навыки, жизненный опыт. Таким образом, воспроизведение и творчество выступают как две стороны единого целостного процесса познания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Содержимое 3" descr="2.png"/>
          <p:cNvPicPr/>
          <p:nvPr/>
        </p:nvPicPr>
        <p:blipFill>
          <a:blip r:embed="rId2"/>
          <a:stretch/>
        </p:blipFill>
        <p:spPr>
          <a:xfrm>
            <a:off x="85680" y="357120"/>
            <a:ext cx="89154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2"/>
          <a:stretch/>
        </p:blipFill>
        <p:spPr>
          <a:xfrm>
            <a:off x="-6480" y="-201600"/>
            <a:ext cx="9156960" cy="1116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0" y="69228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36400" indent="-402840">
              <a:lnSpc>
                <a:spcPct val="10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efe6"/>
                </a:solidFill>
                <a:latin typeface="Calibri"/>
              </a:rPr>
              <a:t>Исследовательский метод – это организация поисковой, познавательной деятельности учащихся путём постановки учителем познавательных и практических задач, требующих самостоятельного творческого решения. Этот метод востребован в обучении. Он способствует развитию и индивидуализации личности, а также формированию мотивации к получению учащимися знаний. Данная форма распространена в основном в старших классах, но целесообразно вводить основы данной деятельности в учебный процесс с начальной школы. Ещё одной особенностью организации исследовательской деятельности в начальном звене школы является то, что в ней могут принимать участие не только сильные учащиеся, но и отстающие дети. Просто уровень исследования будет иным.   Целью организации исследовательского метода является формирование у детей познавательной активности. Цель может быть достигнута, если будут решены следующие задачи: развитие логического мышления, творческих способностей, кругозора, устной и письменной речи; умений обобщать и систематизировать информацию, коммуникативных умений; формирование наблюдательности и внимания, умений работы с художественными и научными текстами. Самым начальным этапом работы учащихся является выбор темы, далее с помощью учителя ребёнок ставит цель – что он должен добиться в процессе исследовательской деятельности. Следующий этап – подбор материала по своей теме, который происходит не без помощи учителя. Потом ученик изучает собранный материал, обобщает и систематизирует, далее оформляет его. И заключительным этапом работы является защита. Защита работы может происходить в виде конференции, презентации, доклада. При исследовательском методе используются следующие приёмы работы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efe6"/>
                </a:solidFill>
                <a:latin typeface="Calibri"/>
              </a:rPr>
              <a:t>- изучение теоретических источников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efe6"/>
                </a:solidFill>
                <a:latin typeface="Calibri"/>
              </a:rPr>
              <a:t>- наблюдение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efe6"/>
                </a:solidFill>
                <a:latin typeface="Calibri"/>
              </a:rPr>
              <a:t>- поисковый эксперимент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efe6"/>
                </a:solidFill>
                <a:latin typeface="Calibri"/>
              </a:rPr>
              <a:t>- описательный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efe6"/>
                </a:solidFill>
                <a:latin typeface="Calibri"/>
              </a:rPr>
              <a:t>- анкетирование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efe6"/>
                </a:solidFill>
                <a:latin typeface="Calibri"/>
              </a:rPr>
              <a:t>- интервьюиров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befe6"/>
                </a:solidFill>
                <a:latin typeface="Calibri"/>
              </a:rPr>
              <a:t>Необходимо отметить широкий выбор предметов: русский язык, литературное чтение, окружающий мир, детская риторика, экология. В исследовательском методе возможно установление межпредметных связей: литературное чтение и русский язык, окружающий мир и экология, литературное чтение и окружающий мир и т.д. Это вызывает наибольший интерес со стороны учеников, так как в одной работе они могут соединить разные, как им казалось, не связанные между собой предметы. Дети порой сами придумывают столь оригинальные и интересные темы, что учителю остаётся только правильно их сформулировать. Педагог играет немаловажную роль в выполнении исследовательской деятельности учащихся: контролирует, направляет, помогает. Оценка деятельности происходит в несколько этапов: оцениваются подготовительный, аналитический, обобщающий и заключительный этапы деятельности учащихся. Исследовательский метод – самый высокий уровень познавательной самостоятельности учащихся. Наиболее эффективной формой организации учебной деятельности учащихся при решении исследовательских задач является групповая работа. Она обеспечивает индивидуальное развитие каждого учащегося, формирование межличностного интеллекта, а это в первую очередь означает высокое развитие коммуникативных способностей. Самой интересной формой групповой деятельности является мозговой штурм. Во время этой работы ученики тренируются кратко и чётко выражать свои мысли, учатся слышать и слушать друг друг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befe6"/>
                </a:solidFill>
                <a:latin typeface="Calibri"/>
              </a:rPr>
              <a:t>	</a:t>
            </a:r>
            <a:r>
              <a:rPr b="0" i="1" lang="ru-RU" sz="1800" spc="-1" strike="noStrike">
                <a:solidFill>
                  <a:srgbClr val="ebefe6"/>
                </a:solidFill>
                <a:latin typeface="Calibri"/>
              </a:rPr>
              <a:t>Таким образом, использование различных методов решения учебной проблемы позволяет в работе с учащимися решить следующие задачи: обеспечить освоение учениками творческой  деятельности – выполнение исследований, проведение экспертиз, составление прогнозов, разработку проектов, что формирует теоретическое мышление и технологическую культуру учащихся, создаёт условия для самовыражения, признания, самоутверждения каждого ученика как личнос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ebefe6"/>
                </a:solidFill>
                <a:latin typeface="Calibri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2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2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Содержимое 3" descr="1.png"/>
          <p:cNvPicPr/>
          <p:nvPr/>
        </p:nvPicPr>
        <p:blipFill>
          <a:blip r:embed="rId2"/>
          <a:stretch/>
        </p:blipFill>
        <p:spPr>
          <a:xfrm>
            <a:off x="214200" y="571680"/>
            <a:ext cx="871560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Список литературы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90932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Бабанский Ю.К.Интенсификация процесса обучения.- М.: Знание,198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абанский Ю.К. Методы обучения в современной общеобразовательной школе.- М. Просвещение198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абанский Ю.К. Проблемное обучение как средство повышения эффективности учения школьников.- Ростов-на-Дону, 197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льперин П.Я. Методы обучения и умственное развитие ребенка.- М.:Изд-во МГУ,198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удрявцев Т.В. Проблемное обучение: истоки, сущность, перспективы.- М.: Знание199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чалова Н.М. Методы проблемного обучения и границы их применения Казань, 197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42920" y="142920"/>
            <a:ext cx="8858160" cy="65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Comic Sans MS"/>
              </a:rPr>
              <a:t>Проблемное обучение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-это система научно обоснованных методов и средств, применяемая в процессе развивающего обучения , которая предполагает создание под руководством преподавателя проблемных ситуаций и активную самостоятельную деятельность учащихся по их разрешению с целью, в первую очередь, интеллектуального и творческого развития учащихся, а также овладения ими знаниями, навыками, умениями и способами позна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Проблемное обучение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обеспечивает возможности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творческого участия обучаемых в процессе освоения новых знаний, формирования познавательных интересов и творческого мышления, высокую степень усвоения знаний и мотивации учащихс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2"/>
          <a:stretch/>
        </p:blipFill>
        <p:spPr>
          <a:xfrm>
            <a:off x="133200" y="-298440"/>
            <a:ext cx="8907480" cy="2071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-360" y="1499760"/>
            <a:ext cx="900108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31000" indent="-3985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развитие интеллекта, познавательной самостоятельности и творческих способностей учащихся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усвоение учениками системы знаний  и способов умственной практической деятельности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формирование всесторонне развитой личности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Формирование мотивов обучения, социальных, нравственных и познавательных потребностей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Укрепление межличностных отношений (групповая организация работы учащихся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2"/>
          <a:stretch/>
        </p:blipFill>
        <p:spPr>
          <a:xfrm>
            <a:off x="-6480" y="-244440"/>
            <a:ext cx="8699760" cy="1708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e2d5a3"/>
                </a:solidFill>
                <a:uFillTx/>
                <a:latin typeface="Times New Roman"/>
              </a:rPr>
              <a:t>И.Я.Лернер, М.Н.Скаткин</a:t>
            </a:r>
            <a:r>
              <a:rPr b="1" i="1" lang="ru-RU" sz="2400" spc="-1" strike="noStrike">
                <a:solidFill>
                  <a:srgbClr val="e2d5a3"/>
                </a:solidFill>
                <a:latin typeface="Times New Roman"/>
              </a:rPr>
              <a:t>                         </a:t>
            </a:r>
            <a:r>
              <a:rPr b="1" i="1" lang="ru-RU" sz="2400" spc="-1" strike="noStrike" u="sng">
                <a:solidFill>
                  <a:srgbClr val="e2d5a3"/>
                </a:solidFill>
                <a:uFillTx/>
                <a:latin typeface="Times New Roman"/>
              </a:rPr>
              <a:t>М.И.Махму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d5a3"/>
                </a:solidFill>
                <a:latin typeface="Times New Roman"/>
              </a:rPr>
              <a:t>1. </a:t>
            </a: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Проблемное изложение                 </a:t>
            </a:r>
            <a:r>
              <a:rPr b="1" lang="ru-RU" sz="2400" spc="-1" strike="noStrike">
                <a:solidFill>
                  <a:srgbClr val="e2d5a3"/>
                </a:solidFill>
                <a:latin typeface="Times New Roman"/>
              </a:rPr>
              <a:t> 1. </a:t>
            </a: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Метод монологическ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материала(моделирование)                             излож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d5a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e2d5a3"/>
                </a:solidFill>
                <a:latin typeface="Times New Roman"/>
              </a:rPr>
              <a:t>2. </a:t>
            </a: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Частично-поисковый                       </a:t>
            </a:r>
            <a:r>
              <a:rPr b="1" lang="ru-RU" sz="2400" spc="-1" strike="noStrike">
                <a:solidFill>
                  <a:srgbClr val="e2d5a3"/>
                </a:solidFill>
                <a:latin typeface="Times New Roman"/>
              </a:rPr>
              <a:t>2. </a:t>
            </a: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Рассуждающий мет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(экспериментирование,                                   излож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развивающая игра)                              </a:t>
            </a:r>
            <a:r>
              <a:rPr b="1" lang="ru-RU" sz="2400" spc="-1" strike="noStrike">
                <a:solidFill>
                  <a:srgbClr val="e2d5a3"/>
                </a:solidFill>
                <a:latin typeface="Times New Roman"/>
              </a:rPr>
              <a:t>3. </a:t>
            </a: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Диалогический мет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d5a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e2d5a3"/>
                </a:solidFill>
                <a:latin typeface="Times New Roman"/>
              </a:rPr>
              <a:t>3. </a:t>
            </a: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Исследовательский метод                         излож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(тренинг,                                               </a:t>
            </a:r>
            <a:r>
              <a:rPr b="1" lang="ru-RU" sz="2400" spc="-1" strike="noStrike">
                <a:solidFill>
                  <a:srgbClr val="e2d5a3"/>
                </a:solidFill>
                <a:latin typeface="Times New Roman"/>
              </a:rPr>
              <a:t>  4. </a:t>
            </a: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Метод проблемног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экспериментирование)                                    излож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                                                                 </a:t>
            </a:r>
            <a:r>
              <a:rPr b="1" lang="ru-RU" sz="2400" spc="-1" strike="noStrike">
                <a:solidFill>
                  <a:srgbClr val="e2d5a3"/>
                </a:solidFill>
                <a:latin typeface="Times New Roman"/>
              </a:rPr>
              <a:t>5.</a:t>
            </a: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Частично-поисков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                                                                </a:t>
            </a: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(эвристический метод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                                                                 </a:t>
            </a:r>
            <a:r>
              <a:rPr b="1" lang="ru-RU" sz="2400" spc="-1" strike="noStrike">
                <a:solidFill>
                  <a:srgbClr val="e2d5a3"/>
                </a:solidFill>
                <a:latin typeface="Times New Roman"/>
              </a:rPr>
              <a:t>6. </a:t>
            </a: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Исследовательский мет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2"/>
          <a:stretch/>
        </p:blipFill>
        <p:spPr>
          <a:xfrm>
            <a:off x="-6480" y="-109440"/>
            <a:ext cx="12516120" cy="1590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503280" y="1571400"/>
            <a:ext cx="818352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4e9"/>
                </a:solidFill>
                <a:latin typeface="Times New Roman"/>
              </a:rPr>
              <a:t>Проблемные ситуации обязательно должны содержать посильное познавательное затрудн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4e9"/>
                </a:solidFill>
                <a:latin typeface="Times New Roman"/>
              </a:rPr>
              <a:t>Проблемная ситуация должна вызывать интерес у учащихся своей необычностью, неожиданностью, нестандартность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242560" cy="1590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142560" y="1285560"/>
            <a:ext cx="854388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1ceec"/>
                </a:solidFill>
                <a:latin typeface="Comic Sans MS"/>
              </a:rPr>
              <a:t>Проблемное изложение – это активизирующее изложение, когда учитель в ходе сообщения новых знаний систематически создаёт проблемные ситуации, ставит вопросы и указывает пути решения учебных проблем, постоянно побуждает учащихся к самостоятельной познавательной деятельности. В данном случае самостоятельность учащихся ещё не велика. Они лишь следят за поиском, который ведёт учитель, который не просто сообщает факты и делает выводы, как при объяснительно-иллюстративном рассказе, а рассуждает, показывает движение мысли к истине, создаёт атмосферу поиска, заставляет класс сопереживать. Проблемное изложение перерастает в следующий метод проблемного обучения – поисковую беседу, так как многие ученики не удовлетворяются ролью слушателей и стремятся сами отвечать на вопросы учителя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Содержимое 5" descr="Безымянный.png"/>
          <p:cNvPicPr/>
          <p:nvPr/>
        </p:nvPicPr>
        <p:blipFill>
          <a:blip r:embed="rId2"/>
          <a:stretch/>
        </p:blipFill>
        <p:spPr>
          <a:xfrm>
            <a:off x="214200" y="357120"/>
            <a:ext cx="864396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2"/>
          <a:stretch/>
        </p:blipFill>
        <p:spPr>
          <a:xfrm>
            <a:off x="133200" y="-237960"/>
            <a:ext cx="9017280" cy="1116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0" y="85680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dac9e4"/>
                </a:solidFill>
                <a:latin typeface="Calibri"/>
              </a:rPr>
              <a:t>Эвристической беседой называют систему логически взаимосвязанных вопросов учителя и ответов учащихся, конечной целью, которой является решение целостной, новой для учащихся проблемы или её части. При этом методе обучения объяснение учителя сочетается с поисковой деятельностью школьников на всех или на отдельных этапах познавательного процесса. На уроках существуют большие возможности для использования частично-поискового метода. После постановки преподавателем учебных задач учащиеся сами ищут правильное решение и делают выводы, выполняют самостоятельные работы, устанавливают те или иные закономерности, мотивируют свои действия, систематизируют и творчески применяют полученные знания, используют их в практической деятельности и устных ответах. 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dac9e4"/>
                </a:solidFill>
                <a:latin typeface="Calibri"/>
              </a:rPr>
              <a:t>Основными приёмами преподавания здесь, как правило, являются эвристическая беседа, самостоятельная работа с элементами исследования, игра, приёмами учения – самостоятельное обобщение по частным вопросам, решение познавательных задач, составление плана самостоятельной работы, участие в эвристической беседе, частичный мыслительный эксперимент. </a:t>
            </a:r>
            <a:r>
              <a:rPr b="1" i="1" lang="en-US" sz="1900" spc="-1" strike="noStrike">
                <a:solidFill>
                  <a:srgbClr val="dac9e4"/>
                </a:solidFill>
                <a:latin typeface="Calibri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1" i="1" lang="en-US" sz="2200" spc="-1" strike="noStrike">
                <a:solidFill>
                  <a:srgbClr val="0d0d0d"/>
                </a:solidFill>
                <a:latin typeface="Calibri"/>
              </a:rPr>
              <a:t>Характерным признаком эвристической беседы является то, что учащиеся с помощью умелой постановки вопросов учителя и благодаря собственным усилиям и самостоятельному мышлению подводятся к приобретению новых знаний. Излагая учебный материал методом эвристической беседы, учитель время от времени обращается к классу с вопросами, которые побуждают школьников включаться в процесс поиска. Таким образом, эвристическая беседа облегчает процесс творческой деятельности, способствует непроизвольному формированию памяти, то есть ученики способны производить не только формулировки понятий, но и анализировать и преобразовывать их, а также удовлетворяет потребность личности в желании общаться, быть причастным к решению задач, работе всего коллектива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9T08:48:40Z</dcterms:created>
  <dc:creator>Admin</dc:creator>
  <dc:description/>
  <dc:language>en-US</dc:language>
  <cp:lastModifiedBy>user</cp:lastModifiedBy>
  <dcterms:modified xsi:type="dcterms:W3CDTF">2011-12-20T05:47:37Z</dcterms:modified>
  <cp:revision>17</cp:revision>
  <dc:subject/>
  <dc:title>Слайд 1</dc:title>
</cp:coreProperties>
</file>