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266-2FCE-4273-9953-96FD4640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741-ED29-4726-8ACC-D691D5C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05E-B2DD-4390-B2C6-484FC79D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07A-9D97-4DC6-A757-77EDB1E5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D9DE-E45E-45A8-BF51-A4AC3F9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E8B-07F5-43E7-BB15-4B6682F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24B-FCE6-492C-AD58-5A3883F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0BA7-F844-4611-8901-E7B0600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4C5-A177-407B-9AC7-46173D7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077-417D-4FF7-9B21-593F651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6704-B281-4028-999F-D497F61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C56-7D21-43C8-B207-4E583FA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C223-C7A9-4AB9-920D-7A43B0A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45D-10EC-4BFF-AF53-1B33F73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E60-BD1A-4EFC-9D43-40B97878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E982-7EC6-483B-8C98-8F2B88D0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68E-DC9D-41D6-A2BC-6021219B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0552-D3EF-48FF-8F4E-8B851BF7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2465-0FC9-4DC3-A3C5-B2A26F3A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B83A-6BB4-43A2-9463-A6C4148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D347-9532-4343-ABBA-6608425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BAE4-2B85-4EE4-BAAC-EE277B5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4D2-41B5-4B82-A0B0-EB9D4CA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C6B9-6FF4-4D05-AF65-E8A92AC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5221-6935-4C41-A3A0-898458B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79B4-4E20-4EBC-94D7-2D31388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67CC-534A-4AF6-BFDC-54778EA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1866-9DC5-4D7B-B3FF-C3CAE21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0922-AAC9-4D20-9DB5-4527C752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5550-5485-4816-838F-B249E7F5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C136-E96B-4612-B756-CDFD192B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C8B9-4F81-4615-8519-B3F4859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D274-F4D5-407F-9E51-7196816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82A-3E67-4691-AA51-010C0C3B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1303-CE1C-45C3-ACB3-24116649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A6D8-A895-42A5-9042-1CE072B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7A05-42E0-4CA7-BBED-AF1BF81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CE95-1842-46C4-BE9C-211DE61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188B-14FD-4503-AF3E-729C8AA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76DE-7DD8-4B3D-971D-FAA018C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CC9A-72F1-4BFC-A7FC-D1962BD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AFB2-0007-4AFC-B5FD-0BE2098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C3F8-C3D8-4E5A-AA98-DF88EADE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10588-0CF6-448D-8E63-526730AB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152-DCD3-47A7-A5A6-F80C46B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11C7-4E28-400C-98B8-1D3F401A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A202-F02C-4E11-9CEB-1C07078B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8C02-61C5-40B3-87CD-6FEC031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804D-B43D-4CD8-82EB-C35FCC8C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2838-3311-4E41-872B-2EF05FC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2711-171C-4B43-9089-6834045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4D92-934C-43F8-A74D-02A504A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33CF-B168-4046-AEC6-EC865271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6D4A-5933-4C25-85C0-B3C19051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5E869-ACFA-4A25-BF9D-03A9E0CC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42D-5F7F-4AB5-9940-657B9D81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B4A3-F7E8-4284-AD3F-D1FC6EFA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89B7-CD45-42A1-80E6-B994FA8A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7050-7A03-4A5A-98D1-82175D22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AD00-2F84-482B-B054-BF167B8E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38DB-C606-42F9-9F97-40B2C4B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9DF3-6030-4B63-8816-4A2041E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D68E0-E7F2-41FD-B33C-2230AA5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DBD6-2BF7-42D3-9ADC-34C37ECB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5EAE-C715-4218-9295-BFC80CB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34C38-F1DB-4206-B8CE-E7F6613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F70-D3A3-4CA6-BDF2-794C4BB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70CD-9346-479A-BBFF-B304CC2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5CD6-2874-4AD4-A0D4-66BEF10E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2CF46-084E-448D-9EE3-6B111887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F45A-7C6C-4C5B-BC4B-545E7882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B879-0964-4729-A98E-01A3D23B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FDFB0-E544-4191-A504-5741AF62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A7E3C-C163-4212-AE17-5CFBA66F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F462-5856-4F60-8913-62BE380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8EA2-86E9-4FB4-8291-C273F51F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DD364-E8C5-4F09-9A35-BF9F4C2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85A-06CA-4C79-9694-AACDD34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1225-7181-4303-B90F-147E4D4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05A1-6B14-48A8-9B6E-60D2A43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9F26A-B015-4BB8-9B83-5D0420FD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C1D43-D7AF-432D-80B7-0B67AE76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8CD8-D1F2-4E3F-B4AA-E65E6161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A1934-61C7-474C-8A9D-2077EFE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3BA0-296C-4D97-8454-06CD401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8139-7AF3-4296-A338-5F6B795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1702A-C7D8-4B25-B606-3E02C248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33028-1E4D-4135-B64D-C0762047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7D8-3AC5-4BE2-BD61-1F2F75D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1774-33CF-44CA-B5F5-C65D02E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4E61-2127-415B-B378-0CD49DC7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8B94-C5BA-4929-A907-8A3FE8C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C835C-DF99-423D-8C7B-24EE3EA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0AB1-970C-40B8-94E9-8E62F59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D70F-2815-43E5-9BB8-7B4F7B1B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8176-5A3A-456F-AED6-7F137C11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80C-C19A-42BF-8CC5-CCB7B35FD4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1F79-9469-4B81-90C3-2268B36EE2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2161-285A-4BE4-A098-A4408198F3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4F2-C28A-4C7D-991A-F9766C4456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99CA-70F3-40B5-8406-9CBACA57BA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16BC-A9CD-45DC-BC68-61FDBBB23D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4FAD-E071-4A02-B305-ED9C8DB053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C3C-A616-4C11-9733-0DA8EF69BB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Равнобедренный треугольник 3"/>
          <p:cNvSpPr/>
          <p:nvPr/>
        </p:nvSpPr>
        <p:spPr>
          <a:xfrm>
            <a:off x="1928880" y="1071720"/>
            <a:ext cx="4929120" cy="442908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785880" y="500040"/>
            <a:ext cx="7429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лейте треугольник из двух прямоугольных треугольников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еленого цвета, если вам было интересно на уроке, вы активно работали и считаете, что усвоили нов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5e2d37"/>
                </a:solidFill>
                <a:latin typeface="Calibri"/>
              </a:rPr>
              <a:t>желтого цвета: если вам было интересно, но вы недостаточно хорошо поняли новый материал</a:t>
            </a:r>
            <a:r>
              <a:rPr b="1" lang="ru-RU" sz="3200" spc="-1" strike="noStrike">
                <a:solidFill>
                  <a:srgbClr val="ffcc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ного цвета: если вам было скучно, вы ничего не поняли из нов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1214280" y="785880"/>
            <a:ext cx="64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 п.34, 254, 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1" descr=""/>
          <p:cNvPicPr/>
          <p:nvPr/>
        </p:nvPicPr>
        <p:blipFill>
          <a:blip r:embed="rId1"/>
          <a:stretch/>
        </p:blipFill>
        <p:spPr>
          <a:xfrm>
            <a:off x="-426960" y="1030320"/>
            <a:ext cx="98200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1143000" y="857160"/>
            <a:ext cx="6357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сли вы хотите научиться плав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смело входите в вод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если хотите научиться решать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ешайт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.Пой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928800" y="785880"/>
            <a:ext cx="7358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ческая работа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мерьте острые углы каждого треугольника и найдите их сумму, запишите в табл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те 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642960" y="857160"/>
            <a:ext cx="757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ывод: сумма острых углов прямоугольного треугольника равна 90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                              А+    В= 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                               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ый треугольник 2"/>
          <p:cNvSpPr/>
          <p:nvPr/>
        </p:nvSpPr>
        <p:spPr>
          <a:xfrm>
            <a:off x="1785960" y="3929040"/>
            <a:ext cx="3286080" cy="2143080"/>
          </a:xfrm>
          <a:prstGeom prst="rtTriangl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785960" y="5786280"/>
            <a:ext cx="357120" cy="2858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5"/>
          <p:cNvSpPr/>
          <p:nvPr/>
        </p:nvSpPr>
        <p:spPr>
          <a:xfrm flipH="1">
            <a:off x="4428720" y="357192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7"/>
          <p:cNvSpPr/>
          <p:nvPr/>
        </p:nvSpPr>
        <p:spPr>
          <a:xfrm>
            <a:off x="4429080" y="3786120"/>
            <a:ext cx="2142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9"/>
          <p:cNvSpPr/>
          <p:nvPr/>
        </p:nvSpPr>
        <p:spPr>
          <a:xfrm flipH="1">
            <a:off x="5285880" y="3500280"/>
            <a:ext cx="142920" cy="21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0"/>
          <p:cNvSpPr/>
          <p:nvPr/>
        </p:nvSpPr>
        <p:spPr>
          <a:xfrm>
            <a:off x="5286240" y="3714840"/>
            <a:ext cx="2145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642960" y="78588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ктическая работ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рьте длины гипотенузы и катета, лежащего против угла в 30°.  Сравн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делайте 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1143000" y="785880"/>
            <a:ext cx="6357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вод: катет, лежащий против угла в 30°, равен половине гипотен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                       А= 3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С=1/2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                     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ый треугольник 2"/>
          <p:cNvSpPr/>
          <p:nvPr/>
        </p:nvSpPr>
        <p:spPr>
          <a:xfrm>
            <a:off x="1571760" y="3071880"/>
            <a:ext cx="2428920" cy="2428920"/>
          </a:xfrm>
          <a:prstGeom prst="rtTriangl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1571760" y="5286240"/>
            <a:ext cx="500040" cy="21456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лилиния 7"/>
          <p:cNvSpPr/>
          <p:nvPr/>
        </p:nvSpPr>
        <p:spPr>
          <a:xfrm>
            <a:off x="1593720" y="3490920"/>
            <a:ext cx="331920" cy="100080"/>
          </a:xfrm>
          <a:prstGeom prst="pi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9"/>
          <p:cNvSpPr/>
          <p:nvPr/>
        </p:nvSpPr>
        <p:spPr>
          <a:xfrm flipH="1">
            <a:off x="3857400" y="292896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>
            <a:off x="3857760" y="3143160"/>
            <a:ext cx="2142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857680" y="357120"/>
            <a:ext cx="50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695600"/>
            <a:ext cx="69609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357120" y="642960"/>
            <a:ext cx="8001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один из острых углов равен 18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Найдите второй остры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те длину катета прямоугольного треугольника, лежащего против угла в 30°, если длина гипотенузы равна 1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те длину гипотенузы прямоугольного треугольника, если катет, лежащий против угла в 30°, равен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1:21:51Z</dcterms:created>
  <dc:creator>508-02</dc:creator>
  <dc:description/>
  <dc:language>en-US</dc:language>
  <cp:lastModifiedBy>503kab</cp:lastModifiedBy>
  <dcterms:modified xsi:type="dcterms:W3CDTF">2013-04-18T08:04:48Z</dcterms:modified>
  <cp:revision>10</cp:revision>
  <dc:subject/>
  <dc:title>Слайд 1</dc:title>
</cp:coreProperties>
</file>