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E15-B269-44D6-991F-712C4D77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F137-9384-473F-86BD-EB799EE4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E226-29B2-42CC-ACF2-539E1375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EC7-11C9-4AC7-9D5B-0B6BF071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A2EA-6137-4481-877A-C53852A6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F34D-F7CD-4014-8B32-DED54BCF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039E-A8BA-4BCB-8A7D-8C647000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EB94-5201-4A0D-AEDE-FAE0FACA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45B2-0B2C-4CDD-8780-1D00248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F43-3E9F-4419-95BE-8F431A55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0E10-662B-444B-B9B3-407D78E9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628-7A9F-49D1-935B-FB83A8AE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DDC3-15E9-48CA-A72A-4F125E03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87E-CCC0-4C97-A449-54F6496C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EE01-744E-4A91-B9F2-8CD0A1C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6931-35EB-43DA-B016-AE3D86CC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5ACF-C429-4BD6-A3FB-7ADB75F1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0799-2358-4AC8-86A3-E6DCE010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4572-A64B-467C-989D-638B0EE7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6BAE-DF9A-4632-BEE0-A260473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867E-439C-4CA7-8DA2-AC5ACE4C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84A3-7506-4905-8C6A-294095A0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DD0-60DE-44BD-88A9-28B3EB7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C79F-9275-4C8A-85CF-8671B95B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3A63-23A4-407E-9E19-ABDE1EB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44C0-38C5-4D9E-932D-67FC0F9E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D36BD-8CD0-4687-A271-C85D727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0227-3EFF-46F7-8FB7-80B9E93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E669C-2410-4239-9EA6-5EE7D677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D701-3BCA-4695-8A53-6C061EC0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EA48-E11C-402A-9EB8-D21CFE67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71AD3-0A08-4A2D-9026-859EB3E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691CF-BF04-4278-85F8-BDE002B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0FC-DCB4-4BA0-8858-89F091C9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4604-26D5-4E7C-8756-3DF5644B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3C39-7CA8-4E59-8EB6-4503F88F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F72C-5F7E-4600-B0D9-573BCD2C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1174-6666-4BA7-92F5-C0D2D0B9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B493-825F-4D7E-8E7D-457A247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BA94-CD9E-44F1-9914-AC4F0E5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C5566-4B44-4167-A3D9-AF5484E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CC398-B515-48AF-B5F3-E7F1B04E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5360-F31C-4F82-B77B-09E608D9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E372-D7EA-4FBF-80FC-88269868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2C0-6312-453C-9FC5-D91A77FD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872DD-015F-4CC6-A287-9FFEC96A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0CD3-3C0E-4A6D-B2BC-E7FD14F8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0243B-5D81-46CE-A986-95D16BFC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DB912-046F-4A8B-AF91-B2FC9ED5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653D4-AEED-41EE-A9FC-09961F8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B665B-BDF2-43CD-97F1-890614F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88F0B-D3DB-45FA-90DD-6900468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A9F2A-93EF-41EC-B178-6631720A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8A8B-ED38-48D2-BC80-24FF92B7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2D70-33F3-4046-9CA6-3C03488C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43B-56F9-49EF-8B3C-93AF3FE0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1461D-DEAD-4B10-8BEF-4D5366D8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608F-3A22-4010-8F39-BBFDF5FE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8ADA-0B80-4C76-A90C-1D0F7B8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8DFD-639E-420F-B4B0-55F0DFDB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E4DB-15FA-4EA9-8576-C71815B9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B7AFB-FEFE-45B3-AB80-A9A61580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5936-26C7-460C-B0CA-0B7B021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ED04F-E38C-4AA2-BA95-E3DB061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4C12-3E00-4C63-A929-6B6E480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BB43-BCFA-4A64-86DD-5BAC667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3E0-1190-48F6-9E10-B64E735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C6F2-60DE-40A1-98A4-7F62FC3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A7DA-8038-4C2D-81E9-CB529B7B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01D22-5597-4972-9ECB-32E8579B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CD16-0B68-400E-A18D-3362ACE5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F85FA-ED8F-469B-A1A3-27E78C03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168C-CFA2-47D0-BD0F-4E8525C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3BD2-B04F-41A1-8C74-01AA901F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CCEA-DA81-4E94-B53A-9A84742D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A939-E21D-4145-9E1B-08DB95D1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4C41-9565-41B9-BB1C-253BAD2E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8DF-3861-40F0-817B-1555527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21915-C99D-4A70-9C51-0BC1E35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C857E-353C-4A7D-8366-9A36DE6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AE578-2EB0-45B6-9C62-1ACD528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3EDF6-9C9C-45B4-B502-6A4EF8B3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F180-B47E-412A-830D-E595A54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E255-70CD-4CEB-990B-A9653558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205B-BB0E-4FCD-B375-96FA3B55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AE8F0-DA43-487A-A8A4-F8FEC8B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8644-D0C0-4D2A-9146-2E679467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C7860-81F2-4D2E-833B-F1778CA6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6A7-7931-474F-81E1-448C2AC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8D91C-5E08-4CC7-B7DB-24ACCFDA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DD92D-D134-4584-B715-2EC64698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4DBE1-9D6B-4164-A22A-4478CF7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7FB9A-7991-4C02-8238-A92FB636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D37B-EC44-44AA-A070-03A113F7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95610-4AF0-4E99-B2AD-DC6609E1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4565A-710B-49DF-8FCD-92A52EC9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5336-4E15-45E4-9F3D-4208190B05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CDA-6AFB-4608-9C0A-15040D9E11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C03D-3114-4B40-9362-2D127AD12E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B3F5-5E6E-4DB6-8902-B5834F77F1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C6F-8C2A-4044-B7BF-E166E71154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8134-0BCB-4BFC-AC36-2C247C9812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0E3-400C-45F7-BB58-F33FE5754F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3325-E013-49CB-9C91-22BCC34ABFA6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Равнобедренный треугольник 3"/>
          <p:cNvSpPr/>
          <p:nvPr/>
        </p:nvSpPr>
        <p:spPr>
          <a:xfrm>
            <a:off x="1928880" y="1071720"/>
            <a:ext cx="4929120" cy="442908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"/>
          <p:cNvSpPr/>
          <p:nvPr/>
        </p:nvSpPr>
        <p:spPr>
          <a:xfrm>
            <a:off x="785880" y="500040"/>
            <a:ext cx="74293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клейте треугольник из двух прямоугольных треугольников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еленого цвета, если вам было интересно на уроке, вы активно работали и считаете, что усвоили новы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5e2d37"/>
                </a:solidFill>
                <a:latin typeface="Calibri"/>
              </a:rPr>
              <a:t>желтого цвета: если вам было интересно, но вы недостаточно хорошо поняли новый материал</a:t>
            </a:r>
            <a:r>
              <a:rPr b="1" lang="ru-RU" sz="3200" spc="-1" strike="noStrike">
                <a:solidFill>
                  <a:srgbClr val="ffcc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ного цвета: если вам было скучно, вы ничего не поняли из нов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1214280" y="785880"/>
            <a:ext cx="64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 п.34, 254, 2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рямоугольник 1" descr=""/>
          <p:cNvPicPr/>
          <p:nvPr/>
        </p:nvPicPr>
        <p:blipFill>
          <a:blip r:embed="rId1"/>
          <a:stretch/>
        </p:blipFill>
        <p:spPr>
          <a:xfrm>
            <a:off x="-426960" y="1030320"/>
            <a:ext cx="982008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1143000" y="857160"/>
            <a:ext cx="6357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сли вы хотите научиться плава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смело входите в вод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 если хотите научиться решать зада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о решайт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.Пой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928800" y="785880"/>
            <a:ext cx="7358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ческая работа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мерьте острые углы каждого треугольника и найдите их сумму, запишите в таблиц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делайте выво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642960" y="857160"/>
            <a:ext cx="7572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ывод: сумма острых углов прямоугольного треугольника равна 90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                              А+    В= 9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                                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ый треугольник 2"/>
          <p:cNvSpPr/>
          <p:nvPr/>
        </p:nvSpPr>
        <p:spPr>
          <a:xfrm>
            <a:off x="1785960" y="3929040"/>
            <a:ext cx="3286080" cy="2143080"/>
          </a:xfrm>
          <a:prstGeom prst="rtTriangl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785960" y="5786280"/>
            <a:ext cx="357120" cy="28584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5"/>
          <p:cNvSpPr/>
          <p:nvPr/>
        </p:nvSpPr>
        <p:spPr>
          <a:xfrm flipH="1">
            <a:off x="4428720" y="357192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7"/>
          <p:cNvSpPr/>
          <p:nvPr/>
        </p:nvSpPr>
        <p:spPr>
          <a:xfrm>
            <a:off x="4429080" y="3786120"/>
            <a:ext cx="2142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9"/>
          <p:cNvSpPr/>
          <p:nvPr/>
        </p:nvSpPr>
        <p:spPr>
          <a:xfrm flipH="1">
            <a:off x="5285880" y="3500280"/>
            <a:ext cx="142920" cy="214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10"/>
          <p:cNvSpPr/>
          <p:nvPr/>
        </p:nvSpPr>
        <p:spPr>
          <a:xfrm>
            <a:off x="5286240" y="3714840"/>
            <a:ext cx="21456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642960" y="78588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актическая работ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змерьте длины гипотенузы и катета, лежащего против угла в 30°.  Сравните 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делайте 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1143000" y="785880"/>
            <a:ext cx="6357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ывод: катет, лежащий против угла в 30°, равен половине гипотенуз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                       А= 3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С=1/2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                      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ый треугольник 2"/>
          <p:cNvSpPr/>
          <p:nvPr/>
        </p:nvSpPr>
        <p:spPr>
          <a:xfrm>
            <a:off x="1571760" y="3071880"/>
            <a:ext cx="2428920" cy="2428920"/>
          </a:xfrm>
          <a:prstGeom prst="rtTriangl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1571760" y="5286240"/>
            <a:ext cx="500040" cy="214560"/>
          </a:xfrm>
          <a:prstGeom prst="rect">
            <a:avLst/>
          </a:prstGeom>
          <a:solidFill>
            <a:srgbClr val="c0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лилиния 7"/>
          <p:cNvSpPr/>
          <p:nvPr/>
        </p:nvSpPr>
        <p:spPr>
          <a:xfrm>
            <a:off x="1593720" y="3490920"/>
            <a:ext cx="331920" cy="100080"/>
          </a:xfrm>
          <a:prstGeom prst="pi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9"/>
          <p:cNvSpPr/>
          <p:nvPr/>
        </p:nvSpPr>
        <p:spPr>
          <a:xfrm flipH="1">
            <a:off x="3857400" y="2928960"/>
            <a:ext cx="14292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>
            <a:off x="3857760" y="3143160"/>
            <a:ext cx="2142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857680" y="357120"/>
            <a:ext cx="50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1695600"/>
            <a:ext cx="69609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357120" y="642960"/>
            <a:ext cx="8001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один из острых углов равен 18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 Найдите второй острый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те длину катета прямоугольного треугольника, лежащего против угла в 30°, если длина гипотенузы равна 1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дача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йдите длину гипотенузы прямоугольного треугольника, если катет, лежащий против угла в 30°, равен 15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1:21:51Z</dcterms:created>
  <dc:creator>508-02</dc:creator>
  <dc:description/>
  <dc:language>en-US</dc:language>
  <cp:lastModifiedBy>503kab</cp:lastModifiedBy>
  <dcterms:modified xsi:type="dcterms:W3CDTF">2013-04-18T08:04:48Z</dcterms:modified>
  <cp:revision>10</cp:revision>
  <dc:subject/>
  <dc:title>Слайд 1</dc:title>
</cp:coreProperties>
</file>