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E56-EF93-442F-B2DD-87116F52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655-2768-46B4-BE5C-E0F4058D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6C1-03F7-4F7D-9F5A-7F3CC0A8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A69-B279-418F-A94D-1209C3BA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49A6-EFFF-42DD-8B3D-2B517FBC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022F-FFF8-4638-A34E-D8C32658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1AE0-E7EA-4109-A42C-3BB06BC0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E548-B590-419F-952B-085263CF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0D52-85D1-4EB5-B176-24A15099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2CE7-C69A-4B02-9F9F-237DA206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8CFD-D0BD-4052-A2DB-131CACA2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C59-D37E-487F-8162-B3247ECA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26A5-C028-4B9D-9874-6903687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873F-6DDB-4B12-AA06-DA77AB6A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A994-CE5D-49FC-AFDE-10CD5EEF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EC9E-0C15-4C48-8E6D-A2E284AA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4349-7B00-42F8-B52A-B3984AEE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EFE-7031-432C-AF35-EE43EFA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097-CA1B-44CA-9D48-8A305F72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0B3-F852-495C-9CAC-805B32DD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222-E51C-4874-9814-4D21A26C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0AB-428D-47DD-A549-1A78AD75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69B-2399-4B54-B8E0-141031D0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CF1-2C0F-4203-B650-EEA311F7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2E4B-DE5C-420A-A9BF-9E8C097780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68EA-2E18-4FC0-AAB9-81618482C11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6480" y="841320"/>
            <a:ext cx="9156960" cy="3346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000400" y="4142880"/>
            <a:ext cx="41432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. руководитель 10 А к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амонова О. 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.05.2011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357120" y="21420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ный ч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9440" y="357120"/>
            <a:ext cx="8906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19160" y="785880"/>
            <a:ext cx="8839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28760" y="79200"/>
            <a:ext cx="8215200" cy="67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42920" y="571680"/>
            <a:ext cx="8858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ь японского воспитания – это гражданская оборона. Приемы гражданской обороны японцы отрабатывают с малых лет, и тренировки идут постоянно. Разумеется, во многих семьях есть свой «тревожный чемоданчик», запас еды и медика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«тревожном чемоданчике» есть сухой паек (печенье или сухари, шоколад, растворимая лапша) и запас воды, рассчитанный на три дня, фонарик, запасные батарейки, радиоприемник, специальный радиомаяк, свисток, чтобы подавать сигна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ть еще рекомендованный список вещей, которые наверняка пригодятся: ксерокопии документов, аккумулятор для мобильного телефона, средства личной гигиены, обувь (на случай если во время землетрясения человек выбежал из дома, не успев обуться), блокнот с необходимыми номерами телефонов и наличные день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0" t="0" r="0" b="8287"/>
          <a:stretch/>
        </p:blipFill>
        <p:spPr>
          <a:xfrm>
            <a:off x="1143000" y="214200"/>
            <a:ext cx="6961320" cy="6473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0880" y="26820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205920" cy="17128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142920" y="1357200"/>
            <a:ext cx="9001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ыросло несколько поколений граждан России, не осознающих сам факт того, что перед лицом угрозы они совершенно не защищены. У них нет не только теоретической базы поведения в условиях ЧС, у них нет даже банального понимания того, что постоянная готовность к экстремальной ситуации — вполне нормальное состояние человека. Чрезвычайную ситуацию нельзя предугадать. Никто не знает, когда и где вспыхнет очередное бедствие. Быть может, за сотни километров, а может, под окнами вашего дома. И как бы не стали развиваться события, шанс выжить будет у того, кто будет подготовлен к чрезвычайной ситуации, как морально, так и физически. Одним из факторов такой готовности определяется наличием так называемого «тревожного чемоданчика»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142920" y="1285920"/>
            <a:ext cx="9001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Тревожный чемоданчик» для гражданских лиц — заранее собранный комплект вещей, необходимых каждому человеку на случай любой внезапно возникшей чрезвычайной ситуации, которая будет вынуждать в кратчайшие сроки покинуть родной дом и город. Правильно укомплектованный тревожный чемоданчик должен обеспечивать автономное существование человека в большинстве экстремальных ситуаций, когда поблизости нет воды, еды, тепла, крыши над голо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таким комплектом вы уверено сможе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еративно покинуть своё жилище, если внезапно окажитесь в зоне локальной чрезвычайной ситуации — пожара, наводнения, землетрясения, обвала грунта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вакуироваться из города, района, области при чрезвычайной ситуации областного масштаба, такой как техногенная или биологическая катастроф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рываться от преслед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жать из зоны вооружённого конфли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иться в любых других экстремальных ситуац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Тревожный чемоданчик», как правило, комплектуется на 40-50% под конкретного человека. И вполне возможно, что вы захотите включить в тревожный рюкзак какие-то вещи, не упомянутые нами — это нормально и абсолютно правильно. Например, если у вас плохое зрение, то в тревожный комплект необходимо включить очки в твёрдом футляре и несколько наборов контактных линз с сопутствующими средствами для ухода. А если вы страдаете какими-то хроническими заболеваниями, то помимо стандартного набора медикаментов вы должны включить в свою аптечку ещё и те медикаменты, в которых постоянно нуждаетесь. Главное, надо помнить, что тревожный комплект — это не прогулочный ранец с ноутбуком, а средство, позволяющее не замерзнуть и не умереть с голоду в первые дни трагед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42640" cy="9399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0" y="8571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жданский тревожный чемоданчик, как правило, представляет собой укомплектованный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юкзак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мом от 20 и более литров, содержащий необходимый индивидуальный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инимум одежд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носки простые -2 пары, носки теплые -1пара, перчатки, бельё нательное (лучше термобельё), теплый свитер, плащ-накидка или всесезонная куртка, из обуви – можно кеды)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метов гигиен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зубная паста, зубная щетка, мыло, бритвенный станок с набором лезвий, полотенце, салфетки влажные и пр.)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дикаментов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тандартная аптечка для оказания первой помощи + специфичные для Вас лекарства)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струмент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нож, топорик)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ств индивидуальной защи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противогаз, респиратор, марлевая маска и т.п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0" y="428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дуктов питания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запас воды в пластиковой бутылке, стандартный сухой паёк либо набор продуктов питания длительного хранения (лапша быстрого приготовления, крупы, макароны, сухари, консервы мясные, соль, сахар, высоко калорийные сладости),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телок, чашка, кружка, спички, зажигалк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Так же рекомендуется положить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серокопии документ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не много наличных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Можно добавить фонарик, запасные батарейки, запасной аккумулятор к мобильному телефону, портативный радиоприемник, сухое топли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-6480" y="-262080"/>
            <a:ext cx="9156960" cy="18529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0" y="14288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обязательном порядке каждому гражданину рекомендовано иметь в запасе как минимум два предмета: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ртативный радиоприемник и высококалорийные сладости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оме того, в экстренный набор советуют включить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утылку воды, спальный мешок, фонарик, батарейки, портативный туалет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а также некоторые другие принадлеж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4:24Z</dcterms:created>
  <dc:creator>Мама</dc:creator>
  <dc:description/>
  <dc:language>en-US</dc:language>
  <cp:lastModifiedBy>Ольга</cp:lastModifiedBy>
  <dcterms:modified xsi:type="dcterms:W3CDTF">2013-04-18T19:05:10Z</dcterms:modified>
  <cp:revision>18</cp:revision>
  <dc:subject/>
  <dc:title>Правила поведения при радиационной аварии</dc:title>
</cp:coreProperties>
</file>