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714-B97B-4D85-AE9C-AFC5D2E5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23C5-EDB7-4F32-90E1-F7828052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5E5-BFB8-4CBA-BE38-25518CFA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DCF-7A41-44CF-9AB6-AA7D27AB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8A79-F11C-4704-A7A2-B18B2AB0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B03-2690-4625-8549-78992CA3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D903-20AC-479A-B9A3-CC3E72A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424C-DB05-4956-9BE2-2BB60D84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5A83-4E92-449C-B04E-AE932EDA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8252-354C-4B79-8D4E-027C0EFE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5E64-AAA5-44A7-9BF6-165C1623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EBD6-0838-4D02-86C7-21E9DD5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C0F-8A91-455B-B124-A4E469B8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11F4-C08D-4790-BF59-545BB42A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B5B3-001A-4688-B6EB-A8D4CBFC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367-E43A-4B06-ABD0-58D00E2F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BC0A-1EB5-4FF9-A9F0-A836FCA0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D9C0-31EE-44EB-AE2B-9708F647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F4EC-1316-4E0B-8296-D3143971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50E-B87C-443B-AE1F-6ABB931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DB1-F1CC-4680-8F45-6C6A4B87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57F-389D-4F67-89B1-FAD345B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8CC-E6B2-4394-8FB5-6683E82A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18B-7E86-4A73-84AA-6635AC3A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D846-25C5-4962-A0DD-1E4174FB81A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3D1D-39CF-413D-9298-80DC90645B1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-6480" y="841320"/>
            <a:ext cx="9156960" cy="334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000400" y="4142880"/>
            <a:ext cx="41432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и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. руководитель 10 А к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амонова О. 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.05.2011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357120" y="214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ассный ч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09440" y="357120"/>
            <a:ext cx="890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9160" y="785880"/>
            <a:ext cx="88390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28760" y="79200"/>
            <a:ext cx="8215200" cy="67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42920" y="571680"/>
            <a:ext cx="8858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ь японского воспитания – это гражданская оборона. Приемы гражданской обороны японцы отрабатывают с малых лет, и тренировки идут постоянно. Разумеется, во многих семьях есть свой «тревожный чемоданчик», запас еды и медика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«тревожном чемоданчике» есть сухой паек (печенье или сухари, шоколад, растворимая лапша) и запас воды, рассчитанный на три дня, фонарик, запасные батарейки, радиоприемник, специальный радиомаяк, свисток, чтобы подавать сигн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ть еще рекомендованный список вещей, которые наверняка пригодятся: ксерокопии документов, аккумулятор для мобильного телефона, средства личной гигиены, обувь (на случай если во время землетрясения человек выбежал из дома, не успев обуться), блокнот с необходимыми номерами телефонов и наличные день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0" t="0" r="0" b="8287"/>
          <a:stretch/>
        </p:blipFill>
        <p:spPr>
          <a:xfrm>
            <a:off x="1143000" y="214200"/>
            <a:ext cx="6961320" cy="6473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0880" y="268200"/>
            <a:ext cx="84060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205920" cy="1712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142920" y="1357200"/>
            <a:ext cx="9001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ыросло несколько поколений граждан России, не осознающих сам факт того, что перед лицом угрозы они совершенно не защищены. У них нет не только теоретической базы поведения в условиях ЧС, у них нет даже банального понимания того, что постоянная готовность к экстремальной ситуации — вполне нормальное состояние человека. Чрезвычайную ситуацию нельзя предугадать. Никто не знает, когда и где вспыхнет очередное бедствие. Быть может, за сотни километров, а может, под окнами вашего дома. И как бы не стали развиваться события, шанс выжить будет у того, кто будет подготовлен к чрезвычайной ситуации, как морально, так и физически. Одним из факторов такой готовности определяется наличием так называемого «тревожного чемоданчика»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55160" cy="14335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142920" y="1285920"/>
            <a:ext cx="9001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Тревожный чемоданчик» для гражданских лиц — заранее собранный комплект вещей, необходимых каждому человеку на случай любой внезапно возникшей чрезвычайной ситуации, которая будет вынуждать в кратчайшие сроки покинуть родной дом и город. Правильно укомплектованный тревожный чемоданчик должен обеспечивать автономное существование человека в большинстве экстремальных ситуаций, когда поблизости нет воды, еды, тепла, крыши над голо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таким комплектом вы уверено сможет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еративно покинуть своё жилище, если внезапно окажитесь в зоне локальной чрезвычайной ситуации — пожара, наводнения, землетрясения, обвала грунта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вакуироваться из города, района, области при чрезвычайной ситуации областного масштаба, такой как техногенная или биологическая катастро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рываться от преслед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ежать из зоны вооружённого конфли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ходиться в любых других экстремальных ситуац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Тревожный чемоданчик», как правило, комплектуется на 40-50% под конкретного человека. И вполне возможно, что вы захотите включить в тревожный рюкзак какие-то вещи, не упомянутые нами — это нормально и абсолютно правильно. Например, если у вас плохое зрение, то в тревожный комплект необходимо включить очки в твёрдом футляре и несколько наборов контактных линз с сопутствующими средствами для ухода. А если вы страдаете какими-то хроническими заболеваниями, то помимо стандартного набора медикаментов вы должны включить в свою аптечку ещё и те медикаменты, в которых постоянно нуждаетесь. Главное, надо помнить, что тревожный комплект — это не прогулочный ранец с ноутбуком, а средство, позволяющее не замерзнуть и не умереть с голоду в первые дни трагед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42640" cy="939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0" y="85716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ражданский тревожный чемоданчик, как правило, представляет собой укомплектованны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юкзак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мом от 20 и более литров, содержащий необходимый индивидуальны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инимум одежд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носки простые -2 пары, носки теплые -1пара, перчатки, бельё нательное (лучше термобельё), теплый свитер, плащ-накидка или всесезонная куртка, из обуви – можно кеды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метов гигиен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зубная паста, зубная щетка, мыло, бритвенный станок с набором лезвий, полотенце, салфетки влажные и пр.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дикаменто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тандартная аптечка для оказания первой помощи + специфичные для Вас лекарства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струмент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нож, топорик),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редств индивидуальной защи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противогаз, респиратор, марлевая маска и т.п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0" y="4287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дуктов питания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запас воды в пластиковой бутылке, стандартный сухой паёк либо набор продуктов питания длительного хранения (лапша быстрого приготовления, крупы, макароны, сухари, консервы мясные, соль, сахар, высоко калорийные сладости)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телок, чашка, кружка, спички, зажигалк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Так же рекомендуется положить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серокопии документ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и не много наличных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Можно добавить фонарик, запасные батарейки, запасной аккумулятор к мобильному телефону, портативный радиоприемник, сухое топли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-6480" y="-262080"/>
            <a:ext cx="9156960" cy="18529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0" y="14288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обязательном порядке каждому гражданину рекомендовано иметь в запасе как минимум два предмета: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ртативный радиоприемник и высококалорийные сладости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оме того, в экстренный набор советуют включить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тылку воды, спальный мешок, фонарик, батарейки, портативный туалет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а также некоторые другие принадлеж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4:24Z</dcterms:created>
  <dc:creator>Мама</dc:creator>
  <dc:description/>
  <dc:language>en-US</dc:language>
  <cp:lastModifiedBy>Ольга</cp:lastModifiedBy>
  <dcterms:modified xsi:type="dcterms:W3CDTF">2013-04-18T19:05:10Z</dcterms:modified>
  <cp:revision>18</cp:revision>
  <dc:subject/>
  <dc:title>Правила поведения при радиационной аварии</dc:title>
</cp:coreProperties>
</file>