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D6D4-4292-4B0A-9994-599E7E4B0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935E-9BFE-4A8A-8A78-12EC8F2D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FC1B-7289-42BD-A46C-D5A1EF7D5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83BB-14A4-452F-9F29-58FB21277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F1A4-13F0-47A5-9B18-15631A6A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04B2-50FE-499A-8D1C-8F7A890F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C421-5C94-44EC-8C20-EC3DD596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1AA2-3222-4AE8-9F29-23C7FC33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43CE-30FA-4E0E-8770-37742D92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6290-3B34-44AE-B56D-238E6D0A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0E5D-6E3B-43D8-8C23-5C18D6E0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5A39-79ED-40D6-B890-EFF84AD0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637E-C2B7-4AE1-9C74-7C6C3B2E837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 ПОМОЧЬ РЕБЕНКУ В ВЫБОРЕ ПРОФЕ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ыбор учебного заве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040b"/>
                </a:solidFill>
                <a:latin typeface="Arial"/>
              </a:rPr>
              <a:t>Знакомство со</a:t>
            </a:r>
            <a:r>
              <a:rPr b="0" lang="ru-RU" sz="3200" spc="-1" strike="noStrike">
                <a:solidFill>
                  <a:srgbClr val="01040b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104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40b"/>
                </a:solidFill>
                <a:latin typeface="Arial"/>
              </a:rPr>
              <a:t>структурой учебных заве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104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40b"/>
                </a:solidFill>
                <a:latin typeface="Arial"/>
              </a:rPr>
              <a:t>уровнем получаемого в них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104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40b"/>
                </a:solidFill>
                <a:latin typeface="Arial"/>
              </a:rPr>
              <a:t>вступительных экзаме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104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40b"/>
                </a:solidFill>
                <a:latin typeface="Arial"/>
              </a:rPr>
              <a:t>условиями при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Семья – это пространство, где формируется отношение к работе, профессиональ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40b"/>
                </a:solidFill>
                <a:latin typeface="Arial"/>
              </a:rPr>
              <a:t>Если родители относятся к работе как к значимой части собственной жизни, рассматривают её как средство самореализации и самовыражения, то ребенок усваивает, что удовлетворенность жизнью напрямую связана с рабо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 важнее для счастья и успех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правильно и разумно принятые решения, в том числе правильно выбранное учебное за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самостоятельность и способность справляться с собственной жизн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Передайте ру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стоятельности научить нельз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е можно только д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выпускной класс школы и выбор вуза – самый подходящий момент, чтобы передать ребенку руль его собственной жизни и переместиться на пассажирское си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Главная задача воспитания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18 годам научить человека держать в своих руках собственную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ашине только один вод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о вы хотите видеть за рулем жизни вашего ребен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Приглашаем вас </a:t>
            </a: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в учебный центр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ш адрес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л.Школьная, д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ефон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-23-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оплелова Наталья Станиславов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Правило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Е БОЙТЕСЬ ВЫБИР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м кажется, что вот сейчас решается судьба вашего ребенка. Но это не та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бы он ни выбрал, при любом варианте, у него есть все шансы прожить счастливую и успешную жиз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ому помогите ребенку не воспринимать этот выбор как мучительную необходимость. У него сейчас есть возможность выбрать один из путей, которые ему нравятся и подходя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 в любом случае, все будет хорош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Правило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РАЗБЕРИТЕСЬ В МОТИВАЦИИ РЕБЕН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чем он собирается учить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0 классе, в колледже?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удьте готовы к любому отве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ашего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Правило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НФОРМАЦИЯ –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АЛОГ ПРАВИЛЬНОГО ВЫБО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Где получить информацию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айты учебных заве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ни открытых две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Общение со студентами и преподавате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аше непосредственное окру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Правило 4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ХОЧУ – МОГУ» вашего ребе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351648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 способностей трудно преуспеть в профессии, а без успехов сложно поддерживать мотивацию и интер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2205000"/>
            <a:ext cx="187164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способ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48000" y="2205000"/>
            <a:ext cx="194472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успе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40360" y="2205000"/>
            <a:ext cx="187164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интер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00360" y="2708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64000" y="2708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исследовать способност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799308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робуйте разные за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метьте, что у него хорошо получ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е и примите, что ему точно не нрав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Правило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АЗВИВАЙТЕ ПРЕДПРИИМЧИВОСТЬ ВАШЕГО РЕБЕН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инятие решения о выборе профе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40b"/>
                </a:solidFill>
                <a:latin typeface="Arial"/>
              </a:rPr>
              <a:t>1. Проанализировать </a:t>
            </a:r>
            <a:r>
              <a:rPr b="1" lang="ru-RU" sz="2400" spc="-1" strike="noStrike">
                <a:solidFill>
                  <a:srgbClr val="01040b"/>
                </a:solidFill>
                <a:latin typeface="Arial"/>
              </a:rPr>
              <a:t>три основных фактора</a:t>
            </a:r>
            <a:r>
              <a:rPr b="0" lang="ru-RU" sz="2400" spc="-1" strike="noStrike">
                <a:solidFill>
                  <a:srgbClr val="01040b"/>
                </a:solidFill>
                <a:latin typeface="Arial"/>
              </a:rPr>
              <a:t>, чтобы найти оптимальные варианты и реализовать свой план в дей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40b"/>
                </a:solidFill>
                <a:latin typeface="Arial"/>
              </a:rPr>
              <a:t>2. Обозначить несколько </a:t>
            </a:r>
            <a:r>
              <a:rPr b="1" lang="ru-RU" sz="2400" spc="-1" strike="noStrike">
                <a:solidFill>
                  <a:srgbClr val="01040b"/>
                </a:solidFill>
                <a:latin typeface="Arial"/>
              </a:rPr>
              <a:t>альтернативных вариантов</a:t>
            </a:r>
            <a:r>
              <a:rPr b="0" lang="ru-RU" sz="2400" spc="-1" strike="noStrike">
                <a:solidFill>
                  <a:srgbClr val="01040b"/>
                </a:solidFill>
                <a:latin typeface="Arial"/>
              </a:rPr>
              <a:t> профессионального выб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40b"/>
                </a:solidFill>
                <a:latin typeface="Arial"/>
              </a:rPr>
              <a:t>3. Оценить вместе с подростком </a:t>
            </a:r>
            <a:r>
              <a:rPr b="1" lang="ru-RU" sz="2400" spc="-1" strike="noStrike">
                <a:solidFill>
                  <a:srgbClr val="01040b"/>
                </a:solidFill>
                <a:latin typeface="Arial"/>
              </a:rPr>
              <a:t>достоинства и недостатки</a:t>
            </a:r>
            <a:r>
              <a:rPr b="0" lang="ru-RU" sz="2400" spc="-1" strike="noStrike">
                <a:solidFill>
                  <a:srgbClr val="01040b"/>
                </a:solidFill>
                <a:latin typeface="Arial"/>
              </a:rPr>
              <a:t> каждого вариа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40b"/>
                </a:solidFill>
                <a:latin typeface="Arial"/>
              </a:rPr>
              <a:t>4. Помочь исследовать </a:t>
            </a:r>
            <a:r>
              <a:rPr b="1" lang="ru-RU" sz="2400" spc="-1" strike="noStrike">
                <a:solidFill>
                  <a:srgbClr val="01040b"/>
                </a:solidFill>
                <a:latin typeface="Arial"/>
              </a:rPr>
              <a:t>шансы</a:t>
            </a:r>
            <a:r>
              <a:rPr b="0" lang="ru-RU" sz="2400" spc="-1" strike="noStrike">
                <a:solidFill>
                  <a:srgbClr val="01040b"/>
                </a:solidFill>
                <a:latin typeface="Arial"/>
              </a:rPr>
              <a:t> его успешности в каждом выборе и просчитать </a:t>
            </a:r>
            <a:r>
              <a:rPr b="1" lang="ru-RU" sz="2400" spc="-1" strike="noStrike">
                <a:solidFill>
                  <a:srgbClr val="01040b"/>
                </a:solidFill>
                <a:latin typeface="Arial"/>
              </a:rPr>
              <a:t>последствия</a:t>
            </a:r>
            <a:r>
              <a:rPr b="0" lang="ru-RU" sz="2400" spc="-1" strike="noStrike">
                <a:solidFill>
                  <a:srgbClr val="01040b"/>
                </a:solidFill>
                <a:latin typeface="Arial"/>
              </a:rPr>
              <a:t> каждого вариа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40b"/>
                </a:solidFill>
                <a:latin typeface="Arial"/>
              </a:rPr>
              <a:t>5. Продумать вместе с ребенком </a:t>
            </a:r>
            <a:r>
              <a:rPr b="1" lang="ru-RU" sz="2400" spc="-1" strike="noStrike">
                <a:solidFill>
                  <a:srgbClr val="01040b"/>
                </a:solidFill>
                <a:latin typeface="Arial"/>
              </a:rPr>
              <a:t>запасные варианты</a:t>
            </a:r>
            <a:r>
              <a:rPr b="0" lang="ru-RU" sz="2400" spc="-1" strike="noStrike">
                <a:solidFill>
                  <a:srgbClr val="01040b"/>
                </a:solidFill>
                <a:latin typeface="Arial"/>
              </a:rPr>
              <a:t> на случай затруднения в реализации основного пл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comp6-1</cp:lastModifiedBy>
  <dcterms:modified xsi:type="dcterms:W3CDTF">2013-04-17T12:56:30Z</dcterms:modified>
  <cp:revision>190</cp:revision>
  <dc:subject/>
  <dc:title>Diapositiva 1</dc:title>
</cp:coreProperties>
</file>