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8D74-C70D-4B8D-ABAE-DFA98B4F8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E5C8-5874-4DD5-BFF9-37A4A31B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0CC9-9E2E-4EB4-A5E3-EA1A999A0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7FB3-71A5-469F-ADA4-D80760AC4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F90C-11A5-4077-992F-69EC4979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8E6B-3E7B-41A7-9431-791FBE09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9FA8-A77E-422E-96EF-8C74453C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9196-20B8-4BA9-AE6F-96F268D7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07F4-86EA-4371-866C-A48FEDB5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7144-64E8-415B-95F7-B29DA82C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885D-5392-4ACA-9272-67B70BF7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A9E8-B6A5-4F72-B5E1-690A35C2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3D03-8FAC-4F31-B32E-EA04B37406B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 ПОМОЧЬ РЕБЕНКУ В ВЫБОРЕ ПРОФЕ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ыбор учебного заве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040b"/>
                </a:solidFill>
                <a:latin typeface="Arial"/>
              </a:rPr>
              <a:t>Знакомство со</a:t>
            </a:r>
            <a:r>
              <a:rPr b="0" lang="ru-RU" sz="3200" spc="-1" strike="noStrike">
                <a:solidFill>
                  <a:srgbClr val="01040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104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40b"/>
                </a:solidFill>
                <a:latin typeface="Arial"/>
              </a:rPr>
              <a:t>структурой учебных заве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104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40b"/>
                </a:solidFill>
                <a:latin typeface="Arial"/>
              </a:rPr>
              <a:t>уровнем получаемого в них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104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40b"/>
                </a:solidFill>
                <a:latin typeface="Arial"/>
              </a:rPr>
              <a:t>вступительных экзаме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104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40b"/>
                </a:solidFill>
                <a:latin typeface="Arial"/>
              </a:rPr>
              <a:t>условиями при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9640" y="54936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Семья – это пространство, где формируется отношение к работе, профессиональ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1040b"/>
                </a:solidFill>
                <a:latin typeface="Arial"/>
              </a:rPr>
              <a:t>Если родители относятся к работе как к значимой части собственной жизни, рассматривают её как средство самореализации и самовыражения, то ребенок усваивает, что удовлетворенность жизнью напрямую связана с раб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важнее для счастья и успех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правильно и разумно принятые решения, в том числе правильно выбранное учебное за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самостоятельность и способность справляться с собственной жизн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Передайте ру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стоятельности научить нельз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е можно только д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выпускной класс школы и выбор вуза – самый подходящий момент, чтобы передать ребенку руль его собственной жизни и переместиться на пассажирское си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Главная задача воспитания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18 годам научить человека держать в своих руках собственную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ашине только один вод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о вы хотите видеть за рулем жизни вашего ребен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Приглашаем вас </a:t>
            </a: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в учебный центр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ш адрес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л.Школьная, д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ефон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-23-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оплелова Наталья Станиславов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Правило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Е БОЙТЕСЬ ВЫБИР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м кажется, что вот сейчас решается судьба вашего ребенка. Но это не та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бы он ни выбрал, при любом варианте, у него есть все шансы прожить счастливую и успешную жиз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ому помогите ребенку не воспринимать этот выбор как мучительную необходимость. У него сейчас есть возможность выбрать один из путей, которые ему нравятся и подходя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 в любом случае, все будет хорош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Правило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АЗБЕРИТЕСЬ В МОТИВАЦИИ РЕБЕН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чем он собирается учить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0 классе, в колледже?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удьте готовы к любому отве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ашего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Правило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НФОРМАЦИЯ –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АЛОГ ПРАВИЛЬНОГО ВЫБО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Где получить информацию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айты учебных заве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ни открытых две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Общение со студентами и преподават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аше непосредственное окру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Правило 4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ХОЧУ – МОГУ» вашего ребе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351648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 способностей трудно преуспеть в профессии, а без успехов сложно поддерживать мотивацию и интер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2205000"/>
            <a:ext cx="187164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пособ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48000" y="2205000"/>
            <a:ext cx="194472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успе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0360" y="2205000"/>
            <a:ext cx="187164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интер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0036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64000" y="2708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исследовать способност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799308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робуйте разные за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метьте, что у него хорошо получ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е и примите, что ему точно не нрав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Правило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АЗВИВАЙТЕ ПРЕДПРИИМЧИВОСТЬ ВАШЕГО РЕБЕН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инятие решения о выборе профе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40b"/>
                </a:solidFill>
                <a:latin typeface="Arial"/>
              </a:rPr>
              <a:t>1. Проанализировать </a:t>
            </a:r>
            <a:r>
              <a:rPr b="1" lang="ru-RU" sz="2400" spc="-1" strike="noStrike">
                <a:solidFill>
                  <a:srgbClr val="01040b"/>
                </a:solidFill>
                <a:latin typeface="Arial"/>
              </a:rPr>
              <a:t>три основных фактора</a:t>
            </a:r>
            <a:r>
              <a:rPr b="0" lang="ru-RU" sz="2400" spc="-1" strike="noStrike">
                <a:solidFill>
                  <a:srgbClr val="01040b"/>
                </a:solidFill>
                <a:latin typeface="Arial"/>
              </a:rPr>
              <a:t>, чтобы найти оптимальные варианты и реализовать свой план в дей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40b"/>
                </a:solidFill>
                <a:latin typeface="Arial"/>
              </a:rPr>
              <a:t>2. Обозначить несколько </a:t>
            </a:r>
            <a:r>
              <a:rPr b="1" lang="ru-RU" sz="2400" spc="-1" strike="noStrike">
                <a:solidFill>
                  <a:srgbClr val="01040b"/>
                </a:solidFill>
                <a:latin typeface="Arial"/>
              </a:rPr>
              <a:t>альтернативных вариантов</a:t>
            </a:r>
            <a:r>
              <a:rPr b="0" lang="ru-RU" sz="2400" spc="-1" strike="noStrike">
                <a:solidFill>
                  <a:srgbClr val="01040b"/>
                </a:solidFill>
                <a:latin typeface="Arial"/>
              </a:rPr>
              <a:t> профессионального выб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40b"/>
                </a:solidFill>
                <a:latin typeface="Arial"/>
              </a:rPr>
              <a:t>3. Оценить вместе с подростком </a:t>
            </a:r>
            <a:r>
              <a:rPr b="1" lang="ru-RU" sz="2400" spc="-1" strike="noStrike">
                <a:solidFill>
                  <a:srgbClr val="01040b"/>
                </a:solidFill>
                <a:latin typeface="Arial"/>
              </a:rPr>
              <a:t>достоинства и недостатки</a:t>
            </a:r>
            <a:r>
              <a:rPr b="0" lang="ru-RU" sz="2400" spc="-1" strike="noStrike">
                <a:solidFill>
                  <a:srgbClr val="01040b"/>
                </a:solidFill>
                <a:latin typeface="Arial"/>
              </a:rPr>
              <a:t> каждого вариа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40b"/>
                </a:solidFill>
                <a:latin typeface="Arial"/>
              </a:rPr>
              <a:t>4. Помочь исследовать </a:t>
            </a:r>
            <a:r>
              <a:rPr b="1" lang="ru-RU" sz="2400" spc="-1" strike="noStrike">
                <a:solidFill>
                  <a:srgbClr val="01040b"/>
                </a:solidFill>
                <a:latin typeface="Arial"/>
              </a:rPr>
              <a:t>шансы</a:t>
            </a:r>
            <a:r>
              <a:rPr b="0" lang="ru-RU" sz="2400" spc="-1" strike="noStrike">
                <a:solidFill>
                  <a:srgbClr val="01040b"/>
                </a:solidFill>
                <a:latin typeface="Arial"/>
              </a:rPr>
              <a:t> его успешности в каждом выборе и просчитать </a:t>
            </a:r>
            <a:r>
              <a:rPr b="1" lang="ru-RU" sz="2400" spc="-1" strike="noStrike">
                <a:solidFill>
                  <a:srgbClr val="01040b"/>
                </a:solidFill>
                <a:latin typeface="Arial"/>
              </a:rPr>
              <a:t>последствия</a:t>
            </a:r>
            <a:r>
              <a:rPr b="0" lang="ru-RU" sz="2400" spc="-1" strike="noStrike">
                <a:solidFill>
                  <a:srgbClr val="01040b"/>
                </a:solidFill>
                <a:latin typeface="Arial"/>
              </a:rPr>
              <a:t> каждого вариа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40b"/>
                </a:solidFill>
                <a:latin typeface="Arial"/>
              </a:rPr>
              <a:t>5. Продумать вместе с ребенком </a:t>
            </a:r>
            <a:r>
              <a:rPr b="1" lang="ru-RU" sz="2400" spc="-1" strike="noStrike">
                <a:solidFill>
                  <a:srgbClr val="01040b"/>
                </a:solidFill>
                <a:latin typeface="Arial"/>
              </a:rPr>
              <a:t>запасные варианты</a:t>
            </a:r>
            <a:r>
              <a:rPr b="0" lang="ru-RU" sz="2400" spc="-1" strike="noStrike">
                <a:solidFill>
                  <a:srgbClr val="01040b"/>
                </a:solidFill>
                <a:latin typeface="Arial"/>
              </a:rPr>
              <a:t> на случай затруднения в реализации основного пл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comp6-1</cp:lastModifiedBy>
  <dcterms:modified xsi:type="dcterms:W3CDTF">2013-04-17T12:56:30Z</dcterms:modified>
  <cp:revision>190</cp:revision>
  <dc:subject/>
  <dc:title>Diapositiva 1</dc:title>
</cp:coreProperties>
</file>