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BFB-E2D7-462E-AA05-7E700EAA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16D-49CF-4A85-8AD6-0BCAE51A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C23-C6AD-4A26-BBDC-73DFF991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BA15-21B5-4B48-8CFF-F4F7BA86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E58-EDD2-4403-B3CD-91C1A6F8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35CC-D058-44F8-B593-58A1E64D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B01-2FCE-4518-A7D0-C8574AA4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561-CE70-4B63-AEF2-BBEF6C83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CBA-4F8C-43C6-9034-2117601D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2DA-7826-4DCB-AAB5-BBA36F9C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444B-5ADF-44A0-A2C5-951ADA61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ACF-9512-47B5-AAC1-CE1C0AC8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4410-F42D-4E43-AFC4-280114A1F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5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1413000"/>
            <a:ext cx="6985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ЧЕТ В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ДЕЛАХ 20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>
            <a:alpha val="6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4"/>
          <p:cNvSpPr txBox="1"/>
          <p:nvPr/>
        </p:nvSpPr>
        <p:spPr>
          <a:xfrm>
            <a:off x="611280" y="333360"/>
            <a:ext cx="5905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МОГИ ПРИНЦЕСЕ СОБРАТЬ ЦВЕТЫ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5" descr="ТУРЦИЯ 2006 год 479"/>
          <p:cNvPicPr/>
          <p:nvPr/>
        </p:nvPicPr>
        <p:blipFill>
          <a:blip r:embed="rId1"/>
          <a:stretch/>
        </p:blipFill>
        <p:spPr>
          <a:xfrm>
            <a:off x="7215120" y="785880"/>
            <a:ext cx="1217520" cy="1944720"/>
          </a:xfrm>
          <a:prstGeom prst="rect">
            <a:avLst/>
          </a:prstGeom>
          <a:ln w="0">
            <a:noFill/>
          </a:ln>
        </p:spPr>
      </p:pic>
      <p:sp>
        <p:nvSpPr>
          <p:cNvPr id="44" name="Freeform 8"/>
          <p:cNvSpPr/>
          <p:nvPr/>
        </p:nvSpPr>
        <p:spPr>
          <a:xfrm>
            <a:off x="1258920" y="1892160"/>
            <a:ext cx="6458040" cy="44164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9"/>
          <p:cNvSpPr/>
          <p:nvPr/>
        </p:nvSpPr>
        <p:spPr>
          <a:xfrm>
            <a:off x="971640" y="2421000"/>
            <a:ext cx="5989680" cy="41767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2681280" y="20811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+9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1817640" y="3232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+8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4769280" y="26557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-8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419640" y="4508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3473280" y="4384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+8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6426720" y="39528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-8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274360" y="60404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-9=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78880" y="2060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2413800" y="3165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5437440" y="2589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4069440" y="4317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709488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5942520" y="5973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4" descr="ТУРЦИЯ 2006 год 1002"/>
          <p:cNvPicPr/>
          <p:nvPr/>
        </p:nvPicPr>
        <p:blipFill>
          <a:blip r:embed="rId2"/>
          <a:stretch/>
        </p:blipFill>
        <p:spPr>
          <a:xfrm>
            <a:off x="1835280" y="1700280"/>
            <a:ext cx="874440" cy="102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ТУРЦИЯ 2006 год 1023"/>
          <p:cNvPicPr/>
          <p:nvPr/>
        </p:nvPicPr>
        <p:blipFill>
          <a:blip r:embed="rId3"/>
          <a:stretch/>
        </p:blipFill>
        <p:spPr>
          <a:xfrm>
            <a:off x="1042920" y="2421000"/>
            <a:ext cx="865080" cy="108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ТУРЦИЯ 2006 год 1025"/>
          <p:cNvPicPr/>
          <p:nvPr/>
        </p:nvPicPr>
        <p:blipFill>
          <a:blip r:embed="rId4"/>
          <a:stretch/>
        </p:blipFill>
        <p:spPr>
          <a:xfrm>
            <a:off x="3995640" y="249228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ТУРЦИЯ 2006 год 1019"/>
          <p:cNvPicPr/>
          <p:nvPr/>
        </p:nvPicPr>
        <p:blipFill>
          <a:blip r:embed="rId5"/>
          <a:stretch/>
        </p:blipFill>
        <p:spPr>
          <a:xfrm>
            <a:off x="2627280" y="3716280"/>
            <a:ext cx="1009800" cy="771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8" descr="ТУРЦИЯ 2006 год 1017"/>
          <p:cNvPicPr/>
          <p:nvPr/>
        </p:nvPicPr>
        <p:blipFill>
          <a:blip r:embed="rId6"/>
          <a:stretch/>
        </p:blipFill>
        <p:spPr>
          <a:xfrm>
            <a:off x="5508720" y="378936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9" descr="ТУРЦИЯ 2006 год 1014"/>
          <p:cNvPicPr/>
          <p:nvPr/>
        </p:nvPicPr>
        <p:blipFill>
          <a:blip r:embed="rId7"/>
          <a:stretch/>
        </p:blipFill>
        <p:spPr>
          <a:xfrm>
            <a:off x="3995640" y="5157720"/>
            <a:ext cx="1379520" cy="1236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0" descr="ТУРЦИЯ 2006 год 1001"/>
          <p:cNvPicPr/>
          <p:nvPr/>
        </p:nvPicPr>
        <p:blipFill>
          <a:blip r:embed="rId8"/>
          <a:stretch/>
        </p:blipFill>
        <p:spPr>
          <a:xfrm>
            <a:off x="684360" y="4437000"/>
            <a:ext cx="194292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7:24:10Z</dcterms:created>
  <dc:creator>Гайдаров</dc:creator>
  <dc:description/>
  <dc:language>en-US</dc:language>
  <cp:lastModifiedBy>Наталья</cp:lastModifiedBy>
  <dcterms:modified xsi:type="dcterms:W3CDTF">2008-03-06T11:05:39Z</dcterms:modified>
  <cp:revision>4</cp:revision>
  <dc:subject/>
  <dc:title>Слайд 1</dc:title>
</cp:coreProperties>
</file>