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6D5-EFAA-435E-BB6B-FF79241E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149-2166-4553-A81E-22753CD5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44A-79A1-41AA-A586-B15D739C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19F-DD05-49B9-88CE-DF3C1546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258-F5C8-40E9-BD9B-04B85897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40F-10AF-43C5-BC19-3BD4BBBD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15F-6035-4825-AC5E-E5094E0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691-8CB9-4D7A-9BE9-5DB21D21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3E1-E544-4F8E-9A8E-159215DC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47F-46C9-4E76-8DC9-98652FF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3FF-62B3-461F-BEA6-EFBD3DFD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BE7-453C-489D-A2F5-1F6E80A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8F3-8E19-4065-9493-369B3843A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41300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ЧЕТ 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ЕЛАХ 20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611280" y="333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И ПРИНЦЕСЕ СОБРАТЬ ЦВЕТЫ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ТУРЦИЯ 2006 год 479"/>
          <p:cNvPicPr/>
          <p:nvPr/>
        </p:nvPicPr>
        <p:blipFill>
          <a:blip r:embed="rId1"/>
          <a:stretch/>
        </p:blipFill>
        <p:spPr>
          <a:xfrm>
            <a:off x="7215120" y="785880"/>
            <a:ext cx="121752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Freeform 8"/>
          <p:cNvSpPr/>
          <p:nvPr/>
        </p:nvSpPr>
        <p:spPr>
          <a:xfrm>
            <a:off x="1258920" y="1892160"/>
            <a:ext cx="6458040" cy="44164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971640" y="2421000"/>
            <a:ext cx="5989680" cy="4176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681280" y="208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+9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817640" y="3232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+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769280" y="26557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-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41964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473280" y="438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+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6426720" y="3952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-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274360" y="60404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-9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78880" y="20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2413800" y="316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437440" y="258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4069440" y="4317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70948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942520" y="5973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ТУРЦИЯ 2006 год 1002"/>
          <p:cNvPicPr/>
          <p:nvPr/>
        </p:nvPicPr>
        <p:blipFill>
          <a:blip r:embed="rId2"/>
          <a:stretch/>
        </p:blipFill>
        <p:spPr>
          <a:xfrm>
            <a:off x="1835280" y="1700280"/>
            <a:ext cx="874440" cy="102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ТУРЦИЯ 2006 год 1023"/>
          <p:cNvPicPr/>
          <p:nvPr/>
        </p:nvPicPr>
        <p:blipFill>
          <a:blip r:embed="rId3"/>
          <a:stretch/>
        </p:blipFill>
        <p:spPr>
          <a:xfrm>
            <a:off x="1042920" y="2421000"/>
            <a:ext cx="865080" cy="108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ТУРЦИЯ 2006 год 1025"/>
          <p:cNvPicPr/>
          <p:nvPr/>
        </p:nvPicPr>
        <p:blipFill>
          <a:blip r:embed="rId4"/>
          <a:stretch/>
        </p:blipFill>
        <p:spPr>
          <a:xfrm>
            <a:off x="3995640" y="249228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ТУРЦИЯ 2006 год 1019"/>
          <p:cNvPicPr/>
          <p:nvPr/>
        </p:nvPicPr>
        <p:blipFill>
          <a:blip r:embed="rId5"/>
          <a:stretch/>
        </p:blipFill>
        <p:spPr>
          <a:xfrm>
            <a:off x="2627280" y="371628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ТУРЦИЯ 2006 год 1017"/>
          <p:cNvPicPr/>
          <p:nvPr/>
        </p:nvPicPr>
        <p:blipFill>
          <a:blip r:embed="rId6"/>
          <a:stretch/>
        </p:blipFill>
        <p:spPr>
          <a:xfrm>
            <a:off x="5508720" y="378936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ТУРЦИЯ 2006 год 1014"/>
          <p:cNvPicPr/>
          <p:nvPr/>
        </p:nvPicPr>
        <p:blipFill>
          <a:blip r:embed="rId7"/>
          <a:stretch/>
        </p:blipFill>
        <p:spPr>
          <a:xfrm>
            <a:off x="3995640" y="5157720"/>
            <a:ext cx="1379520" cy="123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ТУРЦИЯ 2006 год 1001"/>
          <p:cNvPicPr/>
          <p:nvPr/>
        </p:nvPicPr>
        <p:blipFill>
          <a:blip r:embed="rId8"/>
          <a:stretch/>
        </p:blipFill>
        <p:spPr>
          <a:xfrm>
            <a:off x="684360" y="4437000"/>
            <a:ext cx="19429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7:24:10Z</dcterms:created>
  <dc:creator>Гайдаров</dc:creator>
  <dc:description/>
  <dc:language>en-US</dc:language>
  <cp:lastModifiedBy>Наталья</cp:lastModifiedBy>
  <dcterms:modified xsi:type="dcterms:W3CDTF">2008-03-06T11:05:39Z</dcterms:modified>
  <cp:revision>4</cp:revision>
  <dc:subject/>
  <dc:title>Слайд 1</dc:title>
</cp:coreProperties>
</file>