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DC9-813D-4E05-AF55-476C56F3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895-7B30-4D48-8586-D0B9C02E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1EB7-ABC6-4A96-9DFC-76F62B06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224B-8627-40AC-B583-3DE6EAC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4D99-286D-40C6-B592-BFCB0F82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A173-78C5-4029-A2D1-E7D313A8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56A8-E6EF-440F-ADBC-E7EA72D9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37A9-9851-48D7-8513-07052B4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BA8C-2DCF-4D33-9009-3123D167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2050-27C3-4D07-84BD-97DEF3AA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1B3C-97BE-446C-9D8A-2B764567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3E9-0962-4F5F-8A39-F14EC49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3986-FE3F-4709-9BD3-BB905A71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98E4-B224-4662-996F-AC552DEB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DA71-B3D6-4C2C-BB33-275438BB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7B01-B4BE-4772-AFD1-7ABEA963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FA81-4543-48CB-910B-81396BA0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8CC-40F7-4313-9309-EA1A4A2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81F-4A3A-49AF-9150-EE472C86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1BF-8B01-42D2-833E-6426A61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0B9-8A9B-4C27-8A68-BA1D2659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8B0-8A2D-4173-8BA1-C8D991A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EC1-1045-4CE5-8A3F-459657E4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F62-8CDF-4434-932B-866179D2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65C3-E458-4323-B850-B3CF02C14C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4127-FA20-44C9-B5DE-B18D83C773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e Charles and his s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0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een Elizabeth II is Head of State in many countries besides Britain, including Australia, India and New Zeala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hillip is called the Duke of York and was the son of an Italian pri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ince Charles is the Queen’s second 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incess Anne is the Queen's only daugh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arah was married to the Queen's second son, Prince Andrew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e Political System of the USA, Great Britain and the Russian Federation.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941c"/>
                </a:solidFill>
                <a:latin typeface="Arial"/>
              </a:rPr>
              <a:t>READ and TRANSLATE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lia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ap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bra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rime Min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polit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e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Russian equivalents with their English word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in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abi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nstit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ord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arc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ар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трол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ист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парт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пози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ординиров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арх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5:02:29Z</dcterms:created>
  <dc:creator>ИРИНА</dc:creator>
  <dc:description/>
  <dc:language>en-US</dc:language>
  <cp:lastModifiedBy>User</cp:lastModifiedBy>
  <dcterms:modified xsi:type="dcterms:W3CDTF">2013-04-15T16:51:03Z</dcterms:modified>
  <cp:revision>5</cp:revision>
  <dc:subject/>
  <dc:title>Слайд 1</dc:title>
</cp:coreProperties>
</file>