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8E3-0471-4412-97CC-537A83FF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99C-1E39-44A2-AFA6-EDEFC93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C97-E93B-486C-98C5-2DA0354E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8D7-C88C-4DA4-B40A-3ED5C473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E71F-5ACE-4F73-A586-BDD81DAE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7CA6-26DF-407D-8BB2-0E4EBB23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8516-D2A4-407A-BC7F-7F83B90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37A8-F686-4797-99A4-D913AD97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C43D-2764-46BD-9A8B-67F6AE60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1645-25B9-4E94-A977-68A4E978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7328-5FC9-4000-A3E1-5D26C0DB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B60-3F2B-4B64-994E-F2B35E4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B9BA-742E-44FE-99A3-7970AF1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A305-B60C-4A96-8647-4014DE9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BDC-7F9B-4ABD-8F88-3B0FE83E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E10A-BDBF-42BB-A417-22C7A661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4D32-71B7-438C-A003-7A5CDA80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9E2-DBBE-4F40-8469-36B07004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E09-E118-4A09-9FA8-BF5CEDF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07F-132E-4B18-B440-9BD58D47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4C3-CB0E-4E32-A9C7-CEF3D3F9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2EE-49EB-4B93-8165-7F004A6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BE7-FAA4-43D1-ADF3-E502215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78B-FC9E-4563-B4F3-55AC6BE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D10C-70F0-4D2E-9718-DCC81D1C2B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571-B6AD-4BA4-9105-7D41DE3EF9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e Charles and his s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een Elizabeth II is Head of State in many countries besides Britain, including Australia, India and New Zea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hillip is called the Duke of York and was the son of an Italian pri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rince Charles is the Queen’s second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rincess Anne is the Queen's only daugh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arah was married to the Queen's second son, Prince Andre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e Political System of the USA, Great Britain and the Russian Federation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READ and TRANSLAT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e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li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ap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Prime Min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polit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e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atch the Russian equivalents with their English wor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abi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ord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ар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ол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и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парт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пози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ордин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5:02:29Z</dcterms:created>
  <dc:creator>ИРИНА</dc:creator>
  <dc:description/>
  <dc:language>en-US</dc:language>
  <cp:lastModifiedBy>User</cp:lastModifiedBy>
  <dcterms:modified xsi:type="dcterms:W3CDTF">2013-04-15T16:51:03Z</dcterms:modified>
  <cp:revision>5</cp:revision>
  <dc:subject/>
  <dc:title>Слайд 1</dc:title>
</cp:coreProperties>
</file>