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clap.wav" ContentType="audio/x-wav"/>
  <Override PartName="/ppt/media/image2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9.wmf" ContentType="image/x-wmf"/>
  <Override PartName="/ppt/media/glass.wav" ContentType="audio/x-wav"/>
  <Override PartName="/ppt/media/image6.wmf" ContentType="image/x-wmf"/>
  <Override PartName="/ppt/media/image29.wmf" ContentType="image/x-wmf"/>
  <Override PartName="/ppt/media/image24.png" ContentType="image/png"/>
  <Override PartName="/ppt/media/image7.wmf" ContentType="image/x-wmf"/>
  <Override PartName="/ppt/media/image8.wmf" ContentType="image/x-wmf"/>
  <Override PartName="/ppt/media/image26.png" ContentType="image/png"/>
  <Override PartName="/ppt/media/gunshot.wav" ContentType="audio/x-wav"/>
  <Override PartName="/ppt/media/drumroll.wav" ContentType="audio/x-wav"/>
  <Override PartName="/ppt/media/image27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11.wmf" ContentType="image/x-wmf"/>
  <Override PartName="/ppt/media/explod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media/image13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8ADF-A356-4200-A26C-E7EE908467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ните за ани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самоя последняя версия офиса и часть анимации не отображается в 10 слай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598-DD2E-416F-B286-8DC67E5074E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тема(возмож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е знал какая тема будет следующая по этому сделал и 2 следующих и за одно на повтор 2 преведу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D66-8FC1-4BC9-B616-DA33B5D3E12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8F8-16AB-462F-A9E6-B67DC3EF35E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828-E475-4EA2-B8F5-418907E7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4A9-08A1-4435-BB89-AC215FEB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5C8-31CB-49A5-BB05-B299C246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4D5-3AB5-4471-AFA6-162A8B99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84A-70EB-4644-8274-0DDA178E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A8B-F0BC-454A-8AF5-EA3C0B3D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AD28-6E8C-4EFA-9C1D-0425B6D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C7A-2B24-477E-82F0-46F5CE8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954D-FF15-4511-AB01-C29164A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D77-FA09-48B5-B72E-C021D18A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4E4-8018-42FB-9148-9626197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F82-C7F0-47A1-8061-A030C920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E5A5-AD04-407B-8063-F2C9884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30DE-B56F-4E8E-AAB8-1515B84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87D4-C075-4BD8-B5D3-C98E7790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2C31-DE69-445B-9A71-A3ECC9A7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AC43-7B30-454B-AA20-ACD2961D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65C-B7F2-4891-B3A4-7D6C4F9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C25-E42C-4120-8712-D86EBCCE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EC8-C826-495C-9403-4296D4B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610-631C-4285-B255-6C57053F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4A9-22BD-4741-8D27-E0A17EF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7C6-16D7-4B19-902D-B7988C3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7B7-34BE-4C39-B1CB-D8B6FE5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8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D7A-117A-4E34-9201-CF339802D0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778-C54F-45B7-9A6A-519652A0C2E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clap.wav"/><Relationship Id="rId5" Type="http://schemas.openxmlformats.org/officeDocument/2006/relationships/audio" Target="../media/laser.wav"/><Relationship Id="rId6" Type="http://schemas.openxmlformats.org/officeDocument/2006/relationships/audio" Target="../media/clap.wav"/><Relationship Id="rId7" Type="http://schemas.openxmlformats.org/officeDocument/2006/relationships/audio" Target="../media/explode.wav"/><Relationship Id="rId8" Type="http://schemas.openxmlformats.org/officeDocument/2006/relationships/audio" Target="../media/laser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я существительно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зентация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Каржова Юр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5 Клас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7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Мужск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 В мужском  роде нулев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среднем - 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5" descr="AN01124_"/>
          <p:cNvPicPr/>
          <p:nvPr/>
        </p:nvPicPr>
        <p:blipFill>
          <a:blip r:embed="rId1"/>
          <a:stretch/>
        </p:blipFill>
        <p:spPr>
          <a:xfrm>
            <a:off x="6934320" y="457200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O01038_"/>
          <p:cNvPicPr/>
          <p:nvPr/>
        </p:nvPicPr>
        <p:blipFill>
          <a:blip r:embed="rId2"/>
          <a:stretch/>
        </p:blipFill>
        <p:spPr>
          <a:xfrm>
            <a:off x="4361040" y="1638360"/>
            <a:ext cx="1622160" cy="163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E01000_"/>
          <p:cNvPicPr/>
          <p:nvPr/>
        </p:nvPicPr>
        <p:blipFill>
          <a:blip r:embed="rId3"/>
          <a:stretch/>
        </p:blipFill>
        <p:spPr>
          <a:xfrm>
            <a:off x="4495680" y="396252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E01682_"/>
          <p:cNvPicPr/>
          <p:nvPr/>
        </p:nvPicPr>
        <p:blipFill>
          <a:blip r:embed="rId4"/>
          <a:stretch/>
        </p:blipFill>
        <p:spPr>
          <a:xfrm>
            <a:off x="6248520" y="1447920"/>
            <a:ext cx="2577960" cy="2819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6820560" y="41148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лшеб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328640" y="60609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не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377120" y="61372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е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07280" y="315756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лнц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 Женск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 согласный с 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NA00864_"/>
          <p:cNvPicPr/>
          <p:nvPr/>
        </p:nvPicPr>
        <p:blipFill>
          <a:blip r:embed="rId1"/>
          <a:stretch/>
        </p:blipFill>
        <p:spPr>
          <a:xfrm>
            <a:off x="3733920" y="1752480"/>
            <a:ext cx="2743200" cy="270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BS00823_"/>
          <p:cNvPicPr/>
          <p:nvPr/>
        </p:nvPicPr>
        <p:blipFill>
          <a:blip r:embed="rId2"/>
          <a:stretch/>
        </p:blipFill>
        <p:spPr>
          <a:xfrm>
            <a:off x="5562720" y="37339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BD07153_"/>
          <p:cNvPicPr/>
          <p:nvPr/>
        </p:nvPicPr>
        <p:blipFill>
          <a:blip r:embed="rId3"/>
          <a:stretch/>
        </p:blipFill>
        <p:spPr>
          <a:xfrm>
            <a:off x="6781680" y="1447920"/>
            <a:ext cx="1714680" cy="2122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4406040" y="42321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ен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86760" y="590868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ебе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7072920" y="3317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ча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75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75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деж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5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м.п.  -    Кто? Чт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Род.п.  -  Кого? Чег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Дат.п. - Кому? Чему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Вин.п. – Кого? Чт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Т.п.    - Кем? Чем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Пред.п. – О ком? О чём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PE01000_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895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380880" y="29718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Юля (Им.п.) занимается танцами (Т.п.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8" descr="BD07153_"/>
          <p:cNvPicPr/>
          <p:nvPr/>
        </p:nvPicPr>
        <p:blipFill>
          <a:blip r:embed="rId2"/>
          <a:stretch/>
        </p:blipFill>
        <p:spPr>
          <a:xfrm>
            <a:off x="6781680" y="53352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6629400" y="2590920"/>
            <a:ext cx="200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ма(Им.п.) говорит Наташе (Дат.п.) о своём здоровье (Пред.п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PE01682_"/>
          <p:cNvPicPr/>
          <p:nvPr/>
        </p:nvPicPr>
        <p:blipFill>
          <a:blip r:embed="rId3"/>
          <a:stretch/>
        </p:blipFill>
        <p:spPr>
          <a:xfrm>
            <a:off x="3733920" y="380880"/>
            <a:ext cx="2590560" cy="2400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946680" y="288612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кусник(Им.п) достаё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йчика(Вин.п.) из своей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олшебной шляпы.(Род.п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Найди существительные, определи падеж.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же недолго ждать весн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о в этот полдень ясный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Хоть дни зимы и сочтен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а ещё прекрасн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щё пленяет нас зи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воей широкой гладью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6" descr="SO01380_"/>
          <p:cNvPicPr/>
          <p:nvPr/>
        </p:nvPicPr>
        <p:blipFill>
          <a:blip r:embed="rId1"/>
          <a:stretch/>
        </p:blipFill>
        <p:spPr>
          <a:xfrm>
            <a:off x="755640" y="1665360"/>
            <a:ext cx="369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75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75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75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75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75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ножественное число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апомни!!!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шЁлк – шел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рт – тОрт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алЯр – маля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Ыговор – вЫгово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рЕнер – трЕне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Ерб – гер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черк – пОчер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дрес - адр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EN00349_"/>
          <p:cNvPicPr/>
          <p:nvPr/>
        </p:nvPicPr>
        <p:blipFill>
          <a:blip r:embed="rId1"/>
          <a:stretch/>
        </p:blipFill>
        <p:spPr>
          <a:xfrm>
            <a:off x="380880" y="1523880"/>
            <a:ext cx="2895840" cy="2597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93640" y="3876840"/>
            <a:ext cx="20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зыкант - музыкант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Picture 8" descr="BD08911_"/>
          <p:cNvPicPr/>
          <p:nvPr/>
        </p:nvPicPr>
        <p:blipFill>
          <a:blip r:embed="rId2"/>
          <a:stretch/>
        </p:blipFill>
        <p:spPr>
          <a:xfrm>
            <a:off x="3048120" y="2286000"/>
            <a:ext cx="1828800" cy="2131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728800" y="43340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Хлеб – хлеба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10" descr="PE01838_"/>
          <p:cNvPicPr/>
          <p:nvPr/>
        </p:nvPicPr>
        <p:blipFill>
          <a:blip r:embed="rId3"/>
          <a:stretch/>
        </p:blipFill>
        <p:spPr>
          <a:xfrm>
            <a:off x="609480" y="4724280"/>
            <a:ext cx="1828800" cy="1792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2577960" y="601020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оляр – столя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75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75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75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75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75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75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75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75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457200" y="5257800"/>
          <a:ext cx="1828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57800"/>
                    <a:ext cx="1828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Oval 5"/>
          <p:cNvSpPr/>
          <p:nvPr/>
        </p:nvSpPr>
        <p:spPr>
          <a:xfrm>
            <a:off x="457200" y="685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990720" y="609480"/>
            <a:ext cx="761760" cy="762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09480" y="2057400"/>
            <a:ext cx="53352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533520" y="1295280"/>
            <a:ext cx="106668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67400" y="10573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яб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304920" y="2209680"/>
            <a:ext cx="76176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91440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609480" y="609480"/>
            <a:ext cx="685800" cy="762120"/>
          </a:xfrm>
          <a:prstGeom prst="ellipse">
            <a:avLst/>
          </a:prstGeom>
          <a:gradFill rotWithShape="0">
            <a:gsLst>
              <a:gs pos="0">
                <a:srgbClr val="477647"/>
              </a:gs>
              <a:gs pos="100000">
                <a:srgbClr val="99ff99"/>
              </a:gs>
            </a:gsLst>
            <a:lin ang="189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815480" y="23526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апельсин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80880" y="2819520"/>
            <a:ext cx="13716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1295280" y="3429000"/>
            <a:ext cx="914400" cy="6858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609480" y="3200400"/>
            <a:ext cx="838440" cy="7621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685800" y="3581280"/>
            <a:ext cx="762120" cy="6858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57200" y="4038480"/>
            <a:ext cx="1752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347560" y="4410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помидо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77600" y="601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чу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472720" y="75240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 ботин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7696080" y="838080"/>
            <a:ext cx="45720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6311520" y="1133640"/>
            <a:ext cx="138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лен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по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у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5470560" y="2428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628240" y="250524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де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е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яб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акар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7391520" y="2590920"/>
            <a:ext cx="30456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704560" y="4257720"/>
            <a:ext cx="298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руппа офиц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жен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рен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шофёр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8534520" y="4343400"/>
            <a:ext cx="38088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34"/>
          <p:cNvSpPr/>
          <p:nvPr/>
        </p:nvSpPr>
        <p:spPr>
          <a:xfrm flipV="1">
            <a:off x="1447920" y="533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35"/>
          <p:cNvSpPr/>
          <p:nvPr/>
        </p:nvSpPr>
        <p:spPr>
          <a:xfrm flipV="1">
            <a:off x="990720" y="456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36"/>
          <p:cNvSpPr/>
          <p:nvPr/>
        </p:nvSpPr>
        <p:spPr>
          <a:xfrm flipV="1">
            <a:off x="762120" y="3805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равописание о – ё после шипящих и ц в окончаниях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ле шипящих и ц в окончаниях существительных под ударением пишется буква о, без ударения – 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6" descr="PE03166_"/>
          <p:cNvPicPr/>
          <p:nvPr/>
        </p:nvPicPr>
        <p:blipFill>
          <a:blip r:embed="rId1"/>
          <a:stretch/>
        </p:blipFill>
        <p:spPr>
          <a:xfrm>
            <a:off x="4724280" y="19051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4635360" y="341964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товарище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Picture 8" descr="PE01023_"/>
          <p:cNvPicPr/>
          <p:nvPr/>
        </p:nvPicPr>
        <p:blipFill>
          <a:blip r:embed="rId2"/>
          <a:stretch/>
        </p:blipFill>
        <p:spPr>
          <a:xfrm>
            <a:off x="7086600" y="1752480"/>
            <a:ext cx="1330200" cy="2089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6921360" y="39528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врачо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Picture 10" descr="BD06784_"/>
          <p:cNvPicPr/>
          <p:nvPr/>
        </p:nvPicPr>
        <p:blipFill>
          <a:blip r:embed="rId3"/>
          <a:stretch/>
        </p:blipFill>
        <p:spPr>
          <a:xfrm>
            <a:off x="4343400" y="4038480"/>
            <a:ext cx="1819440" cy="1683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4329360" y="578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юнош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6" dur="7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равописание окончаний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апомни: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молча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ь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сомне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ь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реше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санато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Ма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Ивановн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б арм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лекц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лекто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3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3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3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3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" dur="3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2" dur="3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3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2" dur="3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мя существительное – часть речи, которая обозначает предмет. Имя существительное отвечает на вопрос кто? или  чт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од имен существительных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жской род (лось, нос, компьютер…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Женский род (кнопка, картина, кофта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ний род (небо, облако, солнце…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29" descr="SO01038_"/>
          <p:cNvPicPr/>
          <p:nvPr/>
        </p:nvPicPr>
        <p:blipFill>
          <a:blip r:embed="rId1"/>
          <a:stretch/>
        </p:blipFill>
        <p:spPr>
          <a:xfrm>
            <a:off x="685800" y="12952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30" descr="AN01124_"/>
          <p:cNvPicPr/>
          <p:nvPr/>
        </p:nvPicPr>
        <p:blipFill>
          <a:blip r:embed="rId2"/>
          <a:stretch/>
        </p:blipFill>
        <p:spPr>
          <a:xfrm>
            <a:off x="3048120" y="144792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2" descr="AN02542_"/>
          <p:cNvPicPr/>
          <p:nvPr/>
        </p:nvPicPr>
        <p:blipFill>
          <a:blip r:embed="rId3"/>
          <a:stretch/>
        </p:blipFill>
        <p:spPr>
          <a:xfrm>
            <a:off x="914400" y="3276720"/>
            <a:ext cx="2895480" cy="2798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4"/>
          <p:cNvSpPr/>
          <p:nvPr/>
        </p:nvSpPr>
        <p:spPr>
          <a:xfrm>
            <a:off x="1738080" y="59086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аба ж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1037"/>
          <p:cNvSpPr/>
          <p:nvPr/>
        </p:nvSpPr>
        <p:spPr>
          <a:xfrm>
            <a:off x="685800" y="28954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лнце с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39"/>
          <p:cNvSpPr/>
          <p:nvPr/>
        </p:nvSpPr>
        <p:spPr>
          <a:xfrm>
            <a:off x="3276720" y="304812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ев м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душевлённые и неодушевлённые имена существительные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душевлённые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мена существительные отвечают на вопрос кто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одушевлённые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мена существительные отвечают на вопрос что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6" descr="AN02097_"/>
          <p:cNvPicPr/>
          <p:nvPr/>
        </p:nvPicPr>
        <p:blipFill>
          <a:blip r:embed="rId1"/>
          <a:stretch/>
        </p:blipFill>
        <p:spPr>
          <a:xfrm flipH="1" rot="10800000">
            <a:off x="4572000" y="167616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H01669_"/>
          <p:cNvPicPr/>
          <p:nvPr/>
        </p:nvPicPr>
        <p:blipFill>
          <a:blip r:embed="rId2"/>
          <a:stretch/>
        </p:blipFill>
        <p:spPr>
          <a:xfrm>
            <a:off x="4648320" y="3886200"/>
            <a:ext cx="2438280" cy="201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6539400" y="30132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то?     Цап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310080" y="568008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то?     Кресл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обственные и нарицательные имена существительные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65360"/>
            <a:ext cx="79372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бственные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имена существительные являются названиями единичных предмето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стальные имена существительные  являются нарицательными и пишутся с маленькой буквы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ена существительные только множественного числ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реди имён существительных есть такие, которые имеют форму только множественного чис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5" descr="BD06716_"/>
          <p:cNvPicPr/>
          <p:nvPr/>
        </p:nvPicPr>
        <p:blipFill>
          <a:blip r:embed="rId1"/>
          <a:stretch/>
        </p:blipFill>
        <p:spPr>
          <a:xfrm>
            <a:off x="2971800" y="3962520"/>
            <a:ext cx="177336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D05015_"/>
          <p:cNvPicPr/>
          <p:nvPr/>
        </p:nvPicPr>
        <p:blipFill>
          <a:blip r:embed="rId2"/>
          <a:stretch/>
        </p:blipFill>
        <p:spPr>
          <a:xfrm>
            <a:off x="914400" y="1219320"/>
            <a:ext cx="2352600" cy="2590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3350520" y="1488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есы – мн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8800" y="446076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чки – мн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7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ена существительные только единственного числ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и имён существительных есть такие, которые имеют форму только единственного числ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53000" y="1870200"/>
            <a:ext cx="195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дёж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ловече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елез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к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н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г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рфо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Щаве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вёкл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8" descr="PE01846_"/>
          <p:cNvPicPr/>
          <p:nvPr/>
        </p:nvPicPr>
        <p:blipFill>
          <a:blip r:embed="rId1"/>
          <a:stretch/>
        </p:blipFill>
        <p:spPr>
          <a:xfrm>
            <a:off x="2438280" y="4267080"/>
            <a:ext cx="4114800" cy="2013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E02043_"/>
          <p:cNvPicPr/>
          <p:nvPr/>
        </p:nvPicPr>
        <p:blipFill>
          <a:blip r:embed="rId2"/>
          <a:stretch/>
        </p:blipFill>
        <p:spPr>
          <a:xfrm>
            <a:off x="2743200" y="1447920"/>
            <a:ext cx="1922400" cy="280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3197160" y="4079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етство – ед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881800" y="62136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дёжь – ед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053720" y="15652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ет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75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7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клонение существительного определяется по именительному падежу единственного числа. Это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ачальная форма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имени существительного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Женск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жск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на  - 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6" descr="AN02097_"/>
          <p:cNvPicPr/>
          <p:nvPr/>
        </p:nvPicPr>
        <p:blipFill>
          <a:blip r:embed="rId1"/>
          <a:stretch/>
        </p:blipFill>
        <p:spPr>
          <a:xfrm>
            <a:off x="4191120" y="1752480"/>
            <a:ext cx="1939680" cy="2419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NA00826_"/>
          <p:cNvPicPr/>
          <p:nvPr/>
        </p:nvPicPr>
        <p:blipFill>
          <a:blip r:embed="rId2"/>
          <a:stretch/>
        </p:blipFill>
        <p:spPr>
          <a:xfrm>
            <a:off x="6477120" y="3886200"/>
            <a:ext cx="1498320" cy="172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BD04924_"/>
          <p:cNvPicPr/>
          <p:nvPr/>
        </p:nvPicPr>
        <p:blipFill>
          <a:blip r:embed="rId3"/>
          <a:stretch/>
        </p:blipFill>
        <p:spPr>
          <a:xfrm>
            <a:off x="6781680" y="1676520"/>
            <a:ext cx="1665360" cy="1817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6539400" y="5451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нежин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842880" y="3394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ампоч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329360" y="4003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апл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7:33:34Z</dcterms:created>
  <dc:creator>Ученик</dc:creator>
  <dc:description/>
  <dc:language>en-US</dc:language>
  <cp:lastModifiedBy>310</cp:lastModifiedBy>
  <dcterms:modified xsi:type="dcterms:W3CDTF">2013-04-17T11:40:26Z</dcterms:modified>
  <cp:revision>15</cp:revision>
  <dc:subject/>
  <dc:title>Имя существительное</dc:title>
</cp:coreProperties>
</file>