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25.jpeg" ContentType="image/jpeg"/>
  <Override PartName="/ppt/media/image41.png" ContentType="image/png"/>
  <Override PartName="/ppt/media/image48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2AE2-F776-4AD8-AD74-755049BC1E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E4B3-2420-4A27-A052-ECA8D3FE7A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7C8-5F42-4320-9D0B-C43B3CE9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7D4-FF9A-48E1-8745-FB581071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7A44-4548-4A43-9573-4ACE2DDE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FE0-4F02-4CCB-BFD4-E6DD8019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170-9782-4697-B7D3-C39C2EA4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D57-CE86-4DAE-A6D6-454FB3B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A980-A83B-4866-A6F3-C63BD13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0B4-23BD-49D2-B968-5D55508C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0E2-46C8-414F-A43D-38D0F7E2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E9A-8262-4151-9508-884486A2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8C6-3938-46A2-B4DB-5E9B0B70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4C0-15E0-4F81-9867-FC16D21B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26DF-03B0-4B3C-8D8E-52AAAFAF68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16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Мастер-класс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“Every Man is the Builder of a Temple Called his Bod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Данькова А.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                   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ысше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Other Food</a:t>
            </a: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SimSun"/>
              </a:rPr>
              <a:t> Group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oft dri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h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iscu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ak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SimSun"/>
              </a:rPr>
              <a:t>Swe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MPj03996080000[1]"/>
          <p:cNvPicPr/>
          <p:nvPr/>
        </p:nvPicPr>
        <p:blipFill>
          <a:blip r:embed="rId1"/>
          <a:stretch/>
        </p:blipFill>
        <p:spPr>
          <a:xfrm>
            <a:off x="2195640" y="4076640"/>
            <a:ext cx="2305080" cy="263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Pj04003840000[1]"/>
          <p:cNvPicPr/>
          <p:nvPr/>
        </p:nvPicPr>
        <p:blipFill>
          <a:blip r:embed="rId2"/>
          <a:stretch/>
        </p:blipFill>
        <p:spPr>
          <a:xfrm>
            <a:off x="4140360" y="3500280"/>
            <a:ext cx="2655720" cy="26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MCj04079300000[1]"/>
          <p:cNvPicPr/>
          <p:nvPr/>
        </p:nvPicPr>
        <p:blipFill>
          <a:blip r:embed="rId3"/>
          <a:stretch/>
        </p:blipFill>
        <p:spPr>
          <a:xfrm>
            <a:off x="2771640" y="1341360"/>
            <a:ext cx="2303640" cy="237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MPj04072370000[1]"/>
          <p:cNvPicPr/>
          <p:nvPr/>
        </p:nvPicPr>
        <p:blipFill>
          <a:blip r:embed="rId4"/>
          <a:stretch/>
        </p:blipFill>
        <p:spPr>
          <a:xfrm>
            <a:off x="6227640" y="4076640"/>
            <a:ext cx="2340000" cy="2781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MPj04005890000[1]"/>
          <p:cNvPicPr/>
          <p:nvPr/>
        </p:nvPicPr>
        <p:blipFill>
          <a:blip r:embed="rId5"/>
          <a:stretch/>
        </p:blipFill>
        <p:spPr>
          <a:xfrm>
            <a:off x="6012000" y="1125360"/>
            <a:ext cx="23605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What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alanced diet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healthy_diet_pyramid"/>
          <p:cNvPicPr/>
          <p:nvPr/>
        </p:nvPicPr>
        <p:blipFill>
          <a:blip r:embed="rId1"/>
          <a:stretch/>
        </p:blipFill>
        <p:spPr>
          <a:xfrm>
            <a:off x="539640" y="2133720"/>
            <a:ext cx="8425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How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in me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Break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Din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Su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152556648_342a24b91d_m"/>
          <p:cNvPicPr/>
          <p:nvPr/>
        </p:nvPicPr>
        <p:blipFill>
          <a:blip r:embed="rId1"/>
          <a:stretch/>
        </p:blipFill>
        <p:spPr>
          <a:xfrm>
            <a:off x="3564000" y="2185920"/>
            <a:ext cx="5580000" cy="467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al_backward_clock"/>
          <p:cNvPicPr/>
          <p:nvPr/>
        </p:nvPicPr>
        <p:blipFill>
          <a:blip r:embed="rId2"/>
          <a:stretch/>
        </p:blipFill>
        <p:spPr>
          <a:xfrm>
            <a:off x="6516720" y="1628640"/>
            <a:ext cx="230508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Di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pecially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  <a:ea typeface="SimSun"/>
              </a:rPr>
              <a:t>    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ett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calorie value      eating      way   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o control        to reduce             to keep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iet is a specially settl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way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eating to contr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and reduce the calor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SimSu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SimSun"/>
              </a:rPr>
              <a:t>value of nutrition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ealthyDiet_small"/>
          <p:cNvPicPr/>
          <p:nvPr/>
        </p:nvPicPr>
        <p:blipFill>
          <a:blip r:embed="rId1"/>
          <a:stretch/>
        </p:blipFill>
        <p:spPr>
          <a:xfrm>
            <a:off x="324000" y="4221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UnhealthyDiet_small"/>
          <p:cNvPicPr/>
          <p:nvPr/>
        </p:nvPicPr>
        <p:blipFill>
          <a:blip r:embed="rId2"/>
          <a:stretch/>
        </p:blipFill>
        <p:spPr>
          <a:xfrm>
            <a:off x="6588000" y="4221000"/>
            <a:ext cx="2232000" cy="23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и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Гречневая ди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Диета Монтинья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инная ди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55640" y="549360"/>
          <a:ext cx="7632720" cy="5113080"/>
        </p:xfrm>
        <a:graphic>
          <a:graphicData uri="http://schemas.openxmlformats.org/drawingml/2006/table">
            <a:tbl>
              <a:tblPr/>
              <a:tblGrid>
                <a:gridCol w="1512720"/>
                <a:gridCol w="863640"/>
                <a:gridCol w="1008360"/>
                <a:gridCol w="863280"/>
                <a:gridCol w="1729080"/>
                <a:gridCol w="165564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звание ди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ка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ечне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онтинья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826920" y="333360"/>
          <a:ext cx="7921800" cy="5335560"/>
        </p:xfrm>
        <a:graphic>
          <a:graphicData uri="http://schemas.openxmlformats.org/drawingml/2006/table">
            <a:tbl>
              <a:tblPr/>
              <a:tblGrid>
                <a:gridCol w="1462320"/>
                <a:gridCol w="876240"/>
                <a:gridCol w="714240"/>
                <a:gridCol w="944640"/>
                <a:gridCol w="1816200"/>
                <a:gridCol w="2108160"/>
              </a:tblGrid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азвание ди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Кол-во дн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Досто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Недост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речне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0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Нет слабости, головокру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сткое ограничение, кефир + гречка, повторить через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онтинья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 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. обмен вещ-в, не смешивать жиры и углеводы, принцип разд. п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балансированная, нельзя людям с сахарным диабетом, повтор. через 2 ме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н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Можно срочно похуд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Удобно проводить в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Отказ от с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Кр.вино полож. возд.на сос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 калорий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т на употребление с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но возобновить только через 2 мес. как и клубничн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How delicio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y Eating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at to l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Balanced/ healthy die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should we ea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Regularly, with measu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1320_mini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5508720" y="1700280"/>
            <a:ext cx="35272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380880" y="53352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 flipH="1">
            <a:off x="1331280" y="62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ного мате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E:\жюж\хх.jpg"/>
          <p:cNvPicPr/>
          <p:nvPr/>
        </p:nvPicPr>
        <p:blipFill>
          <a:blip r:embed="rId1"/>
          <a:stretch/>
        </p:blipFill>
        <p:spPr>
          <a:xfrm>
            <a:off x="6227640" y="3933720"/>
            <a:ext cx="2438640" cy="1820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E:\жюж\е.jpg"/>
          <p:cNvPicPr/>
          <p:nvPr/>
        </p:nvPicPr>
        <p:blipFill>
          <a:blip r:embed="rId2"/>
          <a:stretch/>
        </p:blipFill>
        <p:spPr>
          <a:xfrm>
            <a:off x="611280" y="2349360"/>
            <a:ext cx="1981080" cy="186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жюж\йй.jpg"/>
          <p:cNvPicPr/>
          <p:nvPr/>
        </p:nvPicPr>
        <p:blipFill>
          <a:blip r:embed="rId3"/>
          <a:stretch/>
        </p:blipFill>
        <p:spPr>
          <a:xfrm>
            <a:off x="3419640" y="1989000"/>
            <a:ext cx="20574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Формирование культуры питания и здорового образа жизни  как необходимой цен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кс Кетле(Адольф Кетелет) и процент жи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 делится на квадрат роста в метрах. Для женщин оптимальным считается коэффициент от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3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я мужчин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Индекс свыше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2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оворит о явном ожирении. Впрочем, этот расчет не дает ответа на главный вопрос – о нормальном, а значит, и здоровом соотношении мышц и ж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258920" y="750960"/>
            <a:ext cx="6769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цент ж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нство ученых считают, что для красивой фигуры и хорошего здоровья женщинам надо иметь 22-23% жира, мужчинам – 15-16%. Определить, столько у вас или нет, поможет таблица, предложенная американскими специалистами Л. Харт и Л. Непор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рьте окружность таза в самом широком месте. Сделайте отметку в первом столб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мерьте точно свой рост в сантиметрах. Отметьте в третьем столбце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омощью линейки соедините обе точки диагональю и во втором столбце в месте пересечения узнаете процент содержания жира в вашем орган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 flipV="1" rot="10800000">
            <a:off x="1476000" y="49377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у вас переизбыток или, напротив, недостаток жира, надо задуматься: здорово ли ваше тело? И, как следствие, «родную» ли окружность таза вы «носит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26920" y="476280"/>
          <a:ext cx="7345440" cy="5821200"/>
        </p:xfrm>
        <a:graphic>
          <a:graphicData uri="http://schemas.openxmlformats.org/drawingml/2006/table">
            <a:tbl>
              <a:tblPr/>
              <a:tblGrid>
                <a:gridCol w="2449800"/>
                <a:gridCol w="2447640"/>
                <a:gridCol w="2448000"/>
              </a:tblGrid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ность таза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содержания ж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6eafe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f2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1116000" y="336600"/>
            <a:ext cx="72010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екс  массы тел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, с помощью которой диетологи определяют степень ожирения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М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числяется так: вес в килограммах нужно разделить на возведенный в квадрат рост в метрах. Получившееся в результате число и ес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он больше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лишний вес имеется. Если он равен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человек страдает ожирением соответственно второй и третье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ор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источники пищевых калорий – углеводы, белки, жиры и алкоголь. Углеводы и белки содержат 4 кал/г, алкоголь дает 7 кал/г, а жиры – 9 кал/г. Несмотря на то, что все виды пищевых калорий служат источником энергии для организма, не все они играют одинаковую роль в отложении жира. Избыточные жировые калории легче обращаются в жир, чем калории, поступившие из други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</a:rPr>
              <a:t>Алексей Ковальков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иетолог, ведущий программы «Семейный разме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440" y="4724280"/>
            <a:ext cx="548640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Рисунок 4" descr="Алексей Ковальков"/>
          <p:cNvPicPr/>
          <p:nvPr/>
        </p:nvPicPr>
        <p:blipFill>
          <a:blip r:embed="rId1"/>
          <a:srcRect l="0" t="14743" r="0" b="14743"/>
          <a:stretch/>
        </p:blipFill>
        <p:spPr>
          <a:xfrm>
            <a:off x="2050920" y="189000"/>
            <a:ext cx="55454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95280" y="189000"/>
            <a:ext cx="8280360" cy="58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Ешьте «правильные» бе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То есть содержащие вещества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триптофан и L- фенилаланин,</a:t>
            </a: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 стимулирующие выработку гормонов- энодорфинов, ответственных за наше хорошее настроение и одновременно контролирующих аппетит. Это, в первую очередь, индюшатина и курятина, в несколько меньшей степени – говядина и телят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бирайте полезные угле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Из-за вызванного маленьким количеством солнца и света недостатка в организме серотонина и других эндорфинов, мы то и дело соблазняемся булочками, конфетами, тортиками... И не случайно, ведь содержащийся в них сахар как раз и способствуют выработке серотонина! Чтобы желание организма не осталось без внимания, замените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редные углеводы полезными</a:t>
            </a:r>
            <a:r>
              <a:rPr b="0" lang="ru-RU" sz="1400" spc="-1" strike="noStrike">
                <a:solidFill>
                  <a:srgbClr val="0d0d0d"/>
                </a:solidFill>
                <a:latin typeface="Arial"/>
              </a:rPr>
              <a:t> – богатыми волокнистыми углеводами овощами и листовой зеленью, хлебом из муки грубого помола, гречневой или овсяной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кашей, макаронами из твердых сортов пшеницы. Когда нестерпимо захочется сладкого – </a:t>
            </a: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ерекусывайте сухофруктами.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А если ваша слабость – шоколад, и зимой вы его поглощаете в неимоверных количествах, попробуйте заменить его… помидорами. Для разнообразия – обыкновенными и черри, не только свежими, но и вялеными, тушеными,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риготовленными на гриле...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По свидетельству ученых, это настоящий кладезь аминокислоты триптофана (почему она так нужна зимой, уже понят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потребляйте горячую пищу и напи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Теплая пища обладает согревающим действием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. Горячие салаты, гарнир из отварных или приготовленных на пару овощей (за исключением крахмалистых) и, конечно же, супы – идеальные зимние блюда (за исключением кремовых супов со сливками – жирных и калорийных). На супы стоит обратить особенное внимание: согласно наблюдениям ученых, люди, которые систематические едят первое, ежедневно употребляют как минимум на 100 калорий ме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Финская зимняя дие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55640" y="1581120"/>
            <a:ext cx="75614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Овощной су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1187280" y="1773360"/>
            <a:ext cx="68407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НАД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0 г сельдере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морков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цветной капус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 г петрушк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помидор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00 г лу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зубчика чесн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АК ГОТОВИ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Овощи следует промыть, нарезать, залить водой и варить 20 мину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Из отварных овощей сделать суп–пюре с помощью бленд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имерное меню финской диеты: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втра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150 г молочной каши, чай или фруктовый с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торой завтра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 суп, фрук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–  рыбный суп, отварная гречка, фруктовый сал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жин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суп, отварная курица, овощной сала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 сном нужно выпить стакан теплого молока или кеф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СТАТИ: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ремя финской диеты нельзя употреблять белый хлеб, макароны, копчености, консервы, сладости и выпеч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http://www.domashniy.ru/f/media/42060/illu_large_content.jpg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накомить с новыми словами и термин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вести несколько тес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ить представление о правильном п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ть установку на ведение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е мн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ustin"/>
          <p:cNvPicPr/>
          <p:nvPr/>
        </p:nvPicPr>
        <p:blipFill>
          <a:blip r:embed="rId1"/>
          <a:stretch/>
        </p:blipFill>
        <p:spPr>
          <a:xfrm>
            <a:off x="324000" y="1916280"/>
            <a:ext cx="1815840" cy="25923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3"/>
          <p:cNvSpPr/>
          <p:nvPr/>
        </p:nvSpPr>
        <p:spPr>
          <a:xfrm>
            <a:off x="2286000" y="1628640"/>
            <a:ext cx="624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тьяна Устинова, писат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эффективная, с моей точки зрения, диета была предложена Майей Плисецкой. Она была сформулирована двумя словами: «Сидеть не жрамши». Но дело в том, что кулинария – это огромная часть жизни. Это целый мир. Ведь так приятно, так волшебно ехать домой, ожидая, что там будет что-то вкусное. И в моем случае это перевешивает стремление обрести вожделенные формы 90-60-90. А мне для того, чтобы их достичь, надо пить только воду и не заедать ее ничем. Но как только я начинаю голодать, я бросаюсь на людей, на собак, на светофоры, на машины, на гаишников, на начальство с целью кого-нибудь изничтож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Будьте здоровы!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аппн6"/>
          <p:cNvPicPr/>
          <p:nvPr/>
        </p:nvPicPr>
        <p:blipFill>
          <a:blip r:embed="rId1"/>
          <a:stretch/>
        </p:blipFill>
        <p:spPr>
          <a:xfrm>
            <a:off x="539640" y="170028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мер"/>
          <p:cNvPicPr/>
          <p:nvPr/>
        </p:nvPicPr>
        <p:blipFill>
          <a:blip r:embed="rId2"/>
          <a:stretch/>
        </p:blipFill>
        <p:spPr>
          <a:xfrm>
            <a:off x="4067280" y="1700280"/>
            <a:ext cx="4176720" cy="187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ккк"/>
          <p:cNvPicPr/>
          <p:nvPr/>
        </p:nvPicPr>
        <p:blipFill>
          <a:blip r:embed="rId3"/>
          <a:stretch/>
        </p:blipFill>
        <p:spPr>
          <a:xfrm>
            <a:off x="5076720" y="3716280"/>
            <a:ext cx="3382920" cy="2737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вкеп"/>
          <p:cNvPicPr/>
          <p:nvPr/>
        </p:nvPicPr>
        <p:blipFill>
          <a:blip r:embed="rId4"/>
          <a:stretch/>
        </p:blipFill>
        <p:spPr>
          <a:xfrm>
            <a:off x="684360" y="3860640"/>
            <a:ext cx="4392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Proverbs about Health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 rot="605400">
            <a:off x="7210440" y="4468320"/>
            <a:ext cx="1454040" cy="20084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571680" y="1484280"/>
            <a:ext cx="542916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 apple a day keeps the doctor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/>
          <p:cNvSpPr/>
          <p:nvPr/>
        </p:nvSpPr>
        <p:spPr>
          <a:xfrm>
            <a:off x="1857240" y="2708280"/>
            <a:ext cx="55724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ery man is the builder of a te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lled his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6"/>
          <p:cNvSpPr/>
          <p:nvPr/>
        </p:nvSpPr>
        <p:spPr>
          <a:xfrm>
            <a:off x="500040" y="3716280"/>
            <a:ext cx="4786200" cy="57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best thing in life is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7"/>
          <p:cNvSpPr/>
          <p:nvPr/>
        </p:nvSpPr>
        <p:spPr>
          <a:xfrm>
            <a:off x="571680" y="4869000"/>
            <a:ext cx="5857560" cy="1296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rly to bed and early to rise makes a man healthy, wealthy and w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mpglass"/>
          <p:cNvPicPr/>
          <p:nvPr/>
        </p:nvPicPr>
        <p:blipFill>
          <a:blip r:embed="rId1"/>
          <a:stretch/>
        </p:blipFill>
        <p:spPr>
          <a:xfrm>
            <a:off x="685800" y="380880"/>
            <a:ext cx="1214280" cy="9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3e2e0510bf99"/>
          <p:cNvPicPr/>
          <p:nvPr/>
        </p:nvPicPr>
        <p:blipFill>
          <a:blip r:embed="rId2"/>
          <a:stretch/>
        </p:blipFill>
        <p:spPr>
          <a:xfrm>
            <a:off x="4648320" y="457200"/>
            <a:ext cx="1485720" cy="78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vetchinka"/>
          <p:cNvPicPr/>
          <p:nvPr/>
        </p:nvPicPr>
        <p:blipFill>
          <a:blip r:embed="rId3"/>
          <a:stretch/>
        </p:blipFill>
        <p:spPr>
          <a:xfrm>
            <a:off x="685800" y="251460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7388"/>
          <p:cNvPicPr/>
          <p:nvPr/>
        </p:nvPicPr>
        <p:blipFill>
          <a:blip r:embed="rId4"/>
          <a:stretch/>
        </p:blipFill>
        <p:spPr>
          <a:xfrm>
            <a:off x="2286000" y="457200"/>
            <a:ext cx="990720" cy="90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0_23164_6fac973f_L"/>
          <p:cNvPicPr/>
          <p:nvPr/>
        </p:nvPicPr>
        <p:blipFill>
          <a:blip r:embed="rId5"/>
          <a:stretch/>
        </p:blipFill>
        <p:spPr>
          <a:xfrm>
            <a:off x="3429000" y="45720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2825"/>
          <p:cNvPicPr/>
          <p:nvPr/>
        </p:nvPicPr>
        <p:blipFill>
          <a:blip r:embed="rId6"/>
          <a:stretch/>
        </p:blipFill>
        <p:spPr>
          <a:xfrm>
            <a:off x="617220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_obshestvo_2565_"/>
          <p:cNvPicPr/>
          <p:nvPr/>
        </p:nvPicPr>
        <p:blipFill>
          <a:blip r:embed="rId7"/>
          <a:stretch/>
        </p:blipFill>
        <p:spPr>
          <a:xfrm>
            <a:off x="7238880" y="457200"/>
            <a:ext cx="1143000" cy="99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ict"/>
          <p:cNvPicPr/>
          <p:nvPr/>
        </p:nvPicPr>
        <p:blipFill>
          <a:blip r:embed="rId8"/>
          <a:stretch/>
        </p:blipFill>
        <p:spPr>
          <a:xfrm>
            <a:off x="2286000" y="2743200"/>
            <a:ext cx="1609560" cy="10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49380959_11"/>
          <p:cNvPicPr/>
          <p:nvPr/>
        </p:nvPicPr>
        <p:blipFill>
          <a:blip r:embed="rId9"/>
          <a:stretch/>
        </p:blipFill>
        <p:spPr>
          <a:xfrm>
            <a:off x="4038480" y="2743200"/>
            <a:ext cx="1549440" cy="103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1314720807_whence_cheese1"/>
          <p:cNvPicPr/>
          <p:nvPr/>
        </p:nvPicPr>
        <p:blipFill>
          <a:blip r:embed="rId10"/>
          <a:stretch/>
        </p:blipFill>
        <p:spPr>
          <a:xfrm>
            <a:off x="5715000" y="2743200"/>
            <a:ext cx="1219320" cy="113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4168c6a235cf24d8aba4ce5a5e3ca03e"/>
          <p:cNvPicPr/>
          <p:nvPr/>
        </p:nvPicPr>
        <p:blipFill>
          <a:blip r:embed="rId11"/>
          <a:stretch/>
        </p:blipFill>
        <p:spPr>
          <a:xfrm>
            <a:off x="7391520" y="2666880"/>
            <a:ext cx="895320" cy="1193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1309456522_pomidor"/>
          <p:cNvPicPr/>
          <p:nvPr/>
        </p:nvPicPr>
        <p:blipFill>
          <a:blip r:embed="rId12"/>
          <a:stretch/>
        </p:blipFill>
        <p:spPr>
          <a:xfrm>
            <a:off x="685800" y="5334120"/>
            <a:ext cx="949320" cy="98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3311117_f520"/>
          <p:cNvPicPr/>
          <p:nvPr/>
        </p:nvPicPr>
        <p:blipFill>
          <a:blip r:embed="rId13"/>
          <a:stretch/>
        </p:blipFill>
        <p:spPr>
          <a:xfrm>
            <a:off x="3048120" y="53341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draft_lens14501251module128197051photo_1287782990apricot-jam"/>
          <p:cNvPicPr/>
          <p:nvPr/>
        </p:nvPicPr>
        <p:blipFill>
          <a:blip r:embed="rId14"/>
          <a:stretch/>
        </p:blipFill>
        <p:spPr>
          <a:xfrm>
            <a:off x="6095880" y="5410080"/>
            <a:ext cx="1086120" cy="9874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9"/>
          <p:cNvSpPr/>
          <p:nvPr/>
        </p:nvSpPr>
        <p:spPr>
          <a:xfrm>
            <a:off x="2362320" y="1523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838080" y="15238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3"/>
          <p:cNvSpPr/>
          <p:nvPr/>
        </p:nvSpPr>
        <p:spPr>
          <a:xfrm>
            <a:off x="3429000" y="15238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4876920" y="1523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6"/>
          <p:cNvSpPr/>
          <p:nvPr/>
        </p:nvSpPr>
        <p:spPr>
          <a:xfrm>
            <a:off x="6248520" y="1523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7"/>
          <p:cNvSpPr/>
          <p:nvPr/>
        </p:nvSpPr>
        <p:spPr>
          <a:xfrm>
            <a:off x="7391520" y="1523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8"/>
          <p:cNvSpPr/>
          <p:nvPr/>
        </p:nvSpPr>
        <p:spPr>
          <a:xfrm>
            <a:off x="83808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/>
          <p:cNvSpPr/>
          <p:nvPr/>
        </p:nvSpPr>
        <p:spPr>
          <a:xfrm>
            <a:off x="243828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0"/>
          <p:cNvSpPr/>
          <p:nvPr/>
        </p:nvSpPr>
        <p:spPr>
          <a:xfrm>
            <a:off x="3962520" y="4114800"/>
            <a:ext cx="12952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1"/>
          <p:cNvSpPr/>
          <p:nvPr/>
        </p:nvSpPr>
        <p:spPr>
          <a:xfrm>
            <a:off x="5867280" y="41148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2"/>
          <p:cNvSpPr/>
          <p:nvPr/>
        </p:nvSpPr>
        <p:spPr>
          <a:xfrm>
            <a:off x="7467480" y="411480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3"/>
          <p:cNvSpPr/>
          <p:nvPr/>
        </p:nvSpPr>
        <p:spPr>
          <a:xfrm>
            <a:off x="1676520" y="5715000"/>
            <a:ext cx="99036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m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4267080" y="5791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5"/>
          <p:cNvSpPr/>
          <p:nvPr/>
        </p:nvSpPr>
        <p:spPr>
          <a:xfrm>
            <a:off x="7467480" y="57913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Let’s make some dis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8" descr="MPj04072370000[1]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352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DSC00016"/>
          <p:cNvPicPr/>
          <p:nvPr/>
        </p:nvPicPr>
        <p:blipFill>
          <a:blip r:embed="rId2"/>
          <a:stretch/>
        </p:blipFill>
        <p:spPr>
          <a:xfrm>
            <a:off x="684360" y="148428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DSC00010"/>
          <p:cNvPicPr/>
          <p:nvPr/>
        </p:nvPicPr>
        <p:blipFill>
          <a:blip r:embed="rId3"/>
          <a:stretch/>
        </p:blipFill>
        <p:spPr>
          <a:xfrm>
            <a:off x="1187280" y="3789360"/>
            <a:ext cx="4248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Test: “ Are you dangerously unfit?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вв"/>
          <p:cNvPicPr/>
          <p:nvPr/>
        </p:nvPicPr>
        <p:blipFill>
          <a:blip r:embed="rId1"/>
          <a:stretch/>
        </p:blipFill>
        <p:spPr>
          <a:xfrm>
            <a:off x="5940360" y="1268280"/>
            <a:ext cx="2665440" cy="20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рг"/>
          <p:cNvPicPr/>
          <p:nvPr/>
        </p:nvPicPr>
        <p:blipFill>
          <a:blip r:embed="rId2"/>
          <a:stretch/>
        </p:blipFill>
        <p:spPr>
          <a:xfrm>
            <a:off x="684360" y="1052640"/>
            <a:ext cx="1828800" cy="167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саен"/>
          <p:cNvPicPr/>
          <p:nvPr/>
        </p:nvPicPr>
        <p:blipFill>
          <a:blip r:embed="rId3"/>
          <a:stretch/>
        </p:blipFill>
        <p:spPr>
          <a:xfrm>
            <a:off x="611280" y="2924280"/>
            <a:ext cx="3816360" cy="292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г"/>
          <p:cNvPicPr/>
          <p:nvPr/>
        </p:nvPicPr>
        <p:blipFill>
          <a:blip r:embed="rId4"/>
          <a:stretch/>
        </p:blipFill>
        <p:spPr>
          <a:xfrm>
            <a:off x="4643280" y="3500280"/>
            <a:ext cx="1905120" cy="138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ее"/>
          <p:cNvPicPr/>
          <p:nvPr/>
        </p:nvPicPr>
        <p:blipFill>
          <a:blip r:embed="rId5"/>
          <a:stretch/>
        </p:blipFill>
        <p:spPr>
          <a:xfrm>
            <a:off x="7164360" y="4724280"/>
            <a:ext cx="1676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Why should we e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be str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get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stay a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o be h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o l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76275"/>
          <p:cNvPicPr/>
          <p:nvPr/>
        </p:nvPicPr>
        <p:blipFill>
          <a:blip r:embed="rId1"/>
          <a:stretch/>
        </p:blipFill>
        <p:spPr>
          <a:xfrm>
            <a:off x="5292720" y="1773360"/>
            <a:ext cx="3346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ive Food Group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Mil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Fru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Vegetab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Gra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Calibri"/>
              </a:rPr>
              <a:t>Me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10zvezddiet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3635280" y="177156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7:06:18Z</dcterms:created>
  <dc:creator>user</dc:creator>
  <dc:description/>
  <dc:language>en-US</dc:language>
  <cp:lastModifiedBy>user</cp:lastModifiedBy>
  <dcterms:modified xsi:type="dcterms:W3CDTF">2012-02-01T17:59:29Z</dcterms:modified>
  <cp:revision>32</cp:revision>
  <dc:subject/>
  <dc:title>Слайд 1</dc:title>
</cp:coreProperties>
</file>