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24F-C098-4971-AAE1-28590129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26-C61B-4212-98CB-792E0587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546-0572-4772-B64D-5CED7737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C19-8F78-49B2-AF4A-C34A3C70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DE50-1953-4ABE-9CB1-C2E089E4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886-FE66-43A2-9096-5772079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503-32D2-401E-8BF0-0344EF7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67C8-333F-48B0-A6AB-E1C9B686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05C1-64D6-422A-A898-A92DC32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924-8EE1-4FE9-BCFE-BE7E97C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3D1-8FB8-4051-ABFC-1A0D47E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EC5-E77F-4EB7-AAFB-4DC583A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0829-DBD7-48B6-8756-FF11781F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095-CDE3-4164-85C4-53858A7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EDD5-3A70-4542-BC20-2A92F5F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CDC-DC7B-4D32-88AC-E85D9CE3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A1CF-3086-40E4-B5CE-4936782D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333-B05C-4DC6-B8DF-97A44A41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E23-B0BB-487A-9576-49B42DE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67A-B29A-438C-B52A-E3DE959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24-ED5B-45B2-A505-61AD4F4A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3BF-E706-4785-8459-58B73D97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CC1-2002-4045-89F2-CF3D14B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2A7-0BEA-4BF9-9E76-76E8859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6FF4-CC29-467B-B11E-781218FF16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012-17B7-4268-9F72-776381499B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Архимедова сила. Плавание тел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шение зада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    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19720" y="1905120"/>
            <a:ext cx="304560" cy="4952880"/>
          </a:xfrm>
          <a:prstGeom prst="upDownArrow">
            <a:avLst>
              <a:gd name="adj1" fmla="val 50000"/>
              <a:gd name="adj2" fmla="val 43532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"/>
          <p:cNvSpPr/>
          <p:nvPr/>
        </p:nvSpPr>
        <p:spPr>
          <a:xfrm rot="2190600">
            <a:off x="1420920" y="4124160"/>
            <a:ext cx="8091360" cy="362160"/>
          </a:xfrm>
          <a:prstGeom prst="leftRightArrow">
            <a:avLst>
              <a:gd name="adj1" fmla="val 50000"/>
              <a:gd name="adj2" fmla="val 54179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6"/>
          <p:cNvSpPr/>
          <p:nvPr/>
        </p:nvSpPr>
        <p:spPr>
          <a:xfrm rot="8600400">
            <a:off x="570960" y="3809520"/>
            <a:ext cx="8381880" cy="606600"/>
          </a:xfrm>
          <a:prstGeom prst="leftRightArrow">
            <a:avLst>
              <a:gd name="adj1" fmla="val 50000"/>
              <a:gd name="adj2" fmla="val 5693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295280" y="1981080"/>
            <a:ext cx="6553440" cy="2590920"/>
          </a:xfrm>
          <a:custGeom>
            <a:avLst/>
            <a:gdLst>
              <a:gd name="textAreaLeft" fmla="*/ 959400 w 6553440"/>
              <a:gd name="textAreaRight" fmla="*/ 5594040 w 6553440"/>
              <a:gd name="textAreaTop" fmla="*/ 379440 h 2590920"/>
              <a:gd name="textAreaBottom" fmla="*/ 2211480 h 25909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0801"/>
                  <a:pt x="5400" y="10802"/>
                  <a:pt x="5400" y="10803"/>
                </a:cubicBezTo>
                <a:lnTo>
                  <a:pt x="0" y="10807"/>
                </a:lnTo>
                <a:cubicBezTo>
                  <a:pt x="0" y="10804"/>
                  <a:pt x="0" y="108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 rot="10578000">
            <a:off x="1522440" y="3107880"/>
            <a:ext cx="6696000" cy="2514600"/>
          </a:xfrm>
          <a:custGeom>
            <a:avLst/>
            <a:gdLst>
              <a:gd name="textAreaLeft" fmla="*/ 980280 w 6696000"/>
              <a:gd name="textAreaRight" fmla="*/ 5715720 w 6696000"/>
              <a:gd name="textAreaTop" fmla="*/ 367920 h 2514600"/>
              <a:gd name="textAreaBottom" fmla="*/ 2146680 h 2514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914400" y="1981080"/>
            <a:ext cx="7620120" cy="228600"/>
          </a:xfrm>
          <a:prstGeom prst="rightArrow">
            <a:avLst>
              <a:gd name="adj1" fmla="val 50000"/>
              <a:gd name="adj2" fmla="val 8333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5800" y="5486400"/>
            <a:ext cx="8077320" cy="304920"/>
          </a:xfrm>
          <a:prstGeom prst="leftArrow">
            <a:avLst>
              <a:gd name="adj1" fmla="val 50000"/>
              <a:gd name="adj2" fmla="val 66224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914400" y="2133720"/>
            <a:ext cx="304920" cy="3657600"/>
          </a:xfrm>
          <a:prstGeom prst="upArrow">
            <a:avLst>
              <a:gd name="adj1" fmla="val 50000"/>
              <a:gd name="adj2" fmla="val 4664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7924680" y="2438280"/>
            <a:ext cx="304920" cy="3276720"/>
          </a:xfrm>
          <a:prstGeom prst="downArrow">
            <a:avLst>
              <a:gd name="adj1" fmla="val 50000"/>
              <a:gd name="adj2" fmla="val 4581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57200" y="99540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ла Архимеда, которая действует на полностью погруженное в керосин тело, равна 1,6 Н. Найдите объем те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льной брусок, вес которог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5,6 Н погружен в воду. Определите вес этого бруска в во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457200" y="14400"/>
            <a:ext cx="86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7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кспериментальное задание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устите поочередно тела в воду, выясните, какие из них тонут, какие плавают. Результаты наблюдения занесите в таблиц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делайте вывод: при каком условии тела тонут? Плаваю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3581280"/>
          <a:ext cx="6096240" cy="2057400"/>
        </p:xfrm>
        <a:graphic>
          <a:graphicData uri="http://schemas.openxmlformats.org/drawingml/2006/table">
            <a:tbl>
              <a:tblPr/>
              <a:tblGrid>
                <a:gridCol w="2032200"/>
                <a:gridCol w="2235240"/>
                <a:gridCol w="182880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отность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отность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авает или то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арф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838080" y="2971800"/>
          <a:ext cx="7467840" cy="259092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погру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"/>
          <p:cNvSpPr/>
          <p:nvPr/>
        </p:nvSpPr>
        <p:spPr>
          <a:xfrm>
            <a:off x="3808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кспериментальное задание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блюдайте, как изменяется глубина погружения ведерка, если его заполнять вод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делайте вывод о глубине погружения тела в зависимости от его плот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380880" y="95184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ва одинаковых по объему шарика – из парафина и из пробки. Пронаблюдайте какой из них глубже погружается в воду. Сделайте вывод о глубине погружения тела в зависимости от его плот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1</a:t>
            </a:r>
            <a:br>
              <a:rPr sz="2800"/>
            </a:b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полни таблицу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509904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190512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ица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 для расч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тность жидк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Р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с тела в во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24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жидкость? Если разные, то какая больше и почему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3581280"/>
            <a:ext cx="243828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05320" y="3505320"/>
            <a:ext cx="2286000" cy="213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248520" y="3429000"/>
            <a:ext cx="213336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2209680" y="43434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962520" y="39625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029200" y="495288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6553080" y="44197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7391520" y="4267080"/>
            <a:ext cx="76176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разные жидкости?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ДА                          КЕРОС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219320" y="2971800"/>
            <a:ext cx="2209680" cy="342900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257800" y="2971800"/>
            <a:ext cx="2362320" cy="34290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Блок-схема: узел 5"/>
          <p:cNvSpPr/>
          <p:nvPr/>
        </p:nvSpPr>
        <p:spPr>
          <a:xfrm>
            <a:off x="1752480" y="3429000"/>
            <a:ext cx="1219320" cy="1219320"/>
          </a:xfrm>
          <a:prstGeom prst="flowChartConnector">
            <a:avLst/>
          </a:prstGeom>
          <a:solidFill>
            <a:srgbClr val="ffff0a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Блок-схема: узел 6"/>
          <p:cNvSpPr/>
          <p:nvPr/>
        </p:nvSpPr>
        <p:spPr>
          <a:xfrm>
            <a:off x="5943600" y="3505320"/>
            <a:ext cx="1219320" cy="121896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3200"/>
            </a:b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Нарушится ли равновесие весов, если убрать сосуд с жидкостью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4"/>
          <p:cNvSpPr/>
          <p:nvPr/>
        </p:nvSpPr>
        <p:spPr>
          <a:xfrm>
            <a:off x="1905120" y="1981080"/>
            <a:ext cx="5105160" cy="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7010280" y="2057400"/>
            <a:ext cx="0" cy="182880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1905120" y="1981080"/>
            <a:ext cx="0" cy="160020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6019920" y="3048120"/>
            <a:ext cx="1904760" cy="2133360"/>
          </a:xfrm>
          <a:prstGeom prst="rect">
            <a:avLst/>
          </a:prstGeom>
          <a:solidFill>
            <a:srgbClr val="ffffb8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1447920" y="3200400"/>
            <a:ext cx="914400" cy="6858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6629400" y="3048120"/>
            <a:ext cx="914400" cy="9144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жидкость, если их объемы одинаковы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47920" y="2895480"/>
            <a:ext cx="2133360" cy="1905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34120" y="2895480"/>
            <a:ext cx="2209680" cy="1905120"/>
          </a:xfrm>
          <a:prstGeom prst="rect">
            <a:avLst/>
          </a:prstGeom>
          <a:solidFill>
            <a:srgbClr val="99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752480" y="3505320"/>
            <a:ext cx="68580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43200" y="3429000"/>
            <a:ext cx="68580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629400" y="3505320"/>
            <a:ext cx="762120" cy="7617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Равнобедренный треугольник 11"/>
          <p:cNvSpPr/>
          <p:nvPr/>
        </p:nvSpPr>
        <p:spPr>
          <a:xfrm>
            <a:off x="5410080" y="3429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-25000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4400" spc="-1" strike="noStrike" baseline="-25000">
                <a:solidFill>
                  <a:srgbClr val="999900"/>
                </a:solidFill>
                <a:latin typeface="Garamond"/>
              </a:rPr>
              <a:t>Приложе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00"/>
                </a:solidFill>
                <a:latin typeface="Verdana"/>
              </a:rPr>
              <a:t>Архимедова с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</a:t>
            </a:r>
            <a:r>
              <a:rPr b="0" lang="ru-RU" sz="2800" spc="-1" strike="noStrike" u="sng">
                <a:solidFill>
                  <a:srgbClr val="5e0858"/>
                </a:solidFill>
                <a:uFillTx/>
                <a:latin typeface="Verdana"/>
              </a:rPr>
              <a:t>зависит:                           не зависи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1. от плотности              1.от плот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жидкости                       те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2. от объема тела           2. от глуб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погру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3. от форм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6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Условия плавания тел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нет            Плавает      Всплыва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62120" y="3200400"/>
            <a:ext cx="7467480" cy="2895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388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886200" y="388620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248520" y="30481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33520" y="3657600"/>
            <a:ext cx="7924680" cy="304920"/>
          </a:xfrm>
          <a:prstGeom prst="leftRightArrow">
            <a:avLst>
              <a:gd name="adj1" fmla="val 50000"/>
              <a:gd name="adj2" fmla="val 51738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4:02Z</dcterms:created>
  <dc:creator>Андрей</dc:creator>
  <dc:description/>
  <dc:language>en-US</dc:language>
  <cp:lastModifiedBy>Irina</cp:lastModifiedBy>
  <dcterms:modified xsi:type="dcterms:W3CDTF">2013-04-19T10:39:17Z</dcterms:modified>
  <cp:revision>15</cp:revision>
  <dc:subject/>
  <dc:title>Архимедова сила</dc:title>
</cp:coreProperties>
</file>