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4DD-DD95-4855-9FAD-2CD9D782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FFC-26FB-4F91-8DF4-DCFC9BF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6AF-D5A5-4EC6-ABED-9C9CAABB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AF1-EFE9-4906-AD99-D3D63082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BCC-69B3-496F-86E1-DF9A1EAE9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C83B-B1B4-44BA-8331-BD448DE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D0C8-2161-425B-9A44-FB8AC432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2B7B-90E3-4C38-B9FA-C357528A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5AE4-3C16-4B34-8F1E-F8CD7178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9B5B-4F93-4DA9-83A5-D791F10F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E0B-9F92-4902-B702-B58C9810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C1F-C2E0-41B1-855B-620D3C98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8D72-4BEB-4F5D-870F-A5B0BBA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DAA9-B8A2-4D5B-BFCB-122C4CA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3712-E36D-4D9D-B62C-8251C2AC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84C8-AFE2-4B09-AA97-BFF66641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685C-9227-4D50-A04C-CBDD5FD1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9C9-FADE-491E-8172-57FBD95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FE0-93E2-4A18-B225-3B8AC91C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311-69EA-4212-A335-C19DA99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DF7-7B54-40B8-BFCE-00C7C1FA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58F-0ABB-4A31-BA7F-7397B787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55D-1C55-4D5B-BE79-11B8126C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B5A6-C917-48D6-AE7E-529E6D4B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B5CE-C661-4E10-802A-669D29CD44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496B-FF4C-43D3-9B62-14BAAD7DD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999900"/>
                </a:solidFill>
                <a:latin typeface="Garamond"/>
              </a:rPr>
              <a:t>Архимедова сила. Плавание тел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шение зада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    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19720" y="1905120"/>
            <a:ext cx="304560" cy="4952880"/>
          </a:xfrm>
          <a:prstGeom prst="upDownArrow">
            <a:avLst>
              <a:gd name="adj1" fmla="val 50000"/>
              <a:gd name="adj2" fmla="val 43532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5"/>
          <p:cNvSpPr/>
          <p:nvPr/>
        </p:nvSpPr>
        <p:spPr>
          <a:xfrm rot="2190600">
            <a:off x="1420920" y="4124160"/>
            <a:ext cx="8091360" cy="362160"/>
          </a:xfrm>
          <a:prstGeom prst="leftRightArrow">
            <a:avLst>
              <a:gd name="adj1" fmla="val 50000"/>
              <a:gd name="adj2" fmla="val 54179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6"/>
          <p:cNvSpPr/>
          <p:nvPr/>
        </p:nvSpPr>
        <p:spPr>
          <a:xfrm rot="8600400">
            <a:off x="570960" y="3809520"/>
            <a:ext cx="8381880" cy="606600"/>
          </a:xfrm>
          <a:prstGeom prst="leftRightArrow">
            <a:avLst>
              <a:gd name="adj1" fmla="val 50000"/>
              <a:gd name="adj2" fmla="val 56934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295280" y="1981080"/>
            <a:ext cx="6553440" cy="2590920"/>
          </a:xfrm>
          <a:custGeom>
            <a:avLst/>
            <a:gdLst>
              <a:gd name="textAreaLeft" fmla="*/ 959400 w 6553440"/>
              <a:gd name="textAreaRight" fmla="*/ 5594040 w 6553440"/>
              <a:gd name="textAreaTop" fmla="*/ 379440 h 2590920"/>
              <a:gd name="textAreaBottom" fmla="*/ 2211480 h 25909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cubicBezTo>
                  <a:pt x="5399" y="10801"/>
                  <a:pt x="5400" y="10802"/>
                  <a:pt x="5400" y="10803"/>
                </a:cubicBezTo>
                <a:lnTo>
                  <a:pt x="0" y="10807"/>
                </a:lnTo>
                <a:cubicBezTo>
                  <a:pt x="0" y="10804"/>
                  <a:pt x="0" y="10802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-1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 rot="10578000">
            <a:off x="1522440" y="3107880"/>
            <a:ext cx="6696000" cy="2514600"/>
          </a:xfrm>
          <a:custGeom>
            <a:avLst/>
            <a:gdLst>
              <a:gd name="textAreaLeft" fmla="*/ 980280 w 6696000"/>
              <a:gd name="textAreaRight" fmla="*/ 5715720 w 6696000"/>
              <a:gd name="textAreaTop" fmla="*/ 367920 h 2514600"/>
              <a:gd name="textAreaBottom" fmla="*/ 2146680 h 2514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914400" y="1981080"/>
            <a:ext cx="7620120" cy="228600"/>
          </a:xfrm>
          <a:prstGeom prst="rightArrow">
            <a:avLst>
              <a:gd name="adj1" fmla="val 50000"/>
              <a:gd name="adj2" fmla="val 83334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5800" y="5486400"/>
            <a:ext cx="8077320" cy="304920"/>
          </a:xfrm>
          <a:prstGeom prst="leftArrow">
            <a:avLst>
              <a:gd name="adj1" fmla="val 50000"/>
              <a:gd name="adj2" fmla="val 66224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914400" y="2133720"/>
            <a:ext cx="304920" cy="3657600"/>
          </a:xfrm>
          <a:prstGeom prst="upArrow">
            <a:avLst>
              <a:gd name="adj1" fmla="val 50000"/>
              <a:gd name="adj2" fmla="val 4664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7924680" y="2438280"/>
            <a:ext cx="304920" cy="3276720"/>
          </a:xfrm>
          <a:prstGeom prst="downArrow">
            <a:avLst>
              <a:gd name="adj1" fmla="val 50000"/>
              <a:gd name="adj2" fmla="val 45815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457200" y="995400"/>
            <a:ext cx="8305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ла Архимеда, которая действует на полностью погруженное в керосин тело, равна 1,6 Н. Найдите объем те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льной брусок, вес которог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5,6 Н погружен в воду. Определите вес этого бруска в вод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457200" y="14400"/>
            <a:ext cx="86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7</a:t>
            </a:r>
            <a:r>
              <a:rPr b="1" i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кспериментальное задание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пустите поочередно тела в воду, выясните, какие из них тонут, какие плавают. Результаты наблюдения занесите в таблицу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делайте вывод: при каком условии тела тонут? Плаваю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3581280"/>
          <a:ext cx="6096240" cy="2057400"/>
        </p:xfrm>
        <a:graphic>
          <a:graphicData uri="http://schemas.openxmlformats.org/drawingml/2006/table">
            <a:tbl>
              <a:tblPr/>
              <a:tblGrid>
                <a:gridCol w="2032200"/>
                <a:gridCol w="2235240"/>
                <a:gridCol w="182880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отность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отность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лавает или то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арф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e7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838080" y="2971800"/>
          <a:ext cx="7467840" cy="2590920"/>
        </p:xfrm>
        <a:graphic>
          <a:graphicData uri="http://schemas.openxmlformats.org/drawingml/2006/table">
            <a:tbl>
              <a:tblPr/>
              <a:tblGrid>
                <a:gridCol w="3733920"/>
                <a:gridCol w="3733920"/>
              </a:tblGrid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а погру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/4   объ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"/>
          <p:cNvSpPr/>
          <p:nvPr/>
        </p:nvSpPr>
        <p:spPr>
          <a:xfrm>
            <a:off x="3808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                                                                              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Экспериментальное задание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блюдайте, как изменяется глубина погружения ведерка, если его заполнять вод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делайте вывод о глубине погружения тела в зависимости от его плот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380880" y="95184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Приложение 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ва одинаковых по объему шарика – из парафина и из пробки. Пронаблюдайте какой из них глубже погружается в воду. Сделайте вывод о глубине погружения тела в зависимости от его плот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1</a:t>
            </a:r>
            <a:br>
              <a:rPr sz="2800"/>
            </a:b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Заполни таблицу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5099040"/>
        </p:xfrm>
        <a:graphic>
          <a:graphicData uri="http://schemas.openxmlformats.org/drawingml/2006/table">
            <a:tbl>
              <a:tblPr/>
              <a:tblGrid>
                <a:gridCol w="2209680"/>
                <a:gridCol w="2286000"/>
                <a:gridCol w="1905120"/>
                <a:gridCol w="1828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изическая велич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е обозна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диница изме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ула для расч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лотность жидк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Р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с тела в во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2400"/>
            </a:b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жидкость? Если разные, то какая больше и почему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33520" y="3581280"/>
            <a:ext cx="243828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505320" y="3505320"/>
            <a:ext cx="2286000" cy="213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6248520" y="3429000"/>
            <a:ext cx="213336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295280" y="35053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2209680" y="43434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3962520" y="39625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029200" y="495288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6553080" y="44197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7391520" y="4267080"/>
            <a:ext cx="76176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разные жидкости?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ДА                          КЕРОС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1219320" y="2971800"/>
            <a:ext cx="2209680" cy="3429000"/>
          </a:xfrm>
          <a:prstGeom prst="rect">
            <a:avLst/>
          </a:prstGeom>
          <a:solidFill>
            <a:srgbClr val="00b0f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257800" y="2971800"/>
            <a:ext cx="2362320" cy="34290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Блок-схема: узел 5"/>
          <p:cNvSpPr/>
          <p:nvPr/>
        </p:nvSpPr>
        <p:spPr>
          <a:xfrm>
            <a:off x="1752480" y="3429000"/>
            <a:ext cx="1219320" cy="1219320"/>
          </a:xfrm>
          <a:prstGeom prst="flowChartConnector">
            <a:avLst/>
          </a:prstGeom>
          <a:solidFill>
            <a:srgbClr val="ffff0a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Блок-схема: узел 6"/>
          <p:cNvSpPr/>
          <p:nvPr/>
        </p:nvSpPr>
        <p:spPr>
          <a:xfrm>
            <a:off x="5943600" y="3505320"/>
            <a:ext cx="1219320" cy="121896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                                                     </a:t>
            </a: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Приложение 3</a:t>
            </a:r>
            <a:br>
              <a:rPr sz="3200"/>
            </a:br>
            <a:r>
              <a:rPr b="0" lang="ru-RU" sz="3200" spc="-1" strike="noStrike">
                <a:solidFill>
                  <a:srgbClr val="999900"/>
                </a:solidFill>
                <a:latin typeface="Garamond"/>
              </a:rPr>
              <a:t>Нарушится ли равновесие весов, если убрать сосуд с жидкостью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5306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ая соединительная линия 4"/>
          <p:cNvSpPr/>
          <p:nvPr/>
        </p:nvSpPr>
        <p:spPr>
          <a:xfrm>
            <a:off x="1905120" y="1981080"/>
            <a:ext cx="5105160" cy="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7010280" y="2057400"/>
            <a:ext cx="0" cy="182880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ая соединительная линия 8"/>
          <p:cNvSpPr/>
          <p:nvPr/>
        </p:nvSpPr>
        <p:spPr>
          <a:xfrm>
            <a:off x="1905120" y="1981080"/>
            <a:ext cx="0" cy="1600200"/>
          </a:xfrm>
          <a:prstGeom prst="line">
            <a:avLst/>
          </a:prstGeom>
          <a:ln w="9360">
            <a:solidFill>
              <a:srgbClr val="98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6019920" y="3048120"/>
            <a:ext cx="1904760" cy="2133360"/>
          </a:xfrm>
          <a:prstGeom prst="rect">
            <a:avLst/>
          </a:prstGeom>
          <a:solidFill>
            <a:srgbClr val="ffffb8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1447920" y="3200400"/>
            <a:ext cx="914400" cy="6858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6629400" y="3048120"/>
            <a:ext cx="914400" cy="914400"/>
          </a:xfrm>
          <a:prstGeom prst="rect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Одинаковые или различные выталкивающие силы действуют на 1 и 2 тела, погруженные в жидкость, если их объемы одинаковы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447920" y="2895480"/>
            <a:ext cx="2133360" cy="1905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34120" y="2895480"/>
            <a:ext cx="2209680" cy="1905120"/>
          </a:xfrm>
          <a:prstGeom prst="rect">
            <a:avLst/>
          </a:prstGeom>
          <a:solidFill>
            <a:srgbClr val="99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1752480" y="3505320"/>
            <a:ext cx="685800" cy="6858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2743200" y="3429000"/>
            <a:ext cx="685800" cy="7621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6629400" y="3505320"/>
            <a:ext cx="762120" cy="76176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Равнобедренный треугольник 11"/>
          <p:cNvSpPr/>
          <p:nvPr/>
        </p:nvSpPr>
        <p:spPr>
          <a:xfrm>
            <a:off x="5410080" y="342900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baseline="-25000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4400" spc="-1" strike="noStrike" baseline="-25000">
                <a:solidFill>
                  <a:srgbClr val="999900"/>
                </a:solidFill>
                <a:latin typeface="Garamond"/>
              </a:rPr>
              <a:t>Приложение 2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00"/>
                </a:solidFill>
                <a:latin typeface="Verdana"/>
              </a:rPr>
              <a:t>Архимедова с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</a:t>
            </a:r>
            <a:r>
              <a:rPr b="0" lang="ru-RU" sz="2800" spc="-1" strike="noStrike" u="sng">
                <a:solidFill>
                  <a:srgbClr val="5e0858"/>
                </a:solidFill>
                <a:uFillTx/>
                <a:latin typeface="Verdana"/>
              </a:rPr>
              <a:t>зависит:                           не зависи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1. от плотности              1.от плот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жидкости                       те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2. от объема тела           2. от глуб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погру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3. от форм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                                            </a:t>
            </a:r>
            <a:r>
              <a:rPr b="0" lang="ru-RU" sz="2800" spc="-1" strike="noStrike">
                <a:solidFill>
                  <a:srgbClr val="666600"/>
                </a:solidFill>
                <a:latin typeface="Verdana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6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Условия плавания тел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нет            Плавает      Всплыва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62120" y="3200400"/>
            <a:ext cx="7467480" cy="2895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388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886200" y="388620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6248520" y="3048120"/>
            <a:ext cx="9144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ложение 4</a:t>
            </a:r>
            <a:br>
              <a:rPr sz="2800"/>
            </a:b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Зарядка для глаз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33520" y="3657600"/>
            <a:ext cx="7924680" cy="304920"/>
          </a:xfrm>
          <a:prstGeom prst="leftRightArrow">
            <a:avLst>
              <a:gd name="adj1" fmla="val 50000"/>
              <a:gd name="adj2" fmla="val 51738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09:24:02Z</dcterms:created>
  <dc:creator>Андрей</dc:creator>
  <dc:description/>
  <dc:language>en-US</dc:language>
  <cp:lastModifiedBy>Irina</cp:lastModifiedBy>
  <dcterms:modified xsi:type="dcterms:W3CDTF">2013-04-19T10:39:17Z</dcterms:modified>
  <cp:revision>15</cp:revision>
  <dc:subject/>
  <dc:title>Архимедова сила</dc:title>
</cp:coreProperties>
</file>