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AE5E-9671-4028-A74F-82A8235304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294B-D654-479F-AAA7-0E11209774E3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0BAC-878B-47AF-8C9D-F5B551D6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1D9-35D2-4BCA-873C-5976D265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F32587-53EA-4029-8564-7DFF1978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96C98F-1E07-448E-BBBE-0ECCF2BC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A30010-F22C-4F41-9F8B-B2BC4420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62C2F2-1AC4-4BDD-A810-34BA6180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96514C-8D6C-41E9-B933-C9C1F253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F6B9C8-35D6-473A-8417-5C4479C1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5216AE-59A1-4253-AC3A-0741DB49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C4E213-0743-4D2E-8A2C-2C228DE4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2A73DD-CC74-4E11-88F6-03976252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5CF-56F2-4EA5-A7F8-21FB6172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24A-2037-4228-9218-AE8E158D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16380-15F5-4E98-8559-E4967245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1DB3E-C824-4697-B156-7164F98F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B3680-CCCE-48B0-B201-FFE417E9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A6197-BA48-4452-A36C-9C5126F8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E4D90-62FD-4FB5-A573-70480797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F51D1-AEF3-470F-B67A-6FB0BC0E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B85B4-67DE-4CA1-967E-838540D5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722E-B5E4-4CF0-8DD4-03BE14C4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1F342-F6E9-4DEF-B49C-2A481552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36C72-A774-44B6-95B8-84EFF07A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498C2-895A-4558-A629-C590A2C6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55BBD-D635-44F7-8900-220936D5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5AA7A-1F3B-4E02-AAEA-EF7430A2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1595B-3858-4170-9D56-80A31C60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1E8D9-A5FE-4AE5-9FC9-904C18EB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66002-F685-49FF-8844-239AEE0F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7C1B-B7FF-457D-B74A-AE967A6B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54CDF-3135-4D6F-A5F0-1F26C8F6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DCE-D7AF-4E96-975A-6703357B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AAAE5-E394-4B75-9AF7-0FC4A78C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90228-B33A-4836-8232-09CE1848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A3E92-AEF1-4C2C-B80F-98062D33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1804-0C20-408E-9CC8-EDE5FA68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D67F2-4C21-4147-A1B8-01800BD0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942FF-A926-44F9-A600-D2546B76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90FE2-EF0E-4E09-BD43-B97394B5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C9503B-1E4D-4A5C-93E1-C8202248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218E69-1C2C-4353-B974-16584118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FE485E-5CC9-4159-AC86-9623F72A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6749-C7D2-4884-B85F-B76D1D3A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E194FA-E7A6-4459-AACC-900BB3BD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F6F1B9-2B23-4E50-911A-3514BF1F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C60C4A-9910-4CEF-9551-BE4B1B58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EC952C-B808-45A9-AA8D-9F68FDB8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4644F6-3864-4BB2-AD0E-3F34D36E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FA25DE-68EF-46EA-8442-18BFF6DC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B211A6-32CA-4493-AA88-6F53408B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583DC-D909-48B6-ABC3-6C9FCE3A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79A6DA-B54C-47E7-ACF2-63DF6136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8A778-E4CF-45D3-962F-691C398A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E5B-67FB-47DA-9D9F-BF9B8272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A4B29-B048-4F04-9FEB-7B683347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46BDF-8EED-4610-B4CD-4EA58DEE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27772-F608-4C09-A695-64142193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5CFD9-A8FD-4405-A35D-65206F98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59934-CDDF-433B-9B31-3F9A74E5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6E45E-522B-4FB3-9777-0462C0E2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7A1CC-466F-480E-96C6-34056B2D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22274-1E1B-4DDD-B1F2-4AC6A0A7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7DA29-17D9-49B9-9AEE-A5B56F0B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37989-FF1F-4144-8579-F4330539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B3A-E109-4813-BC92-C0B1B56A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2BC33-AE23-44CA-A37B-B50659E1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19D56-754B-49E9-865C-F4E71790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BB8CD-A351-4337-9C84-D7775D1F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81482-CFA8-4D71-847A-BA7F0F45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A982F-474A-4372-96B6-22B46EE2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BB91B-77EF-4FA3-9766-7C150075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F471B-A2E2-4F7B-B61C-DD1B669E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8F6FB-3BC5-47E9-A8B1-A619718B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1CC67-4081-480E-B56F-1C114A9A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9308D-468D-49DB-8C04-DF7D7643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C7E-4B9B-4162-A13A-96DE2ABE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3B66D-E9B7-4D68-86F4-22915C9D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BF985-708D-4F72-8C5C-38D48E85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A4DC0-5D74-46DD-A1B2-A020DC94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B829C-8DAA-4E91-A1A6-0FD6D21A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C900F-ECF3-4223-93C1-110D9F05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E8ED9-50B0-4DE2-BDD5-A1F9B3BB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40EC6-17B6-4BB1-B963-5E6A955C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B6F6C-490E-4D52-AE76-5D3A32B1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A6056-0BAC-4EAC-8233-802EC691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C1AAB-B7C1-4A42-9C22-03267359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1D26-C174-444B-90EA-649B9F5D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F976A-1CFB-4352-8705-58DDB6B7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D06B3-CD7B-4AC6-9D2F-C92ECD09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68437-42A4-47D0-A779-99DEE59D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4AE8D-AB20-4050-A071-055032F9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B4BD5-B987-46C5-B625-CE823719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8A6E9E-1A37-47DD-9C4A-71774802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FA13CD-A23F-47C8-BAA5-06943F0C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D661E4-EAD0-4A33-ABDE-2A70022C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7B92FC-43E7-4C01-9929-2C738E38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46D298-3384-40BF-AA0D-98117388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8A7-9374-4B91-9FF5-1CB91F4C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6F2645-4F1C-4A0F-AA92-1A08BD81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97BDAB-435D-4C8A-B517-A966FBCA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407A51-9CC0-4CCF-9588-BBAF01EA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266ED2-B317-4790-9880-1E31AB2B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E4E970-85F2-4F04-9168-A5E2A587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11BAAC-42A0-49FB-9A05-C27432D1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975FF5-622A-4C6D-AF24-0F144322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788D0D-2045-42BF-8C47-BE30B609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B24C8C-07F9-4581-B741-12F29C0C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351D9E-6F63-441F-8D02-71064709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CC6C-FA73-49B1-A606-B7A7B63931C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8C83-F368-4743-BD18-B066343B596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96DF-A524-490F-8C08-98255732E13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3824-858B-435E-BBAF-4AC88A23B0D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E4EA-86EC-4741-8FAB-06BC8A83A15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6FD2-2DC3-4637-A52A-EEBAD4E52FA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7FBC-650D-49A8-B0E6-BD83D77ED88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A819-DC2E-47D0-9598-20C3B57D7C6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9F67-4A23-4CDE-A735-F1DD99600AF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luesbag7.narod.ru/real-01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hyperlink" Target="http://rane.ru/files/274645/climatechange1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mivmiv.narod.ru/Things/forrester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450720" y="-103320"/>
            <a:ext cx="8736120" cy="2907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178920" y="5084640"/>
            <a:ext cx="81378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ckwell"/>
              </a:rPr>
              <a:t>Chuguev Mikhail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Rockwell"/>
              </a:rPr>
              <a:t>11A, school 67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Picture 10" descr="ecology2"/>
          <p:cNvPicPr/>
          <p:nvPr/>
        </p:nvPicPr>
        <p:blipFill>
          <a:blip r:embed="rId2"/>
          <a:stretch/>
        </p:blipFill>
        <p:spPr>
          <a:xfrm>
            <a:off x="3132000" y="2852640"/>
            <a:ext cx="360864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4" descr=""/>
          <p:cNvPicPr/>
          <p:nvPr/>
        </p:nvPicPr>
        <p:blipFill>
          <a:blip r:embed="rId1"/>
          <a:stretch/>
        </p:blipFill>
        <p:spPr>
          <a:xfrm>
            <a:off x="963720" y="1401840"/>
            <a:ext cx="7607160" cy="13176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1403280" y="263700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Erosion of soil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ccumulation of harmful elements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Desertification of soil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5" name="Picture 4" descr="C:\Users\Ruha\Desktop\полезно\climate change.jpg"/>
          <p:cNvPicPr/>
          <p:nvPr/>
        </p:nvPicPr>
        <p:blipFill>
          <a:blip r:embed="rId2"/>
          <a:stretch/>
        </p:blipFill>
        <p:spPr>
          <a:xfrm>
            <a:off x="5219640" y="3716280"/>
            <a:ext cx="334008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Organization Chart 7"/>
          <p:cNvGrpSpPr/>
          <p:nvPr/>
        </p:nvGrpSpPr>
        <p:grpSpPr>
          <a:xfrm>
            <a:off x="755640" y="1628640"/>
            <a:ext cx="7519320" cy="4104720"/>
            <a:chOff x="755640" y="1628640"/>
            <a:chExt cx="7519320" cy="4104720"/>
          </a:xfrm>
        </p:grpSpPr>
        <p:cxnSp>
          <p:nvCxnSpPr>
            <p:cNvPr id="437" name="_s3076"/>
            <p:cNvCxnSpPr>
              <a:stCxn id="438" idx="1"/>
              <a:endCxn id="439" idx="2"/>
            </p:cNvCxnSpPr>
            <p:nvPr/>
          </p:nvCxnSpPr>
          <p:spPr>
            <a:xfrm rot="10800000">
              <a:off x="4514760" y="2653920"/>
              <a:ext cx="376560" cy="1026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40" name="_s3077"/>
            <p:cNvCxnSpPr>
              <a:stCxn id="441" idx="3"/>
              <a:endCxn id="439" idx="2"/>
            </p:cNvCxnSpPr>
            <p:nvPr/>
          </p:nvCxnSpPr>
          <p:spPr>
            <a:xfrm flipV="1">
              <a:off x="4121280" y="2654280"/>
              <a:ext cx="394200" cy="1026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42" name="_s3078"/>
            <p:cNvCxnSpPr>
              <a:stCxn id="443" idx="0"/>
              <a:endCxn id="439" idx="2"/>
            </p:cNvCxnSpPr>
            <p:nvPr/>
          </p:nvCxnSpPr>
          <p:spPr>
            <a:xfrm flipV="1" rot="16200000">
              <a:off x="4804560" y="2364120"/>
              <a:ext cx="2053080" cy="2632320"/>
            </a:xfrm>
            <a:prstGeom prst="bentConnector3">
              <a:avLst>
                <a:gd name="adj1" fmla="val 51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44" name="_s3079"/>
            <p:cNvCxnSpPr>
              <a:stCxn id="445" idx="0"/>
              <a:endCxn id="439" idx="2"/>
            </p:cNvCxnSpPr>
            <p:nvPr/>
          </p:nvCxnSpPr>
          <p:spPr>
            <a:xfrm flipV="1">
              <a:off x="4515480" y="2653920"/>
              <a:ext cx="3600" cy="20530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46" name="_s3080"/>
            <p:cNvCxnSpPr>
              <a:stCxn id="447" idx="0"/>
              <a:endCxn id="439" idx="2"/>
            </p:cNvCxnSpPr>
            <p:nvPr/>
          </p:nvCxnSpPr>
          <p:spPr>
            <a:xfrm flipH="1" flipV="1" rot="5400000">
              <a:off x="2172960" y="2364480"/>
              <a:ext cx="2053080" cy="2632320"/>
            </a:xfrm>
            <a:prstGeom prst="bentConnector3">
              <a:avLst>
                <a:gd name="adj1" fmla="val 51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39" name="_s3081"/>
            <p:cNvSpPr/>
            <p:nvPr/>
          </p:nvSpPr>
          <p:spPr>
            <a:xfrm>
              <a:off x="3387240" y="1628640"/>
              <a:ext cx="2255760" cy="1026000"/>
            </a:xfrm>
            <a:prstGeom prst="roundRect">
              <a:avLst>
                <a:gd name="adj" fmla="val 16667"/>
              </a:avLst>
            </a:prstGeom>
            <a:solidFill>
              <a:srgbClr val="db535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ways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7" name="_s3082"/>
            <p:cNvSpPr/>
            <p:nvPr/>
          </p:nvSpPr>
          <p:spPr>
            <a:xfrm>
              <a:off x="755640" y="4707360"/>
              <a:ext cx="2255760" cy="1026000"/>
            </a:xfrm>
            <a:prstGeom prst="roundRect">
              <a:avLst>
                <a:gd name="adj" fmla="val 16667"/>
              </a:avLst>
            </a:prstGeom>
            <a:solidFill>
              <a:srgbClr val="eaeb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75439"/>
                  </a:solidFill>
                  <a:latin typeface="Verdana"/>
                </a:rPr>
                <a:t>new technologies 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75439"/>
                  </a:solidFill>
                  <a:latin typeface="Verdana"/>
                </a:rPr>
                <a:t>of filtratio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5" name="_s3083"/>
            <p:cNvSpPr/>
            <p:nvPr/>
          </p:nvSpPr>
          <p:spPr>
            <a:xfrm>
              <a:off x="3387240" y="4707360"/>
              <a:ext cx="2255760" cy="1026000"/>
            </a:xfrm>
            <a:prstGeom prst="roundRect">
              <a:avLst>
                <a:gd name="adj" fmla="val 16667"/>
              </a:avLst>
            </a:prstGeom>
            <a:solidFill>
              <a:srgbClr val="eaeb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75439"/>
                  </a:solidFill>
                  <a:latin typeface="Verdana"/>
                </a:rPr>
                <a:t>economy of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75439"/>
                  </a:solidFill>
                  <a:latin typeface="Verdana"/>
                </a:rPr>
                <a:t>productio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3" name="_s3084"/>
            <p:cNvSpPr/>
            <p:nvPr/>
          </p:nvSpPr>
          <p:spPr>
            <a:xfrm>
              <a:off x="6019200" y="4707360"/>
              <a:ext cx="2255760" cy="1026000"/>
            </a:xfrm>
            <a:prstGeom prst="roundRect">
              <a:avLst>
                <a:gd name="adj" fmla="val 16667"/>
              </a:avLst>
            </a:prstGeom>
            <a:solidFill>
              <a:srgbClr val="eaeb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75439"/>
                  </a:solidFill>
                  <a:latin typeface="Verdana"/>
                </a:rPr>
                <a:t>new laws</a:t>
              </a:r>
              <a:endParaRPr b="0" lang="en-US" sz="2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1" name="_s3085"/>
            <p:cNvSpPr/>
            <p:nvPr/>
          </p:nvSpPr>
          <p:spPr>
            <a:xfrm>
              <a:off x="1865520" y="3168000"/>
              <a:ext cx="2255760" cy="1026000"/>
            </a:xfrm>
            <a:prstGeom prst="roundRect">
              <a:avLst>
                <a:gd name="adj" fmla="val 16667"/>
              </a:avLst>
            </a:prstGeom>
            <a:solidFill>
              <a:srgbClr val="eaeb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75439"/>
                  </a:solidFill>
                  <a:latin typeface="Verdana"/>
                </a:rPr>
                <a:t>ecological 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75439"/>
                  </a:solidFill>
                  <a:latin typeface="Verdana"/>
                </a:rPr>
                <a:t>enlightening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8" name="_s3086"/>
            <p:cNvSpPr/>
            <p:nvPr/>
          </p:nvSpPr>
          <p:spPr>
            <a:xfrm>
              <a:off x="4891320" y="3168000"/>
              <a:ext cx="2255760" cy="1026000"/>
            </a:xfrm>
            <a:prstGeom prst="roundRect">
              <a:avLst>
                <a:gd name="adj" fmla="val 16667"/>
              </a:avLst>
            </a:prstGeom>
            <a:solidFill>
              <a:srgbClr val="eaeb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75439"/>
                  </a:solidFill>
                  <a:latin typeface="Verdana"/>
                </a:rPr>
                <a:t>international 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75439"/>
                  </a:solidFill>
                  <a:latin typeface="Verdana"/>
                </a:rPr>
                <a:t>guard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48" name="Rectangle 4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Rockwell"/>
              </a:rPr>
              <a:t>HOW TO SOLVE THE PROBLEM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865080" y="2421000"/>
            <a:ext cx="37432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Rockwell"/>
              </a:rPr>
              <a:t>Physical</a:t>
            </a: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144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6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ermal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144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6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Noise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144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6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adioactive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144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6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lectromagnetic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Picture 9" descr="is?y6x2rszkSUidPC2VHELctyzrkMejXDrqJ-_BjBn8u9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2349360"/>
            <a:ext cx="3179880" cy="324036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7"/>
          <p:cNvSpPr/>
          <p:nvPr/>
        </p:nvSpPr>
        <p:spPr>
          <a:xfrm>
            <a:off x="464328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b535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TYPES OF POLLU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4" descr=""/>
          <p:cNvPicPr/>
          <p:nvPr/>
        </p:nvPicPr>
        <p:blipFill>
          <a:blip r:embed="rId1"/>
          <a:stretch/>
        </p:blipFill>
        <p:spPr>
          <a:xfrm>
            <a:off x="463680" y="689040"/>
            <a:ext cx="8485200" cy="9507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1" descr="00044181"/>
          <p:cNvPicPr/>
          <p:nvPr/>
        </p:nvPicPr>
        <p:blipFill>
          <a:blip r:embed="rId2"/>
          <a:stretch/>
        </p:blipFill>
        <p:spPr>
          <a:xfrm>
            <a:off x="4788000" y="220500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5"/>
          <p:cNvSpPr/>
          <p:nvPr/>
        </p:nvSpPr>
        <p:spPr>
          <a:xfrm>
            <a:off x="865080" y="2421000"/>
            <a:ext cx="374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aramond"/>
              </a:rPr>
              <a:t>Chemical</a:t>
            </a: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vy metal’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stic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st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mical element’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9" descr="00040658"/>
          <p:cNvPicPr/>
          <p:nvPr/>
        </p:nvPicPr>
        <p:blipFill>
          <a:blip r:embed="rId1"/>
          <a:stretch/>
        </p:blipFill>
        <p:spPr>
          <a:xfrm>
            <a:off x="4859280" y="2184480"/>
            <a:ext cx="3043440" cy="347652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4"/>
          <p:cNvSpPr/>
          <p:nvPr/>
        </p:nvSpPr>
        <p:spPr>
          <a:xfrm>
            <a:off x="468360" y="69228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TYPES OF POLLU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865080" y="2421000"/>
            <a:ext cx="374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aramond"/>
              </a:rPr>
              <a:t>Biological</a:t>
            </a: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oge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crobiologic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tic enginee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4" descr=""/>
          <p:cNvPicPr/>
          <p:nvPr/>
        </p:nvPicPr>
        <p:blipFill>
          <a:blip r:embed="rId1"/>
          <a:stretch/>
        </p:blipFill>
        <p:spPr>
          <a:xfrm>
            <a:off x="463680" y="689040"/>
            <a:ext cx="8485200" cy="950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826560" y="2270160"/>
            <a:ext cx="2305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extras of different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contaminant's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of people activity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6" name="Picture 23" descr="47427_20071129090939"/>
          <p:cNvPicPr/>
          <p:nvPr/>
        </p:nvPicPr>
        <p:blipFill>
          <a:blip r:embed="rId2"/>
          <a:stretch/>
        </p:blipFill>
        <p:spPr>
          <a:xfrm>
            <a:off x="3784680" y="2230560"/>
            <a:ext cx="2436840" cy="16747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9" descr="Картинка 100 из 809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0000" y="3876840"/>
            <a:ext cx="2436480" cy="1888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4" descr="Картинка 100 из 767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1520" y="2230560"/>
            <a:ext cx="2022480" cy="35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4" descr=""/>
          <p:cNvPicPr/>
          <p:nvPr/>
        </p:nvPicPr>
        <p:blipFill>
          <a:blip r:embed="rId1"/>
          <a:stretch/>
        </p:blipFill>
        <p:spPr>
          <a:xfrm>
            <a:off x="463680" y="762120"/>
            <a:ext cx="8454960" cy="13842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755640" y="2276280"/>
            <a:ext cx="640728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Global warming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ppearance of Ozone depletion’s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cid rain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1" name="Picture 7" descr="Картинка 15 из 1044"/>
          <p:cNvPicPr/>
          <p:nvPr/>
        </p:nvPicPr>
        <p:blipFill>
          <a:blip r:embed="rId2"/>
          <a:stretch/>
        </p:blipFill>
        <p:spPr>
          <a:xfrm>
            <a:off x="4500720" y="3645000"/>
            <a:ext cx="2077920" cy="197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Группа 2"/>
          <p:cNvGrpSpPr/>
          <p:nvPr/>
        </p:nvGrpSpPr>
        <p:grpSpPr>
          <a:xfrm>
            <a:off x="792000" y="2637000"/>
            <a:ext cx="7380360" cy="2520720"/>
            <a:chOff x="792000" y="2637000"/>
            <a:chExt cx="7380360" cy="2520720"/>
          </a:xfrm>
        </p:grpSpPr>
        <p:pic>
          <p:nvPicPr>
            <p:cNvPr id="423" name="Picture 8" descr="016"/>
            <p:cNvPicPr/>
            <p:nvPr/>
          </p:nvPicPr>
          <p:blipFill>
            <a:blip r:embed="rId1"/>
            <a:stretch/>
          </p:blipFill>
          <p:spPr>
            <a:xfrm>
              <a:off x="5485680" y="2637000"/>
              <a:ext cx="2686680" cy="21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11" descr="Картинка 2 из 4959"/>
            <p:cNvPicPr/>
            <p:nvPr/>
          </p:nvPicPr>
          <p:blipFill>
            <a:blip r:embed="rId2"/>
            <a:stretch/>
          </p:blipFill>
          <p:spPr>
            <a:xfrm>
              <a:off x="792000" y="3152520"/>
              <a:ext cx="2221920" cy="200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16" descr="Картинка 87 из 131"/>
            <p:cNvPicPr/>
            <p:nvPr/>
          </p:nvPicPr>
          <p:blipFill>
            <a:blip r:embed="rId3"/>
            <a:stretch/>
          </p:blipFill>
          <p:spPr>
            <a:xfrm>
              <a:off x="3013920" y="3152520"/>
              <a:ext cx="2421000" cy="200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6" name="Rectangle 4" descr=""/>
          <p:cNvPicPr/>
          <p:nvPr/>
        </p:nvPicPr>
        <p:blipFill>
          <a:blip r:embed="rId4"/>
          <a:stretch/>
        </p:blipFill>
        <p:spPr>
          <a:xfrm>
            <a:off x="1036800" y="1262160"/>
            <a:ext cx="7381800" cy="95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4" descr=""/>
          <p:cNvPicPr/>
          <p:nvPr/>
        </p:nvPicPr>
        <p:blipFill>
          <a:blip r:embed="rId1"/>
          <a:stretch/>
        </p:blipFill>
        <p:spPr>
          <a:xfrm>
            <a:off x="822240" y="1335240"/>
            <a:ext cx="7639200" cy="13842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899640" y="2852280"/>
            <a:ext cx="42483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death of living creatures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ppearance of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utagenesis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exhaustion of waters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71440" indent="-2714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heavy diseases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9" name="Picture 5" descr="Картинка 25 из 1046"/>
          <p:cNvPicPr/>
          <p:nvPr/>
        </p:nvPicPr>
        <p:blipFill>
          <a:blip r:embed="rId2"/>
          <a:stretch/>
        </p:blipFill>
        <p:spPr>
          <a:xfrm>
            <a:off x="5695920" y="3068640"/>
            <a:ext cx="2448000" cy="16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4" descr=""/>
          <p:cNvPicPr/>
          <p:nvPr/>
        </p:nvPicPr>
        <p:blipFill>
          <a:blip r:embed="rId1"/>
          <a:stretch/>
        </p:blipFill>
        <p:spPr>
          <a:xfrm>
            <a:off x="963720" y="1335240"/>
            <a:ext cx="7527960" cy="8776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Картинка 48 из 236"/>
          <p:cNvPicPr/>
          <p:nvPr/>
        </p:nvPicPr>
        <p:blipFill>
          <a:blip r:embed="rId2"/>
          <a:stretch/>
        </p:blipFill>
        <p:spPr>
          <a:xfrm>
            <a:off x="900000" y="2565360"/>
            <a:ext cx="3498840" cy="22766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Картинка 265 из 7537"/>
          <p:cNvPicPr/>
          <p:nvPr/>
        </p:nvPicPr>
        <p:blipFill>
          <a:blip r:embed="rId3"/>
          <a:stretch/>
        </p:blipFill>
        <p:spPr>
          <a:xfrm>
            <a:off x="4398840" y="2565360"/>
            <a:ext cx="3845160" cy="2266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23:21:19Z</dcterms:created>
  <dc:creator>Маша</dc:creator>
  <dc:description/>
  <dc:language>en-US</dc:language>
  <cp:lastModifiedBy>Александр</cp:lastModifiedBy>
  <dcterms:modified xsi:type="dcterms:W3CDTF">2013-04-19T14:55:56Z</dcterms:modified>
  <cp:revision>28</cp:revision>
  <dc:subject/>
  <dc:title>ГЛОБАЛЬНЫЕ ПРОБЛЕМЫ ЧЕЛОВЕЧЕСТВА</dc:title>
</cp:coreProperties>
</file>