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E4A7-4DD0-4636-96AE-513CC99545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88DF-BC76-4CD3-9281-4E5C8320B96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DF0-9F33-44B2-915F-5D3BA93C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94B-CEC8-4A3A-94E7-2A199AB6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83AE32-C895-4F89-B5B8-B77A4128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19F15B-2755-4771-9272-2C52D629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B596B7-E6D5-49A2-815D-ECCC986A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C6A8AC-D001-4E6B-8BDD-356BEEAC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55DE0B-69FF-413E-AE35-FF21D5E2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997F70-C5A0-46FE-96A0-DB098FF5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54FAF2-3EBF-4F8A-89D1-6858123D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D3491F-A1BE-40B3-8D3E-97425427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BF7438-791A-4E14-8CCE-C06A5006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199-D8EE-4648-ABC4-0DB667B2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29C-9B36-4AD1-86AF-8D35F16C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93442-AF6C-42E2-8CB5-99A92E8A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B839D-7AB5-4A31-A04A-D15586E1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C70CE-31A5-4281-85D0-CA938346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AB7A0-E33A-4A4E-B855-0E16FEF6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EBAF5-B1CA-4B95-A7C2-92DF8AB3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3DD69-56F2-4B31-890A-13E8AE10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DC63D-33D8-404D-8FA7-66FCECE2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371-D2C0-459E-A7E6-4863BC27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4D54D-0BC2-4DED-AF64-26C073AB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BBDA4-2683-4174-A50A-4435A6CF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7694F-7BFA-4A97-9887-F35575AC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00E0E-4A4A-439B-9E5C-C2ED8BC8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B509B-24CD-457D-AB58-A78EE1A2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DC40-21D7-4CAA-BA80-E501266D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09A4-91E0-4210-8532-8F13DB8B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6CEC-3E40-49BF-B829-6D7CA782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E866-9750-4C7A-9633-267CA0AE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84A1-088D-4796-98C8-C07A0F84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5E2-6FD8-4342-BA0F-DBD7A59F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6842A-D800-4395-B338-EE3A8657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2158-391C-4D29-893B-4F7079C1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E82D-2F72-4AE8-A73F-A5D3AE5D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7C92-B5E3-4031-9B96-A1C7142F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3BC2-1BEF-42A2-A41D-3891B21A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991D-B31B-47C9-A5AD-021F31E0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17EB-17C0-43D1-BB88-9CDBE088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9B8E6-EBE0-4BB4-BBB4-4F66DB16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3AEAB-9FDC-403F-88D9-6DC25F1E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13F66-CA72-4AA0-9764-00D25734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6FA-B251-4B3C-8484-E4D1E464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9F188-1CEB-40C0-B2AA-82CB2A71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2DC83-4B28-452F-AEB0-0F72BE10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69BE6-4326-4C36-9DC9-453A4C7F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5E7CB-446D-4F1A-97B1-BFE217DA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ABA0F-933E-47BE-9C0D-26E8AB77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6CA5E-698F-4306-B620-2443D03F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16B1C-102D-42C9-B699-7F40A5D8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CE80B-0785-494A-9E57-C8957CA9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BFDA6-1511-43E9-9D55-1D373700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A5616-F504-4EE9-B4F5-B01906D8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8AD-2B2B-40C3-9476-9EFCC601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11327-CE8B-422D-B7C5-B96D4168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06800-7318-4F4D-B431-D938E03D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5C8E7-7B5A-48A9-B524-CB92D1AD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D59AD-BC77-44F8-B03D-6944192E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009DD-97CA-4F66-B233-BFF3F3ED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B01D4-2C17-44F0-9D1A-E9EF7453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7C8BE-C4C4-4DAD-9F55-32E0FBAC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53480-0113-46FF-9CA2-CE6138BB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F27D-7441-42F7-A9D1-C52E2D46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D9790-F631-484E-B79F-72E10DD0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2A7-04EF-4F0C-A1BA-715A8BCE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4419-0A8E-462A-B591-CBC90D3D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71950-1DC2-4028-B262-EBB9CF80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3548C-7D00-4952-8EB4-27E3D532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BC9E1-BC1A-44C4-B234-D4801FCA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57B03-4846-454D-BE0A-947760DE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0F7F3-F28F-4696-817B-FD1C1511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AEFA1-8830-4D26-BF46-726623D4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65222-C835-4494-9AEA-52F3A8FC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02C94-2C4D-4E70-84E0-A34959D7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748DA-77CE-43DA-974F-2AEA61F8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6EB-11BF-4FFA-97D0-005AA80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C01B3-A057-4A71-8FD5-1EE01BC0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6F231-691D-4425-A276-E3F7D506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32E2C-CFD7-4D12-A1B5-2905B440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1DC5C-63A8-47F5-BBCA-0128A43F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FE71F-03D9-4E78-AB9D-6DEE4EA4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26DF2-1871-44DF-9DA4-979613EB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4A26A-77C4-4F8A-8354-851711DC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16431-A174-4AA8-AABF-2E299CC4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DE820-7EF4-47F7-9846-084748D1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8EFA6-70E9-4089-8DBE-1D7CEB7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BE8-9EAC-4BE2-82F0-B0FF1B7D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F53E8-DBA0-4CA8-891D-798E1F0B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68A95-FCCF-458D-A723-88D495AE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B8ACF-543B-4AFE-B8A0-DBEE9B03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2417C-9515-42D5-A52F-54BD9812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CDC1B-85E8-4041-9786-11F15303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35D319-DCC0-4FA8-A853-52D5375D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74D1DB-E7A2-45F7-B9D7-C10C61C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8BD6DD-AF93-4491-AF87-8EDD2495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70C191-0FC4-40B0-94E9-7AE1F34E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995DB-FA21-45AF-94DF-88CC72BB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0BB-B5DB-4F94-BF11-2B48500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A6C7FA-FBD6-42A4-AA31-EEF10C70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670BDE-9521-4160-98B1-A78E77A0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AC089D-969E-4C7C-8D9D-A6F14E85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B5AEFE-041A-4118-8FF4-3BF0ECA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BFBC6B-1954-41FA-B35A-F9CBD587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853C8D-BC77-46BB-B9AE-C150EDED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1EF5E3-6CC6-40D3-820D-421B8B26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E4C267-5A81-4A49-AEED-DAD0F202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F1CE0C-E143-45DF-8372-519FD3CA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B37014-B9FE-4EFE-A47B-96F70DAD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73AF-8AD4-4916-A01D-64877B7476E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5852-A340-4AC4-B0BF-9079E5E8FA5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F0A6-C4BF-41A6-9B4C-993C00AEFB3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454B-82F5-4693-91FB-5566BC1ED23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CE46-B0A7-4528-AD2D-86D03360915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497C-CF7C-40D2-BFA1-63391E36790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DA3E-1B1A-43D1-8573-721EEEF28DF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1F12-A73E-44C8-B83D-62BE323D91D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3CD0-DAA2-437F-A343-E1E7580AD54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luesbag7.narod.ru/real-01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http://rane.ru/files/274645/climatechange1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mivmiv.narod.ru/Things/forrester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736120" cy="2907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178920" y="5084640"/>
            <a:ext cx="81378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Chuguev Mikhail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11A, school 67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10" descr="ecology2"/>
          <p:cNvPicPr/>
          <p:nvPr/>
        </p:nvPicPr>
        <p:blipFill>
          <a:blip r:embed="rId2"/>
          <a:stretch/>
        </p:blipFill>
        <p:spPr>
          <a:xfrm>
            <a:off x="3132000" y="2852640"/>
            <a:ext cx="36086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4" descr=""/>
          <p:cNvPicPr/>
          <p:nvPr/>
        </p:nvPicPr>
        <p:blipFill>
          <a:blip r:embed="rId1"/>
          <a:stretch/>
        </p:blipFill>
        <p:spPr>
          <a:xfrm>
            <a:off x="963720" y="1401840"/>
            <a:ext cx="7607160" cy="13176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1403280" y="263700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Erosion of soil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ccumulation of harmful elements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Desertification of soil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5" name="Picture 4" descr="C:\Users\Ruha\Desktop\полезно\climate change.jpg"/>
          <p:cNvPicPr/>
          <p:nvPr/>
        </p:nvPicPr>
        <p:blipFill>
          <a:blip r:embed="rId2"/>
          <a:stretch/>
        </p:blipFill>
        <p:spPr>
          <a:xfrm>
            <a:off x="5219640" y="3716280"/>
            <a:ext cx="334008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Organization Chart 7"/>
          <p:cNvGrpSpPr/>
          <p:nvPr/>
        </p:nvGrpSpPr>
        <p:grpSpPr>
          <a:xfrm>
            <a:off x="755640" y="1628640"/>
            <a:ext cx="7519320" cy="4104720"/>
            <a:chOff x="755640" y="1628640"/>
            <a:chExt cx="7519320" cy="4104720"/>
          </a:xfrm>
        </p:grpSpPr>
        <p:cxnSp>
          <p:nvCxnSpPr>
            <p:cNvPr id="437" name="_s3076"/>
            <p:cNvCxnSpPr>
              <a:stCxn id="438" idx="1"/>
              <a:endCxn id="439" idx="2"/>
            </p:cNvCxnSpPr>
            <p:nvPr/>
          </p:nvCxnSpPr>
          <p:spPr>
            <a:xfrm rot="10800000">
              <a:off x="4514760" y="2653920"/>
              <a:ext cx="376560" cy="1026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40" name="_s3077"/>
            <p:cNvCxnSpPr>
              <a:stCxn id="441" idx="3"/>
              <a:endCxn id="439" idx="2"/>
            </p:cNvCxnSpPr>
            <p:nvPr/>
          </p:nvCxnSpPr>
          <p:spPr>
            <a:xfrm flipV="1">
              <a:off x="4121280" y="2654280"/>
              <a:ext cx="394200" cy="1026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42" name="_s3078"/>
            <p:cNvCxnSpPr>
              <a:stCxn id="443" idx="0"/>
              <a:endCxn id="439" idx="2"/>
            </p:cNvCxnSpPr>
            <p:nvPr/>
          </p:nvCxnSpPr>
          <p:spPr>
            <a:xfrm flipV="1" rot="16200000">
              <a:off x="4804560" y="2364120"/>
              <a:ext cx="2053080" cy="2632320"/>
            </a:xfrm>
            <a:prstGeom prst="bentConnector3">
              <a:avLst>
                <a:gd name="adj1" fmla="val 51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44" name="_s3079"/>
            <p:cNvCxnSpPr>
              <a:stCxn id="445" idx="0"/>
              <a:endCxn id="439" idx="2"/>
            </p:cNvCxnSpPr>
            <p:nvPr/>
          </p:nvCxnSpPr>
          <p:spPr>
            <a:xfrm flipV="1">
              <a:off x="4515480" y="2653920"/>
              <a:ext cx="3600" cy="2053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46" name="_s3080"/>
            <p:cNvCxnSpPr>
              <a:stCxn id="447" idx="0"/>
              <a:endCxn id="439" idx="2"/>
            </p:cNvCxnSpPr>
            <p:nvPr/>
          </p:nvCxnSpPr>
          <p:spPr>
            <a:xfrm flipH="1" flipV="1" rot="5400000">
              <a:off x="2172960" y="2364480"/>
              <a:ext cx="2053080" cy="2632320"/>
            </a:xfrm>
            <a:prstGeom prst="bentConnector3">
              <a:avLst>
                <a:gd name="adj1" fmla="val 51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39" name="_s3081"/>
            <p:cNvSpPr/>
            <p:nvPr/>
          </p:nvSpPr>
          <p:spPr>
            <a:xfrm>
              <a:off x="3387240" y="162864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db535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ay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" name="_s3082"/>
            <p:cNvSpPr/>
            <p:nvPr/>
          </p:nvSpPr>
          <p:spPr>
            <a:xfrm>
              <a:off x="755640" y="470736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eaeb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new technologies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of filtratio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" name="_s3083"/>
            <p:cNvSpPr/>
            <p:nvPr/>
          </p:nvSpPr>
          <p:spPr>
            <a:xfrm>
              <a:off x="3387240" y="470736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eaeb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economy of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productio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3" name="_s3084"/>
            <p:cNvSpPr/>
            <p:nvPr/>
          </p:nvSpPr>
          <p:spPr>
            <a:xfrm>
              <a:off x="6019200" y="470736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eaeb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75439"/>
                  </a:solidFill>
                  <a:latin typeface="Verdana"/>
                </a:rPr>
                <a:t>new laws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1" name="_s3085"/>
            <p:cNvSpPr/>
            <p:nvPr/>
          </p:nvSpPr>
          <p:spPr>
            <a:xfrm>
              <a:off x="1865520" y="316800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eaeb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ecological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enlightening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8" name="_s3086"/>
            <p:cNvSpPr/>
            <p:nvPr/>
          </p:nvSpPr>
          <p:spPr>
            <a:xfrm>
              <a:off x="4891320" y="316800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eaeb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international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guar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48" name="Rectangle 4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Rockwell"/>
              </a:rPr>
              <a:t>HOW TO SOLVE THE PROBLEM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865080" y="2421000"/>
            <a:ext cx="37432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Rockwell"/>
              </a:rPr>
              <a:t>Physical</a:t>
            </a: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6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rma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6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oise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6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adioactive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6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ctromagnetic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Picture 9" descr="is?y6x2rszkSUidPC2VHELctyzrkMejXDrqJ-_BjBn8u9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2349360"/>
            <a:ext cx="3179880" cy="324036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7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535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TYPES OF POLLU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4" descr=""/>
          <p:cNvPicPr/>
          <p:nvPr/>
        </p:nvPicPr>
        <p:blipFill>
          <a:blip r:embed="rId1"/>
          <a:stretch/>
        </p:blipFill>
        <p:spPr>
          <a:xfrm>
            <a:off x="463680" y="689040"/>
            <a:ext cx="8485200" cy="950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00044181"/>
          <p:cNvPicPr/>
          <p:nvPr/>
        </p:nvPicPr>
        <p:blipFill>
          <a:blip r:embed="rId2"/>
          <a:stretch/>
        </p:blipFill>
        <p:spPr>
          <a:xfrm>
            <a:off x="4788000" y="2205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865080" y="2421000"/>
            <a:ext cx="374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aramond"/>
              </a:rPr>
              <a:t>Chemical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vy metal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stic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st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mical element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9" descr="00040658"/>
          <p:cNvPicPr/>
          <p:nvPr/>
        </p:nvPicPr>
        <p:blipFill>
          <a:blip r:embed="rId1"/>
          <a:stretch/>
        </p:blipFill>
        <p:spPr>
          <a:xfrm>
            <a:off x="4859280" y="2184480"/>
            <a:ext cx="3043440" cy="34765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4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TYPES OF POLLU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865080" y="2421000"/>
            <a:ext cx="374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aramond"/>
              </a:rPr>
              <a:t>Biological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ge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crobiologic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 engine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4" descr=""/>
          <p:cNvPicPr/>
          <p:nvPr/>
        </p:nvPicPr>
        <p:blipFill>
          <a:blip r:embed="rId1"/>
          <a:stretch/>
        </p:blipFill>
        <p:spPr>
          <a:xfrm>
            <a:off x="463680" y="689040"/>
            <a:ext cx="8485200" cy="950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826560" y="2270160"/>
            <a:ext cx="2305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extras of different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ntaminant's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of people activity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Picture 23" descr="47427_20071129090939"/>
          <p:cNvPicPr/>
          <p:nvPr/>
        </p:nvPicPr>
        <p:blipFill>
          <a:blip r:embed="rId2"/>
          <a:stretch/>
        </p:blipFill>
        <p:spPr>
          <a:xfrm>
            <a:off x="3784680" y="2230560"/>
            <a:ext cx="2436840" cy="1674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9" descr="Картинка 100 из 80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3876840"/>
            <a:ext cx="2436480" cy="1888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4" descr="Картинка 100 из 76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1520" y="2230560"/>
            <a:ext cx="202248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4" descr=""/>
          <p:cNvPicPr/>
          <p:nvPr/>
        </p:nvPicPr>
        <p:blipFill>
          <a:blip r:embed="rId1"/>
          <a:stretch/>
        </p:blipFill>
        <p:spPr>
          <a:xfrm>
            <a:off x="463680" y="762120"/>
            <a:ext cx="8454960" cy="1384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755640" y="2276280"/>
            <a:ext cx="640728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Global warming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ppearance of Ozone depletion’s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cid rain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1" name="Picture 7" descr="Картинка 15 из 1044"/>
          <p:cNvPicPr/>
          <p:nvPr/>
        </p:nvPicPr>
        <p:blipFill>
          <a:blip r:embed="rId2"/>
          <a:stretch/>
        </p:blipFill>
        <p:spPr>
          <a:xfrm>
            <a:off x="4500720" y="3645000"/>
            <a:ext cx="2077920" cy="19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Группа 2"/>
          <p:cNvGrpSpPr/>
          <p:nvPr/>
        </p:nvGrpSpPr>
        <p:grpSpPr>
          <a:xfrm>
            <a:off x="792000" y="2637000"/>
            <a:ext cx="7380360" cy="2520720"/>
            <a:chOff x="792000" y="2637000"/>
            <a:chExt cx="7380360" cy="2520720"/>
          </a:xfrm>
        </p:grpSpPr>
        <p:pic>
          <p:nvPicPr>
            <p:cNvPr id="423" name="Picture 8" descr="016"/>
            <p:cNvPicPr/>
            <p:nvPr/>
          </p:nvPicPr>
          <p:blipFill>
            <a:blip r:embed="rId1"/>
            <a:stretch/>
          </p:blipFill>
          <p:spPr>
            <a:xfrm>
              <a:off x="5485680" y="2637000"/>
              <a:ext cx="268668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11" descr="Картинка 2 из 4959"/>
            <p:cNvPicPr/>
            <p:nvPr/>
          </p:nvPicPr>
          <p:blipFill>
            <a:blip r:embed="rId2"/>
            <a:stretch/>
          </p:blipFill>
          <p:spPr>
            <a:xfrm>
              <a:off x="792000" y="3152520"/>
              <a:ext cx="2221920" cy="20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16" descr="Картинка 87 из 131"/>
            <p:cNvPicPr/>
            <p:nvPr/>
          </p:nvPicPr>
          <p:blipFill>
            <a:blip r:embed="rId3"/>
            <a:stretch/>
          </p:blipFill>
          <p:spPr>
            <a:xfrm>
              <a:off x="3013920" y="3152520"/>
              <a:ext cx="2421000" cy="200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6" name="Rectangle 4" descr=""/>
          <p:cNvPicPr/>
          <p:nvPr/>
        </p:nvPicPr>
        <p:blipFill>
          <a:blip r:embed="rId4"/>
          <a:stretch/>
        </p:blipFill>
        <p:spPr>
          <a:xfrm>
            <a:off x="1036800" y="1262160"/>
            <a:ext cx="7381800" cy="9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4" descr=""/>
          <p:cNvPicPr/>
          <p:nvPr/>
        </p:nvPicPr>
        <p:blipFill>
          <a:blip r:embed="rId1"/>
          <a:stretch/>
        </p:blipFill>
        <p:spPr>
          <a:xfrm>
            <a:off x="822240" y="1335240"/>
            <a:ext cx="7639200" cy="13842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899640" y="2852280"/>
            <a:ext cx="4248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death of living creatures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ppearance of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utagenesis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exhaustion of waters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heavy diseases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9" name="Picture 5" descr="Картинка 25 из 1046"/>
          <p:cNvPicPr/>
          <p:nvPr/>
        </p:nvPicPr>
        <p:blipFill>
          <a:blip r:embed="rId2"/>
          <a:stretch/>
        </p:blipFill>
        <p:spPr>
          <a:xfrm>
            <a:off x="5695920" y="3068640"/>
            <a:ext cx="244800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4" descr=""/>
          <p:cNvPicPr/>
          <p:nvPr/>
        </p:nvPicPr>
        <p:blipFill>
          <a:blip r:embed="rId1"/>
          <a:stretch/>
        </p:blipFill>
        <p:spPr>
          <a:xfrm>
            <a:off x="963720" y="1335240"/>
            <a:ext cx="7527960" cy="8776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Картинка 48 из 236"/>
          <p:cNvPicPr/>
          <p:nvPr/>
        </p:nvPicPr>
        <p:blipFill>
          <a:blip r:embed="rId2"/>
          <a:stretch/>
        </p:blipFill>
        <p:spPr>
          <a:xfrm>
            <a:off x="900000" y="2565360"/>
            <a:ext cx="3498840" cy="2276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Картинка 265 из 7537"/>
          <p:cNvPicPr/>
          <p:nvPr/>
        </p:nvPicPr>
        <p:blipFill>
          <a:blip r:embed="rId3"/>
          <a:stretch/>
        </p:blipFill>
        <p:spPr>
          <a:xfrm>
            <a:off x="4398840" y="2565360"/>
            <a:ext cx="38451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3:21:19Z</dcterms:created>
  <dc:creator>Маша</dc:creator>
  <dc:description/>
  <dc:language>en-US</dc:language>
  <cp:lastModifiedBy>Александр</cp:lastModifiedBy>
  <dcterms:modified xsi:type="dcterms:W3CDTF">2013-04-19T14:55:56Z</dcterms:modified>
  <cp:revision>28</cp:revision>
  <dc:subject/>
  <dc:title>ГЛОБАЛЬНЫЕ ПРОБЛЕМЫ ЧЕЛОВЕЧЕСТВА</dc:title>
</cp:coreProperties>
</file>