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7B9-EE7D-4BFF-9739-3FC4EE40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1E6-202B-48FC-B10D-0316E327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703-8E95-4A25-8DA0-E000934F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D50-E1B0-46DE-9465-A2A37A4B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CB2-023F-4C51-AA65-5EDA6E74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7C8-CBB0-4B83-B7D4-4509438F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B9B-4FE9-47D6-86FF-32F943C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BB8-3373-41CF-824B-DAF04313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881-C9FF-45CF-A644-2F9817C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BD7-176C-42AE-9C1F-544E6211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872-1202-4A7E-8EF6-1BA98EB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A47-8B4C-4C62-9E6D-2788E549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E12E-600A-405E-B77B-A52DCCC3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лассный час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О дружб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имеет право быть выслушанным: один говорит – все слуша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имеет право высказать свое мнение и не подвергаться критике при э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хих мнений не существу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говорит только за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ОЕ ПРАВ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относись к другим так, как хочешь, чтобы относились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8381880" y="63244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188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01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нашем классе самым самостоятельным являе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сто меня приятно удивлял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знь – это сложная штука, но в ней, по моему мнению никогда не пропад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улигану крупно не повезет, если на его пути встрети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ая одаренная личность в нашем классе – это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учше всех умеет в классе выслушать, понять и поддерж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в классе скучно, то значит, в нем отсутству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е интересно наблюдать, как у доски отвеча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зможно, мы очень скоро увидим в отличниках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ще всего мне будет снить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ходчивость присуще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рашением классной дискотеки является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ым добрым человеком в классе, можно назв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политики целесообразно рекомендовать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Щедрость не знает границ у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ромность всегда украшае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селее в классе, когда приходит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коны дружб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Не зазнавайся, если у тебя что-то очень хорошо получилось. Не сердись и не падай духом, если у тебя что-то не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ййй</cp:lastModifiedBy>
  <dcterms:modified xsi:type="dcterms:W3CDTF">2011-12-20T16:58:0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