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FC8C-E512-4DBB-9BF0-274C464CA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CD08-0B71-4C76-9D93-B03971E6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1768-9143-4314-9C76-679EC7CE6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1D09-01B1-41D1-8FBF-D83801069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8C53-D1DB-4D73-BDBC-F32E2215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0027-CA83-4B29-A798-A8C8D7A2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64F2-97BB-4666-B8C0-6FE26C7D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6372-0870-4938-891E-6B20BFE6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0687-0B15-40F3-96A8-59EF2252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3859-AB78-4198-BB36-7EF60EE5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869E-2624-4F76-A9F7-BEF586E6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DA13-DD88-4DBE-8809-86B21D0E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8F6E-5605-4471-97DB-788E82DA4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Классный час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«О дружбе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и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ждый имеет право быть выслушанным: один говорит – все слушаю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ждый имеет право высказать свое мнение и не подвергаться критике при э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охих мнений не существу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ждый говорит только за себ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НОВНОЕ ПРАВИ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относись к другим так, как хочешь, чтобы относились к те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8381880" y="632448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1880" y="63244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7016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8153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нашем классе самым самостоятельным является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Часто меня приятно удивлял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Жизнь – это сложная штука, но в ней, по моему мнению никогда не пропадет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Хулигану крупно не повезет, если на его пути встретится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амая одаренная личность в нашем классе – это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Лучше всех умеет в классе выслушать, понять и поддержать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сли в классе скучно, то значит, в нем отсутствует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не интересно наблюдать, как у доски отвечает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озможно, мы очень скоро увидим в отличниках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Чаще всего мне будет сниться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ходчивость присуще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крашением классной дискотеки является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амым добрым человеком в классе, можно назвать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политики целесообразно рекомендовать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Щедрость не знает границ у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кромность всегда украшает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еселее в классе, когда приходит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5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коны дружб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ин за всех и все за од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С хорошим другом веселей при удаче, легче в б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Не ссорься и не спорь с другом по пустя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Не ябедничай, лучше сам попра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Не зазнавайся, если у тебя что-то очень хорошо получилось. Не сердись и не падай духом, если у тебя что-то не получило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ййй</cp:lastModifiedBy>
  <dcterms:modified xsi:type="dcterms:W3CDTF">2011-12-20T16:58:0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