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177-2CF9-4AD6-B04D-BF6DF829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226-AAE5-4066-8929-FE98F297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F3B-FFCC-457E-871C-06A8E67D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CA45-2ADC-4500-B1C2-989326BF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704-841C-45F6-B5E3-ED7E8ED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CCD-85BD-4343-B1A4-3D44171F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E75E-4B80-4423-AB74-2DB8F9E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630-8019-4E31-ACA8-95AFB95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530F-E3D4-480C-99B8-E81DA6D3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6AF3-4271-4FAF-9F30-805E391D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B9C8-16C2-4793-853A-CA3386EF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EFB-0801-438C-B909-946199DF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A4B7-A502-47E6-A9BD-0D98EF82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F56B-C2F8-4E88-8EF3-DF6A21BA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D488-4BDD-454D-895C-DE9D27B2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1FB7-3E62-4DDC-A4A0-F97368FB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EB4A-3A91-4743-8150-3C79866A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9CC4-382A-4E35-9969-966CDC27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4B24-87BA-48DC-B3A7-A56B25FA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C734-AEC1-4E27-9656-D4B9934A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8A0B-9C85-458A-BEC1-BD1F5614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7B87-C7E8-4EB9-9D7C-2BAB1293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C07-FFA4-4F57-A8B5-84C70B49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2599-FA10-4DEF-A217-A5D3548D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1225-BDBB-4002-99AB-0338126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63DC-2B30-44C6-8B6D-203C05F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CF5C-C587-4B70-8F74-21616E8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2B69-F5C0-4C64-960C-43962ADE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EAEC-B71B-4CD7-B3A0-A17ACD69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B5B4-FA23-4775-82E3-CDA75258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7FAF-EEEA-4317-B0A0-F3EEA31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81BA-31CF-4619-9DCC-F530BF9F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FF2-3617-43B0-92A4-2E6EF7E9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42E-6271-4C71-96ED-30D262FC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ED5-3902-404A-B222-C6922B6D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AAC-735D-4D27-8659-AA820537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FB0F-4299-4B7B-A5AB-24861C9933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73CD-8728-4CFE-AD57-1476564211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E841-1E06-4B87-8E6E-B19CDC22B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24000" y="1844640"/>
            <a:ext cx="8424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Задачи логического характера 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не требующие вычислений</a:t>
            </a:r>
            <a:endParaRPr b="0" lang="en-US" sz="1800" spc="1" strike="noStrike">
              <a:ln w="316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851280" y="4581360"/>
            <a:ext cx="1666800" cy="1614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51280" y="62064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1468440" cy="1655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020000" y="260280"/>
            <a:ext cx="1428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5720" y="1253160"/>
            <a:ext cx="66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логических задач методом блок-схе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1996560"/>
            <a:ext cx="90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начала выделяются операции. Эти операции называются команд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тем устанавливается последовательность выполнения выделенных коман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а последовательность оформляется в виде схемы. Подобные схемы называются блок-схемами и широко используются в программировании. Составленная блок-схема является программой, выполнение которой может привести нас к решению поставленной зада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296360" y="105264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Задач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34900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ются два сосуда — трехлитровый и пятилитров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нашем распоряжении водопроводный кран и раков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уда можно выливать в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26920" y="4869000"/>
            <a:ext cx="1944720" cy="1517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1840" y="3335400"/>
            <a:ext cx="5502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ужно, пользуясь этими сосуд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лучить 1, 2, 3, 4, 5, 6, 7 и 8 литров вод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372360" y="3068640"/>
            <a:ext cx="880920" cy="13683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7812000" y="2060640"/>
            <a:ext cx="10670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19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447640" cy="51786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6" descr=""/>
          <p:cNvPicPr/>
          <p:nvPr/>
        </p:nvPicPr>
        <p:blipFill>
          <a:blip r:embed="rId3"/>
          <a:stretch/>
        </p:blipFill>
        <p:spPr>
          <a:xfrm>
            <a:off x="2987640" y="4292640"/>
            <a:ext cx="5943600" cy="1384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628560"/>
            <a:ext cx="44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альше эта последовательность будет полностью повторяться. Из таблицы видим, что количество воды в обоих сосудах вместе образует следующую последовательность: 0, 5, 2, 7, 4, 1, 6, 3, 0 и т.д. Таким образом, действуя по приведенной схеме, можно отмерить любое количество литров от 1 до 7. Чтобы отмерить еще и 8 литров, надо наполнить оба сос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11480" y="779760"/>
            <a:ext cx="747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КРУГИ ЭЙЛЕ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ЗАДАЧИ НА ПЕРЕСЕЧЕНИЕ ИЛИ ОБЪЕДИНЕНИЕ МНОЖЕСТ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5640" y="2849760"/>
            <a:ext cx="41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уги Эйлера — геометрическая схема, с помощью которой можно изобразить отношения между подмножествами, для наглядного предст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2357280" cy="3533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777280" y="6021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Леонард Эйле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1996560"/>
            <a:ext cx="63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екоторые ребята из нашего класса любят ходить в кино. Известно, что 15 ребят смотрели фильм «Обитаемый остров», 11 человек – фильм «Стиляги», из них 6 смотрели и «Обитаемый остров», и «Стиляги». Сколько человек смотрели только фильм «Стиляг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1040" y="1181880"/>
            <a:ext cx="57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а: "Обитаемый остров" и "Стиляги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2" descr="14.PNG"/>
          <p:cNvPicPr/>
          <p:nvPr/>
        </p:nvPicPr>
        <p:blipFill>
          <a:blip r:embed="rId2"/>
          <a:stretch/>
        </p:blipFill>
        <p:spPr>
          <a:xfrm>
            <a:off x="1908000" y="3645000"/>
            <a:ext cx="5054760" cy="152388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3" descr="15.PNG"/>
          <p:cNvPicPr/>
          <p:nvPr/>
        </p:nvPicPr>
        <p:blipFill>
          <a:blip r:embed="rId3"/>
          <a:stretch/>
        </p:blipFill>
        <p:spPr>
          <a:xfrm>
            <a:off x="1908000" y="5229360"/>
            <a:ext cx="5054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30560" y="1110240"/>
            <a:ext cx="32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АКТИЧЕСКИЕ ЗАДАЧ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781720"/>
            <a:ext cx="77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 тактических и теоретико-множественных задач заключается в составлении учащимися плана действий, который приводит к правильному отв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ложность состоит в том, что выбор нужно сделать из очень большого числа вариантов, т.е. эти возможности не известны учащимся, их нужно придум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248076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Задаю тебе последнюю задачу, - сказала принцесса Иванушке, - найди единственно верный путь из этой комнаты в наш зимний сад и сорви для меня самую красивую розу. Из этой комнаты ты пройдешь через левую, или правую, или среднюю дверь во вторую комнату; такие же три вида дверей будут перед тобой при переходе из второй комнаты в третью и из третей - в сад. Учти мои советы, - продолжала принцесса, - первый: из этого зала пройди через правую дверь; второй: из второй комнаты - не через правую дверь, и третий совет: из третей - не через левую дверь. Иванушка знал, что обычно из трех советов принцессы ровно в двух указывают ложное направление, кроме того, служанка принцессы успела шепнуть ему, что надо пройти через дверь каждого вида по одному разу. Как и полагается сказке, принес Иванушка розу и был вознагражден. Какой же маршрут оказался 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410880" y="2350080"/>
            <a:ext cx="1425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-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 С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+ - + -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 Л П Л П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+ - + +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Л С Л П С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8000" y="235008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ля решения этой задачи нужно рассмотреть всевозможные маршруты, т. к. на избранном пути не должно быть одинаково расположенных дверей, то возможно лишь 6 различных маршрутов (3!). Воспользуемся графами (рис. 27). «Плюс» на соединительном отрезке означает правильный, а «минус» - ложный ответ принцессы. Так как верен один совет, то правильный маршрут тот, который отмечен одним знаком «+» и двумя «-», а именно Л - П -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6480" y="131616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080" y="11818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уквенные ребус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2140560"/>
            <a:ext cx="75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квенные ребусы и задачи со звездоч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тодом подбора и рассмотрения различных вариантов решаются буквенные ребусы и примеры со звездо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акие задачи различны по сложности и схем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4640400"/>
            <a:ext cx="606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0920" y="37162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ссмотрим один такой 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58920" y="2421000"/>
            <a:ext cx="65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ед началом бегов на ипподроме четыре знатока из числа зрителей обсуждали шансы фаворитов А, В ил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4560" y="105264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б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6360" y="3284280"/>
            <a:ext cx="587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ый: Заезд выиграет А ил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торой: Если А придет третьим, то С не выигр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ретий: Если А будет вторым, то выиграет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Четвертый: Вторым придет А или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868640"/>
            <a:ext cx="77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 заезда выяснилось, что три фаворита А, В, С действительно заняли первые три места и что все четыре утверждения знатоков оказались истинными. Как фавориты поделили между собой три первых мес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24000" y="126828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«Главная задача обучения математике, причём с самого начал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первого класса, - учить рассуждать, учить мысли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3080" y="5589000"/>
            <a:ext cx="28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ущий отечестве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ист А.А. Столя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51280" y="3068640"/>
          <a:ext cx="1695600" cy="34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3068640"/>
                    <a:ext cx="16956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96880" y="2593080"/>
            <a:ext cx="61218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озможны 6 вариантов исхода заезда (з!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В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С В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 А (1),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А О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 А В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 В 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472040" y="1181880"/>
            <a:ext cx="35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ТИННОСТ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22759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стинностные задач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это задачи, в которых требуется установить истинность или ложность высказы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378972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крали у Ивана Царевича Василису Прекрасную. Поехал он выручать ее. Поймал Змея Горыныча, Бабу Ягу, Кощея Бессмертного и Лешего – Иван Царевич знал, что один из них украл ее. И спрашивает: «Кто украл Василису?» Змей Горыныч, Баба Яга и Кощей Бессмертный ответили: «Не я», а Леший – «Не знаю». Потом оказалось, что двое из них сказали правду, а двое – неправду. Знает ли Леший, кто украл Васили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236000" y="549360"/>
            <a:ext cx="1490400" cy="3046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179532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411280" y="3141720"/>
            <a:ext cx="18734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1c1c1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ние!</a:t>
            </a:r>
            <a:endParaRPr b="0" lang="en-US" sz="1800" spc="1" strike="noStrike">
              <a:ln w="0">
                <a:noFill/>
              </a:ln>
              <a:solidFill>
                <a:srgbClr val="1c1c1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362960" y="118188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, решаемые с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94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вет. 7 – иском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256536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уман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Я задумала число, умножила его на два, прибавила три и получила 1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ое число я задум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2520" y="4076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21960" y="4581360"/>
            <a:ext cx="43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 – 3 = 14 – число до прибавления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45000" y="494172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 : 2 = 7 – искомое чи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343520" y="1124640"/>
            <a:ext cx="37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НА ПЕРЕЛИ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8000" y="1916280"/>
            <a:ext cx="61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инни-Пух захотел полакомиться медом и пошел к пчелам в г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дороге нарвал букет цветов, чтобы подарить труженицам пчелк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челки очень обрадовались, увидев мишку с букетом цветов, и сказали: «У нас есть большая бочка с ме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ы дадим тебе меда, если ты сможешь с помощью двух сосудов вместимостью 3 л и 5 л налить себе 4л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инни-Пух долго думал, но все-таки смог решить зада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372360" y="1989000"/>
            <a:ext cx="2633400" cy="34322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284720" y="5805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Как он это сделал?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1042920" y="515772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219320"/>
            <a:ext cx="842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в результате можно получить 4 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жно из 5-литрового сосуда отлить 1 л. А как это сдела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ужно в 3-литровом сосуде иметь ровно 2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их получить? – Из 5-литрового сосуда отлить 3 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е лучше и удобнее оформить в виде таблиц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124000" y="4076640"/>
          <a:ext cx="4474440" cy="1544400"/>
        </p:xfrm>
        <a:graphic>
          <a:graphicData uri="http://schemas.openxmlformats.org/drawingml/2006/table">
            <a:tbl>
              <a:tblPr/>
              <a:tblGrid>
                <a:gridCol w="1161720"/>
                <a:gridCol w="552600"/>
                <a:gridCol w="551520"/>
                <a:gridCol w="552600"/>
                <a:gridCol w="551880"/>
                <a:gridCol w="552600"/>
                <a:gridCol w="55152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3511080" y="4046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50920" y="34704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олняем из бочки 5-литровый сосуд медом (1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 5-литрового сосуда отливаем 3 л в 3-литровый сосуд (2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в 5-литровом сосуде осталось 2 литра меда. Выливаем из 3-литрового сосуда мед назад в бочку (3 ша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еперь из 5-литрового сосуда выливаем те 2 литра меда в 3-литровый сосуд (4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полняем из бочки 5-литровый сосуд медом (5 ша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 из 5-литрового сосуда дополняем медом 3-литровый сосуд. Получаем 4 литра меда в 5-литровом сосуде (6 шаг). Задача реш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иск решения можно было начать с такого действия: к трем лит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бавить 1 литр. Но тогда решение будет выглядеть следующим образ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Ходы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40000" y="4221000"/>
          <a:ext cx="4176360" cy="1871280"/>
        </p:xfrm>
        <a:graphic>
          <a:graphicData uri="http://schemas.openxmlformats.org/drawingml/2006/table">
            <a:tbl>
              <a:tblPr/>
              <a:tblGrid>
                <a:gridCol w="869760"/>
                <a:gridCol w="413640"/>
                <a:gridCol w="411840"/>
                <a:gridCol w="414000"/>
                <a:gridCol w="413640"/>
                <a:gridCol w="414000"/>
                <a:gridCol w="411840"/>
                <a:gridCol w="413640"/>
                <a:gridCol w="4140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7800" y="1051560"/>
            <a:ext cx="355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чи на взвеши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499840"/>
            <a:ext cx="80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дачи на взвешива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достаточно достаточно распространённый вид математических задач. В таких задачах от решающего требуется локализовать отличающийся от остальных предмет по весу за ограниченное число взвешиваний. Поиск решения в этом случае осуществляется путем операций сравнения, правда, не только одиночных элементов, но и групп элементов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97240" y="11206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4360" y="206064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 Буратино есть 27 золотых монет. Но известно, что Кот Базилио заменил одну монету на фальшивую, а она по весу тяжелее настоящ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771640" y="4076640"/>
            <a:ext cx="1882800" cy="2521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148360" y="4365720"/>
            <a:ext cx="35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ак за три взвешивания на чашечных весах без гирь Буратино определить фальшивую монет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395280" y="2133720"/>
            <a:ext cx="17161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2493000"/>
            <a:ext cx="803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зделим монеты на 3 кучки по 9 монет. Положим на чаши весов первую и вторую кучки; по результату этого взвешивания мы точно узнаем, в какой из кучек находится фальшивка (если весы покажут равенство, то она - в третьей кучке). Теперь, аналогично, разделим выбранную кучку на три части по три монеты, положим на весы две из этих частей и определим, в какой из частей находится фальшивая монета. Наконец, остается из трех монет определить более тяжелую: кладем на чаши весов по 1 монете - фальшивкой является более тяжелая; если же на весах равенство, то фальшивой является третья монета из части. Задача реш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58920" y="1080000"/>
            <a:ext cx="72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Ре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1340280"/>
            <a:ext cx="565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огика - это наука о законах правильного мышления, о требованиях, предъявляе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х к последователь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оказательному рассуждению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60922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ецкий философ И. К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139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120" y="1326240"/>
            <a:ext cx="43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И ТИПА «КТО ЕСТЬ КТО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" y="2131200"/>
            <a:ext cx="90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ысл задач под кодовым названием «Кто есть кто?» довольно п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даны отношения между предметами и следуя по цепочке этих отношений, вы приходите к правильному результ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436320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несколько методов решения задач типа «Кто есть кто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из методов решения таких задач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 граф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ой способ, которым решаются такие задачи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абличный спосо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1542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8000" y="2276640"/>
            <a:ext cx="90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, синий, желтый и зеленый карандаши лежат в четырех коробках п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 карандаша отличается от цвета ко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, что зеленый карандаш лежит в синей короб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красный не лежит в жел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ой коробке лежит каждый карандаш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117684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методом граф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050920" y="4149720"/>
            <a:ext cx="45594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96440" y="950040"/>
            <a:ext cx="575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 логических задач методом таб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. В каких квартирах живут котя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371520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лый котёнок живёт не в квартире № 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2360" y="1628640"/>
            <a:ext cx="2628720" cy="1737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761920" y="2781360"/>
            <a:ext cx="327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вартирах № 1 и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живут не чёрные кот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91628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квартирах № 1, 2, 3 живут три котёнка – белый, чёрный, рыж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2781360"/>
            <a:ext cx="2592360" cy="1739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399680" y="515772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В какой квартире какой котёнок живё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"/>
          <p:cNvCxnSpPr/>
          <p:nvPr/>
        </p:nvCxnSpPr>
        <p:spPr>
          <a:xfrm>
            <a:off x="2268000" y="4220640"/>
            <a:ext cx="171540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/>
          <p:nvPr/>
        </p:nvCxnSpPr>
        <p:spPr>
          <a:xfrm>
            <a:off x="4211640" y="4220640"/>
            <a:ext cx="162648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 flipH="1">
            <a:off x="1978920" y="4220640"/>
            <a:ext cx="4026600" cy="108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-19800"/>
            <a:ext cx="90010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то где живё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ак как чёрный котёнок не живёт в квартирах №№ 1 и 2 ( по условию ), значит, чёрный живёт в квартире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2. Так как чёрный живёт в квартире № 3 ( по доказательству ), значит белый и рыжий не живут в квартире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3. Так как белый котёнок не живёт в квартире № 1 ( по условию ) и не в квартире № 3 ( по доказательству ), значит, белый живёт - в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4. Так как белый живёт - в № 2 ( по доказательству ), значит, рыжий не живёт - в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5. Так как рыжий не живёт - в № 2 и 3 (по доказательству ), значит, рыжий живёт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в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03280" y="3933720"/>
          <a:ext cx="6076800" cy="2602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л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рны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ж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-1506600" y="40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476360" y="3822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403280" y="5373720"/>
          <a:ext cx="6076800" cy="260280"/>
        </p:xfrm>
        <a:graphic>
          <a:graphicData uri="http://schemas.openxmlformats.org/drawingml/2006/table">
            <a:tbl>
              <a:tblPr/>
              <a:tblGrid>
                <a:gridCol w="2025720"/>
                <a:gridCol w="2025720"/>
                <a:gridCol w="202536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-1476360" y="411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1320" y="6165720"/>
            <a:ext cx="756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: белый живёт в квартире № 2, чёрный - в № 3, рыжий - в № 1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93320" y="1253160"/>
            <a:ext cx="70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логических задач методом рассу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178632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адим, Сергей и Михаил изучают различные иностранные языки: китайский, японский и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 вопрос, какой язык изучает каждый из них, один ответил: "Вадим изучает китайский, Сергей не изучает китайский, а Михаил не изучает арабск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последствии выяснилось, что в этом ответе только одно утверждение верно, а два других ложны. Какой язык изучает каждый из молодых люде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3754440"/>
            <a:ext cx="4373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2060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дим изучает китай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е изучает китайск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 изучает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рно первое утверждение, то верно и второе, так как юноши изучают разные языки. Это противоречит условию задачи, поэтому первое утверждение л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ерно второе утверждение, то первое и третье должны быть ложны. При этом получается, что никто не изучает китайский. Это противоречит условию, поэтому второе утверждение тоже л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ется считать верным третье утверждение, а первое и второе — ложными. Следовательно, Вадим не изучает китайский, китайский изучает Серг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6360" y="1197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меется три утверждения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213120" y="6165000"/>
            <a:ext cx="89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вет: Сергей изучает китайский язык, Михаил - японский, Вадим - араб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21:48:46Z</dcterms:created>
  <dc:creator>Рома</dc:creator>
  <dc:description/>
  <dc:language>en-US</dc:language>
  <cp:lastModifiedBy>HP</cp:lastModifiedBy>
  <dcterms:modified xsi:type="dcterms:W3CDTF">2013-04-19T13:22:10Z</dcterms:modified>
  <cp:revision>30</cp:revision>
  <dc:subject/>
  <dc:title>Задачи логического характера не требующие вычислений</dc:title>
</cp:coreProperties>
</file>