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298-CAA4-4580-8DB3-F4BE3F73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7A6-E310-47E2-9A6A-5971F31D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6CF-06D4-4840-927B-8FEE4D85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4E6-9B28-448E-AA03-2868A408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C740-FA9E-4581-BDAE-C998820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9350-5CC6-4365-82B9-F7D91AE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F9F4-E5F9-4E6C-90FF-5BC5F610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98B7-F793-401F-8D62-45EFF03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971-8640-4633-AE6F-ED96D33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6FE5-ED3D-4836-A762-BC10877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C007-CA14-46FA-A0E5-9463B25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BC8-5C72-4FD2-8CA9-7F88E149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AB9C-879E-4CE0-AAFF-D7EF169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C57-E30E-429C-8134-C26B67D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E161-95E7-418D-ABE4-F3EB1A8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90DA-23A5-4931-A0D3-186CEDA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DC0B-8F5D-4083-9DFC-1C2E676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1EE9-0864-4057-8B08-7379DE35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D158-D06D-4F6F-ADEC-6D8FC27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C31C-E634-45DE-9BB5-276DF88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FDD5-BB4A-473D-9090-684A4E1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7401-92ED-471A-803D-A3E2710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727-3E3F-4357-86DC-AB17BA5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7377-F5BA-453C-B3FE-FF92BB2A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2A52-A5BA-4EEE-AE11-B8E6C22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4A62-0EC9-4D94-8DAB-BBD1721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F60B-E738-49F5-902F-7355884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CEE5-12E9-4DFF-AA5A-79F66B0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D190-8167-42BE-91FC-BAA47816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352F-D6DF-4505-901B-2E20A7A1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07E-59F9-436B-805B-1C14EF8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D0F-3C00-4A3C-846F-7AC9E58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BA0-64F6-45B8-A3D2-D8EDB5D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CCE-5605-40BB-8819-EC18D51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75A-04F3-4EDE-8EDF-3825B77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592-4529-4559-8310-E973EC5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0732-A19B-4190-BE34-F71CBCB97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B1C8-5656-45F5-98BF-66ABB48C41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8D2B-A839-412C-9432-5372B610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4000" y="1844640"/>
            <a:ext cx="842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Задачи логического характера 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е требующие вычислений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51280" y="4581360"/>
            <a:ext cx="1666800" cy="16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51280" y="62064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1468440" cy="165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020000" y="260280"/>
            <a:ext cx="1428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5720" y="1253160"/>
            <a:ext cx="66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логических задач методом блок-схе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996560"/>
            <a:ext cx="90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начала выделяются операции. Эти операции называются коман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тем устанавливается последовательность выполнения выделенных кома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а последовательность оформляется в виде схемы. Подобные схемы называются блок-схемами и широко используются в программировании. Составленная блок-схема является программой, выполнение которой может привести нас к решению поставленной за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6360" y="10526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Задач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34900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ются два сосуда — трехлитровый и пятилитров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нашем распоряжении водопроводный кран и раков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уда можно выливать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1944720" cy="151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1840" y="3335400"/>
            <a:ext cx="5502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ужно, пользуясь этими сосуд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ить 1, 2, 3, 4, 5, 6, 7 и 8 литров во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880920" cy="136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812000" y="2060640"/>
            <a:ext cx="1067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9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447640" cy="5178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6" descr=""/>
          <p:cNvPicPr/>
          <p:nvPr/>
        </p:nvPicPr>
        <p:blipFill>
          <a:blip r:embed="rId3"/>
          <a:stretch/>
        </p:blipFill>
        <p:spPr>
          <a:xfrm>
            <a:off x="2987640" y="4292640"/>
            <a:ext cx="5943600" cy="1384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62856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льше эта последовательность будет полностью повторяться. Из таблицы видим, что количество воды в обоих сосудах вместе образует следующую последовательность: 0, 5, 2, 7, 4, 1, 6, 3, 0 и т.д. Таким образом, действуя по приведенной схеме, можно отмерить любое количество литров от 1 до 7. Чтобы отмерить еще и 8 литров, надо наполнить оба сос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11480" y="779760"/>
            <a:ext cx="747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КРУГИ ЭЙЛЕ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ЗАДАЧИ НА ПЕРЕСЕЧЕНИЕ ИЛИ ОБЪЕДИНЕНИЕ МНОЖЕСТ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849760"/>
            <a:ext cx="41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уги Эйлера — геометрическая схема, с помощью которой можно изобразить отношения между подмножествами, для наглядного пред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357280" cy="353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777280" y="6021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Леонард Эйле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1996560"/>
            <a:ext cx="63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которые ребята из нашего класса любят ходить в кино. Известно, что 15 ребят смотрели фильм «Обитаемый остров», 11 человек – фильм «Стиляги», из них 6 смотрели и «Обитаемый остров», и «Стиляги». Сколько человек смотрели только фильм «Стиляг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1040" y="1181880"/>
            <a:ext cx="57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 "Обитаемый остров" и "Стиляги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14.PNG"/>
          <p:cNvPicPr/>
          <p:nvPr/>
        </p:nvPicPr>
        <p:blipFill>
          <a:blip r:embed="rId2"/>
          <a:stretch/>
        </p:blipFill>
        <p:spPr>
          <a:xfrm>
            <a:off x="1908000" y="3645000"/>
            <a:ext cx="5054760" cy="15238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15.PNG"/>
          <p:cNvPicPr/>
          <p:nvPr/>
        </p:nvPicPr>
        <p:blipFill>
          <a:blip r:embed="rId3"/>
          <a:stretch/>
        </p:blipFill>
        <p:spPr>
          <a:xfrm>
            <a:off x="1908000" y="5229360"/>
            <a:ext cx="5054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30560" y="111024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АКТИЧЕСКИЕ ЗАДАЧ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78172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 тактических и теоретико-множественных задач заключается в составлении учащимися плана действий, который приводит к правильному отв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ложность состоит в том, что выбор нужно сделать из очень большого числа вариантов, т.е. эти возможности не известны учащимся, их нужно приду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248076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Задаю тебе последнюю задачу, - сказала принцесса Иванушке, - найди единственно верный путь из этой комнаты в наш зимний сад и сорви для меня самую красивую розу. Из этой комнаты ты пройдешь через левую, или правую, или среднюю дверь во вторую комнату; такие же три вида дверей будут перед тобой при переходе из второй комнаты в третью и из третей - в сад. Учти мои советы, - продолжала принцесса, - первый: из этого зала пройди через правую дверь; второй: из второй комнаты - не через правую дверь, и третий совет: из третей - не через левую дверь. Иванушка знал, что обычно из трех советов принцессы ровно в двух указывают ложное направление, кроме того, служанка принцессы успела шепнуть ему, что надо пройти через дверь каждого вида по одному разу. Как и полагается сказке, принес Иванушка розу и был вознагражден. Какой же маршрут оказался 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410880" y="2350080"/>
            <a:ext cx="1425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-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 С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+ - + -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 Л П Л П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+ - + +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 С Л П С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8000" y="235008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решения этой задачи нужно рассмотреть всевозможные маршруты, т. к. на избранном пути не должно быть одинаково расположенных дверей, то возможно лишь 6 различных маршрутов (3!). Воспользуемся графами (рис. 27). «Плюс» на соединительном отрезке означает правильный, а «минус» - ложный ответ принцессы. Так как верен один совет, то правильный маршрут тот, который отмечен одним знаком «+» и двумя «-», а именно Л - П -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6480" y="131616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080" y="11818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уквенные ребус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140560"/>
            <a:ext cx="75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квенные ребусы и задачи со звезд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тодом подбора и рассмотрения различных вариантов решаются буквенные ребусы и примеры со звездо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акие задачи различны по сложности и схем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640400"/>
            <a:ext cx="60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7162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ссмотрим один такой 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58920" y="2421000"/>
            <a:ext cx="65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д началом бегов на ипподроме четыре знатока из числа зрителей обсуждали шансы фаворитов А, В ил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4560" y="105264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б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6360" y="3284280"/>
            <a:ext cx="58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: Заезд выиграет А ил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торой: Если А придет третьим, то С не выиг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ретий: Если А будет вторым, то выиграет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етвертый: Вторым придет А ил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8686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 заезда выяснилось, что три фаворита А, В, С действительно заняли первые три места и что все четыре утверждения знатоков оказались истинными. Как фавориты поделили между собой три первых ме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1268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Главная задача обучения математике, причём с самого нач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первого класса, - учить рассуждать, учить мысли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3080" y="558900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ущий отече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ист А.А. Столя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51280" y="3068640"/>
          <a:ext cx="169560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3068640"/>
                    <a:ext cx="16956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96880" y="2593080"/>
            <a:ext cx="61218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зможны 6 вариантов исхода заезда (з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В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С В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 А (1),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А О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 А В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 В 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72040" y="1181880"/>
            <a:ext cx="35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ТИННОСТ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2275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тинностные задач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это задачи, в которых требуется установить истинность или ложность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378972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крали у Ивана Царевича Василису Прекрасную. Поехал он выручать ее. Поймал Змея Горыныча, Бабу Ягу, Кощея Бессмертного и Лешего – Иван Царевич знал, что один из них украл ее. И спрашивает: «Кто украл Василису?» Змей Горыныч, Баба Яга и Кощей Бессмертный ответили: «Не я», а Леший – «Не знаю». Потом оказалось, что двое из них сказали правду, а двое – неправду. Знает ли Леший, кто украл Васили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236000" y="549360"/>
            <a:ext cx="1490400" cy="3046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79532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411280" y="3141720"/>
            <a:ext cx="18734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c1c1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!</a:t>
            </a:r>
            <a:endParaRPr b="0" lang="en-US" sz="1800" spc="1" strike="noStrike">
              <a:ln w="0">
                <a:noFill/>
              </a:ln>
              <a:solidFill>
                <a:srgbClr val="1c1c1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62960" y="11818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, решаемые с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9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вет. 7 – иском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56536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ум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Я задумала число, умножила его на два, прибавила три и получила 1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е число я задум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2520" y="4076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21960" y="4581360"/>
            <a:ext cx="43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 – 3 = 14 – число до прибавления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45000" y="494172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 : 2 = 7 – иском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43520" y="112464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НА ПЕРЕЛИ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916280"/>
            <a:ext cx="61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инни-Пух захотел полакомиться медом и пошел к пчелам в г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дороге нарвал букет цветов, чтобы подарить труженицам пчел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челки очень обрадовались, увидев мишку с букетом цветов, и сказали: «У нас есть большая бочка с ме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дадим тебе меда, если ты сможешь с помощью двух сосудов вместимостью 3 л и 5 л налить себе 4л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нни-Пух долго думал, но все-таки смог решить зада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372360" y="1989000"/>
            <a:ext cx="2633400" cy="3432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580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 он это сделал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219320"/>
            <a:ext cx="842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в результате можно получить 4 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жно из 5-литрового сосуда отлить 1 л. А как это сдела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жно в 3-литровом сосуде иметь ровно 2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их получить? – Из 5-литрового сосуда отлить 3 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 лучше и удобнее оформить в виде таблиц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24000" y="4076640"/>
          <a:ext cx="4474440" cy="1544400"/>
        </p:xfrm>
        <a:graphic>
          <a:graphicData uri="http://schemas.openxmlformats.org/drawingml/2006/table">
            <a:tbl>
              <a:tblPr/>
              <a:tblGrid>
                <a:gridCol w="1161720"/>
                <a:gridCol w="552600"/>
                <a:gridCol w="551520"/>
                <a:gridCol w="552600"/>
                <a:gridCol w="551880"/>
                <a:gridCol w="552600"/>
                <a:gridCol w="55152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511080" y="4046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34704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олняем из бочки 5-литровый сосуд медом (1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 5-литрового сосуда отливаем 3 л в 3-литровый сосуд (2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в 5-литровом сосуде осталось 2 литра меда. Выливаем из 3-литрового сосуда мед назад в бочку (3 ша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из 5-литрового сосуда выливаем те 2 литра меда в 3-литровый сосуд (4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олняем из бочки 5-литровый сосуд медом (5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из 5-литрового сосуда дополняем медом 3-литровый сосуд. Получаем 4 литра меда в 5-литровом сосуде (6 шаг). Задача реш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иск решения можно было начать с такого действия: к трем лит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бавить 1 литр. Но тогда решение будет выглядеть следующим образ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од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40000" y="4221000"/>
          <a:ext cx="4176360" cy="1871280"/>
        </p:xfrm>
        <a:graphic>
          <a:graphicData uri="http://schemas.openxmlformats.org/drawingml/2006/table">
            <a:tbl>
              <a:tblPr/>
              <a:tblGrid>
                <a:gridCol w="869760"/>
                <a:gridCol w="413640"/>
                <a:gridCol w="411840"/>
                <a:gridCol w="414000"/>
                <a:gridCol w="413640"/>
                <a:gridCol w="414000"/>
                <a:gridCol w="411840"/>
                <a:gridCol w="413640"/>
                <a:gridCol w="4140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7800" y="1051560"/>
            <a:ext cx="35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на взвеши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499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дачи на взвешив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достаточно достаточно распространённый вид математических задач. В таких задачах от решающего требуется локализовать отличающийся от остальных предмет по весу за ограниченное число взвешиваний. Поиск решения в этом случае осуществляется путем операций сравнения, правда, не только одиночных элементов, но и групп элементов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97240" y="1120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0606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 Буратино есть 27 золотых монет. Но известно, что Кот Базилио заменил одну монету на фальшивую, а она по весу тяжелее насто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1882800" cy="25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148360" y="436572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за три взвешивания на чашечных весах без гирь Буратино определить фальшивую моне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1716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2493000"/>
            <a:ext cx="803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делим монеты на 3 кучки по 9 монет. Положим на чаши весов первую и вторую кучки; по результату этого взвешивания мы точно узнаем, в какой из кучек находится фальшивка (если весы покажут равенство, то она - в третьей кучке). Теперь, аналогично, разделим выбранную кучку на три части по три монеты, положим на весы две из этих частей и определим, в какой из частей находится фальшивая монета. Наконец, остается из трех монет определить более тяжелую: кладем на чаши весов по 1 монете - фальшивкой является более тяжелая; если же на весах равенство, то фальшивой является третья монета из части. Задача реш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08000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1340280"/>
            <a:ext cx="565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огика - это наука о законах правильного мышления, о требованиях, предъявля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х к последователь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оказательному рассуждению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0922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ий философ И. К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139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120" y="1326240"/>
            <a:ext cx="43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 ТИПА «КТО ЕСТЬ КТО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" y="2131200"/>
            <a:ext cx="90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ысл задач под кодовым названием «Кто есть кто?» довольно п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даны отношения между предметами и следуя по цепочке этих отношений, вы приходите к правильному результ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43632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методов решения задач типа «Кто есть кто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из методов решения таких задач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 граф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способ, которым решаются такие задачи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бличный 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54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8000" y="227664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, синий, желтый и зеленый карандаши лежат в четырех коробках 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карандаша отличается от цвета ко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 зеленый карандаш лежит в синей короб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расный не лежит в жел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коробке лежит каждый карандаш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117684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методом граф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050920" y="4149720"/>
            <a:ext cx="4559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96440" y="950040"/>
            <a:ext cx="575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логических задач методом таб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. В каких квартирах живут котя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371520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ый котёнок живёт не в квартире №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628720" cy="1737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61920" y="2781360"/>
            <a:ext cx="327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вартирах № 1 и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живут не чёрные кот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91628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вартирах № 1, 2, 3 живут три котёнка – белый, чёрный, рыж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59236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99680" y="515772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какой квартире какой котёнок живё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"/>
          <p:cNvCxnSpPr/>
          <p:nvPr/>
        </p:nvCxnSpPr>
        <p:spPr>
          <a:xfrm>
            <a:off x="2268000" y="4220640"/>
            <a:ext cx="171540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>
            <a:off x="4211640" y="4220640"/>
            <a:ext cx="162648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1978920" y="4220640"/>
            <a:ext cx="402660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-19800"/>
            <a:ext cx="9001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то где живё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ак как чёрный котёнок не живёт в квартирах №№ 1 и 2 ( по условию ), значит, чёрный живёт в квартире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. Так как чёрный живёт в квартире № 3 ( по доказательству ), значит белый и рыжий не живут в квартире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3. Так как белый котёнок не живёт в квартире № 1 ( по условию ) и не в квартире № 3 ( по доказательству ), значит, белый живёт - в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4. Так как белый живёт - в № 2 ( по доказательству ), значит, рыжий не живёт - в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5. Так как рыжий не живёт - в № 2 и 3 (по доказательству ), значит, рыжий живё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03280" y="3933720"/>
          <a:ext cx="6076800" cy="2602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р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ж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1506600" y="40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476360" y="3822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03280" y="5373720"/>
          <a:ext cx="6076800" cy="2602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-1476360" y="411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616572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белый живёт в квартире № 2, чёрный - в № 3, рыжий - в № 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93320" y="125316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логических задач методом рас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78632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дим, Сергей и Михаил изучают различные иностранные языки: китайский, японский и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вопрос, какой язык изучает каждый из них, один ответил: "Вадим изучает китайский, Сергей не изучает китайский, а Михаил не изучает арабск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последствии выяснилось, что в этом ответе только одно утверждение верно, а два других ложны. Какой язык изучает каждый из молодых люд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3754440"/>
            <a:ext cx="4373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206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дим изучает китай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е изучает китай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 изучает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рно первое утверждение, то верно и второе, так как юноши изучают разные языки. Это противоречит условию задачи, поэтому первое утверждение л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рно второе утверждение, то первое и третье должны быть ложны. При этом получается, что никто не изучает китайский. Это противоречит условию, поэтому второе утверждение тоже л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ется считать верным третье утверждение, а первое и второе — ложными. Следовательно, Вадим не изучает китайский, китайский изучает Серг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1197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меется три утверждения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213120" y="6165000"/>
            <a:ext cx="89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вет: Сергей изучает китайский язык, Михаил - японский, Вадим -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1:48:46Z</dcterms:created>
  <dc:creator>Рома</dc:creator>
  <dc:description/>
  <dc:language>en-US</dc:language>
  <cp:lastModifiedBy>HP</cp:lastModifiedBy>
  <dcterms:modified xsi:type="dcterms:W3CDTF">2013-04-19T13:22:10Z</dcterms:modified>
  <cp:revision>30</cp:revision>
  <dc:subject/>
  <dc:title>Задачи логического характера не требующие вычислений</dc:title>
</cp:coreProperties>
</file>