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EF9F-F774-43D6-B6EE-72CC740E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1103-4369-48BE-B792-FCA87847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92D-0FEA-414E-A95F-59F65ED7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1E8-29D7-4AB3-9631-F4BCBB1A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CEE-0429-4489-964A-A3687A6C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32AC-F9BE-4918-B66A-6CF074E5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11E-1D59-4ECF-BAE5-776D1500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F70-E2FF-4C32-AF64-7B4490F8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E2FB-3E6B-4F58-989B-14398102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E77-28FC-4538-B236-AFC583A1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125A-71DB-48FE-A647-B7062E2F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9CD-13FC-46F9-98A5-95DFE39D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1AE2-5242-4A55-B03A-968CE6FAC9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.dailymail.co.uk/i/pix/2009/05/06/article-1177829-04D215F2000005DC-856_468x312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army.md/img/comunic/image-20081118_241_01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429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инутка-час бережет!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school015[1]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453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Oval 9"/>
          <p:cNvSpPr/>
          <p:nvPr/>
        </p:nvSpPr>
        <p:spPr>
          <a:xfrm>
            <a:off x="1763640" y="1125360"/>
            <a:ext cx="3456000" cy="1511640"/>
          </a:xfrm>
          <a:prstGeom prst="ellipse">
            <a:avLst/>
          </a:prstGeom>
          <a:solidFill>
            <a:srgbClr val="d5d0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«Поз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днялс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ень потерял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900000" y="4508640"/>
            <a:ext cx="655344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«Минутка-час бережёт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66ff"/>
                </a:solidFill>
                <a:uFillTx/>
                <a:latin typeface="Arial Narrow"/>
              </a:rPr>
              <a:t>Тема: </a:t>
            </a:r>
            <a:r>
              <a:rPr b="1" lang="ru-RU" sz="6000" spc="-1" strike="noStrike">
                <a:solidFill>
                  <a:srgbClr val="0066ff"/>
                </a:solidFill>
                <a:latin typeface="Arial Narrow"/>
              </a:rPr>
              <a:t>Час, минут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b0f0"/>
                </a:solidFill>
                <a:uFillTx/>
                <a:latin typeface="Arial Narrow"/>
              </a:rPr>
              <a:t>Цел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chool081[1]"/>
          <p:cNvPicPr/>
          <p:nvPr/>
        </p:nvPicPr>
        <p:blipFill>
          <a:blip r:embed="rId1"/>
          <a:stretch/>
        </p:blipFill>
        <p:spPr>
          <a:xfrm>
            <a:off x="395280" y="3770280"/>
            <a:ext cx="3024360" cy="26449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"/>
          <p:cNvSpPr/>
          <p:nvPr/>
        </p:nvSpPr>
        <p:spPr>
          <a:xfrm>
            <a:off x="1814400" y="1413000"/>
            <a:ext cx="752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Arial Narrow"/>
              </a:rPr>
              <a:t>Научиться определять время по часа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826920" y="692280"/>
          <a:ext cx="6337440" cy="5688000"/>
        </p:xfrm>
        <a:graphic>
          <a:graphicData uri="http://schemas.openxmlformats.org/drawingml/2006/table">
            <a:tbl>
              <a:tblPr/>
              <a:tblGrid>
                <a:gridCol w="2113200"/>
                <a:gridCol w="2111400"/>
                <a:gridCol w="2112840"/>
              </a:tblGrid>
              <a:tr h="30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51"/>
          <p:cNvSpPr/>
          <p:nvPr/>
        </p:nvSpPr>
        <p:spPr>
          <a:xfrm>
            <a:off x="1332000" y="1557360"/>
            <a:ext cx="1295280" cy="10080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3"/>
          <p:cNvSpPr/>
          <p:nvPr/>
        </p:nvSpPr>
        <p:spPr>
          <a:xfrm>
            <a:off x="5292720" y="1484280"/>
            <a:ext cx="1512720" cy="936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5"/>
          <p:cNvSpPr/>
          <p:nvPr/>
        </p:nvSpPr>
        <p:spPr>
          <a:xfrm>
            <a:off x="3348000" y="5084640"/>
            <a:ext cx="122400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8"/>
          <p:cNvSpPr/>
          <p:nvPr/>
        </p:nvSpPr>
        <p:spPr>
          <a:xfrm>
            <a:off x="1187280" y="3141720"/>
            <a:ext cx="1513080" cy="936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1403280" y="5157720"/>
            <a:ext cx="1295640" cy="10080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826920" y="1052640"/>
          <a:ext cx="6337440" cy="4809960"/>
        </p:xfrm>
        <a:graphic>
          <a:graphicData uri="http://schemas.openxmlformats.org/drawingml/2006/table">
            <a:tbl>
              <a:tblPr/>
              <a:tblGrid>
                <a:gridCol w="2113200"/>
                <a:gridCol w="2111400"/>
                <a:gridCol w="2112840"/>
              </a:tblGrid>
              <a:tr h="30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20"/>
          <p:cNvSpPr/>
          <p:nvPr/>
        </p:nvSpPr>
        <p:spPr>
          <a:xfrm>
            <a:off x="1332000" y="1557360"/>
            <a:ext cx="1295280" cy="10080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1"/>
          <p:cNvSpPr/>
          <p:nvPr/>
        </p:nvSpPr>
        <p:spPr>
          <a:xfrm>
            <a:off x="5292720" y="1484280"/>
            <a:ext cx="1512720" cy="936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5435640" y="3141720"/>
            <a:ext cx="1295280" cy="10080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3"/>
          <p:cNvSpPr/>
          <p:nvPr/>
        </p:nvSpPr>
        <p:spPr>
          <a:xfrm>
            <a:off x="1403280" y="4581360"/>
            <a:ext cx="122400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4"/>
          <p:cNvSpPr/>
          <p:nvPr/>
        </p:nvSpPr>
        <p:spPr>
          <a:xfrm>
            <a:off x="1187280" y="3141720"/>
            <a:ext cx="1513080" cy="936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5508720" y="4581360"/>
            <a:ext cx="129528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7"/>
          <p:cNvSpPr/>
          <p:nvPr/>
        </p:nvSpPr>
        <p:spPr>
          <a:xfrm>
            <a:off x="3419640" y="1557360"/>
            <a:ext cx="1223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8"/>
          <p:cNvSpPr/>
          <p:nvPr/>
        </p:nvSpPr>
        <p:spPr>
          <a:xfrm>
            <a:off x="3419640" y="3213000"/>
            <a:ext cx="1223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9"/>
          <p:cNvSpPr/>
          <p:nvPr/>
        </p:nvSpPr>
        <p:spPr>
          <a:xfrm>
            <a:off x="3348000" y="4653000"/>
            <a:ext cx="1513080" cy="936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j0234131"/>
          <p:cNvPicPr/>
          <p:nvPr/>
        </p:nvPicPr>
        <p:blipFill>
          <a:blip r:embed="rId2"/>
          <a:stretch/>
        </p:blipFill>
        <p:spPr>
          <a:xfrm rot="195000">
            <a:off x="257040" y="864720"/>
            <a:ext cx="2589480" cy="28195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3141720" y="354960"/>
            <a:ext cx="48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6+51            37 -7            80-30           8+71          20+1            32-2 98+0             36-6           19-9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1+19          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1403280" y="5157360"/>
            <a:ext cx="70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Ко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так говорим: «Минутное дело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1245761724_1235658765_fire_280808"/>
          <p:cNvPicPr/>
          <p:nvPr/>
        </p:nvPicPr>
        <p:blipFill>
          <a:blip r:embed="rId1"/>
          <a:stretch/>
        </p:blipFill>
        <p:spPr>
          <a:xfrm>
            <a:off x="4919760" y="476280"/>
            <a:ext cx="3757680" cy="30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i-main-pic" descr="Картинка 13 из 2599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3406680"/>
            <a:ext cx="5183280" cy="33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i-main-pic" descr="Картинка 4 из 1015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2800" y="476280"/>
            <a:ext cx="411480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Rectangle 11"/>
          <p:cNvSpPr/>
          <p:nvPr/>
        </p:nvSpPr>
        <p:spPr>
          <a:xfrm>
            <a:off x="468360" y="3284640"/>
            <a:ext cx="820908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на минуты- человеческая жизн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47da4e332ec2c9d796b359d0980e88e9"/>
          <p:cNvPicPr/>
          <p:nvPr/>
        </p:nvPicPr>
        <p:blipFill>
          <a:blip r:embed="rId1"/>
          <a:stretch/>
        </p:blipFill>
        <p:spPr>
          <a:xfrm>
            <a:off x="611280" y="295200"/>
            <a:ext cx="2016000" cy="2106720"/>
          </a:xfrm>
          <a:prstGeom prst="rect">
            <a:avLst/>
          </a:prstGeom>
          <a:ln w="57240">
            <a:solidFill>
              <a:srgbClr val="9933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2" name="Picture 5" descr="1486"/>
          <p:cNvPicPr/>
          <p:nvPr/>
        </p:nvPicPr>
        <p:blipFill>
          <a:blip r:embed="rId2"/>
          <a:stretch/>
        </p:blipFill>
        <p:spPr>
          <a:xfrm>
            <a:off x="250920" y="2744640"/>
            <a:ext cx="1731960" cy="1333800"/>
          </a:xfrm>
          <a:prstGeom prst="rect">
            <a:avLst/>
          </a:prstGeom>
          <a:ln w="57240">
            <a:solidFill>
              <a:srgbClr val="8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3" name="Picture 6" descr="1751967"/>
          <p:cNvPicPr/>
          <p:nvPr/>
        </p:nvPicPr>
        <p:blipFill>
          <a:blip r:embed="rId3"/>
          <a:stretch/>
        </p:blipFill>
        <p:spPr>
          <a:xfrm>
            <a:off x="6259680" y="295200"/>
            <a:ext cx="2331720" cy="2106720"/>
          </a:xfrm>
          <a:prstGeom prst="rect">
            <a:avLst/>
          </a:prstGeom>
          <a:ln w="57240">
            <a:solidFill>
              <a:srgbClr val="8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4" name="Picture 7" descr="5093038"/>
          <p:cNvPicPr/>
          <p:nvPr/>
        </p:nvPicPr>
        <p:blipFill>
          <a:blip r:embed="rId4"/>
          <a:stretch/>
        </p:blipFill>
        <p:spPr>
          <a:xfrm>
            <a:off x="7020000" y="2744640"/>
            <a:ext cx="1873080" cy="1163880"/>
          </a:xfrm>
          <a:prstGeom prst="rect">
            <a:avLst/>
          </a:prstGeom>
          <a:ln w="57240">
            <a:solidFill>
              <a:srgbClr val="0000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5" name="Picture 8" descr="chagall_clock_large"/>
          <p:cNvPicPr/>
          <p:nvPr/>
        </p:nvPicPr>
        <p:blipFill>
          <a:blip r:embed="rId5"/>
          <a:stretch/>
        </p:blipFill>
        <p:spPr>
          <a:xfrm>
            <a:off x="6372360" y="4257720"/>
            <a:ext cx="2016000" cy="2195640"/>
          </a:xfrm>
          <a:prstGeom prst="rect">
            <a:avLst/>
          </a:prstGeom>
          <a:ln w="57240">
            <a:solidFill>
              <a:srgbClr val="8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6" name="Picture 9" descr="picture-390h"/>
          <p:cNvPicPr/>
          <p:nvPr/>
        </p:nvPicPr>
        <p:blipFill>
          <a:blip r:embed="rId6"/>
          <a:stretch/>
        </p:blipFill>
        <p:spPr>
          <a:xfrm>
            <a:off x="250920" y="4365720"/>
            <a:ext cx="2376360" cy="1785960"/>
          </a:xfrm>
          <a:prstGeom prst="rect">
            <a:avLst/>
          </a:prstGeom>
          <a:ln w="57240">
            <a:solidFill>
              <a:srgbClr val="8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7" name="Picture 10" descr="i?id=125503537&amp;tov=6"/>
          <p:cNvPicPr/>
          <p:nvPr/>
        </p:nvPicPr>
        <p:blipFill>
          <a:blip r:embed="rId7"/>
          <a:stretch/>
        </p:blipFill>
        <p:spPr>
          <a:xfrm>
            <a:off x="3143160" y="4335480"/>
            <a:ext cx="2712960" cy="18208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78" name="Picture 12" descr="j0234131"/>
          <p:cNvPicPr/>
          <p:nvPr/>
        </p:nvPicPr>
        <p:blipFill>
          <a:blip r:embed="rId8"/>
          <a:stretch/>
        </p:blipFill>
        <p:spPr>
          <a:xfrm rot="195000">
            <a:off x="3241800" y="665280"/>
            <a:ext cx="2206440" cy="25257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3"/>
          <p:cNvSpPr/>
          <p:nvPr/>
        </p:nvSpPr>
        <p:spPr>
          <a:xfrm>
            <a:off x="2340000" y="3110040"/>
            <a:ext cx="4321080" cy="64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Часы с нами везд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ши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0200" y="1274760"/>
            <a:ext cx="763452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1.Познакомиться с измерениями времени - часом и мину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school013[1]"/>
          <p:cNvPicPr/>
          <p:nvPr/>
        </p:nvPicPr>
        <p:blipFill>
          <a:blip r:embed="rId2"/>
          <a:stretch/>
        </p:blipFill>
        <p:spPr>
          <a:xfrm>
            <a:off x="1187280" y="549360"/>
            <a:ext cx="2808360" cy="18064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1203480" y="3933720"/>
            <a:ext cx="6462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2.Учиться распознавать  время по ча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1709640" y="5006880"/>
            <a:ext cx="6985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3. Найти ответы на проблемные вопросы ур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8:12:47Z</dcterms:created>
  <dc:creator>XTreme</dc:creator>
  <dc:description/>
  <dc:language>en-US</dc:language>
  <cp:lastModifiedBy>ирина</cp:lastModifiedBy>
  <dcterms:modified xsi:type="dcterms:W3CDTF">2013-01-20T12:40:44Z</dcterms:modified>
  <cp:revision>71</cp:revision>
  <dc:subject/>
  <dc:title>«Поздно поднялся - день потерял!»</dc:title>
</cp:coreProperties>
</file>