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23.gif" ContentType="image/gif"/>
  <Override PartName="/ppt/media/image9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22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17.gif" ContentType="image/gif"/>
  <Override PartName="/ppt/media/image2.wmf" ContentType="image/x-wmf"/>
  <Override PartName="/ppt/media/image14.jpeg" ContentType="image/jpeg"/>
  <Override PartName="/ppt/media/chimes.wav" ContentType="audio/x-wav"/>
  <Override PartName="/ppt/media/image16.jpeg" ContentType="image/jpeg"/>
  <Override PartName="/ppt/media/image15.jpeg" ContentType="image/jpeg"/>
  <Override PartName="/ppt/media/image3.wmf" ContentType="image/x-wmf"/>
  <Override PartName="/ppt/media/image18.gif" ContentType="image/gif"/>
  <Override PartName="/ppt/media/image13.jpeg" ContentType="image/jpeg"/>
  <Override PartName="/ppt/media/image20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0AC-C188-417C-832D-6F4B71E3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2A1-4413-476D-A4AB-B9A290F8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C54FC-2F85-4A7C-A329-84DCC885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C9A77-5042-43D7-88DE-C98AAF1C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72CAC-293A-4763-807F-AB2D6B07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6BD2A-527E-44E5-ADA0-4D4ED72E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62A86-60CE-44C3-8695-5547B8A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06BD2-33D0-41FE-BE9B-8FEAED2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EC60B-29B6-4453-A612-E8CD57B6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8942F-D5A8-4212-9AF5-29E9C83A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DC732-390C-45B6-BC58-351E43D5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D2B40-D435-4EC7-88D3-3587E70A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16F-0CCB-4A62-8785-B3C5BBD7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C03E0-2F8C-48AF-A535-859808EF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EE857-7B6B-48C7-8D8E-90DEABF8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ABEC0-FF28-48CD-8C4E-1924ECB5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A524D-54C1-4007-BD41-E58B7596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A2CC2-3B5F-45EF-A184-2B73046B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B6D84-FE10-4782-945D-AD8D1156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495CD-7D33-4480-B398-91537045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EEA5A-8949-4AF6-B32D-4E7E9B05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6C737-770F-4121-AADD-BD0818DA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9D0CC-6FF3-4161-80CA-8E11E88F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560-60EA-401E-BDEE-D38B639FC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58E2B-B05A-41D1-BBB3-E7C776F7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9CA8-49DA-4B6A-98F5-C557595B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F369-4D83-49B0-A5CF-36272821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B314-27F4-4EE4-BBD9-8529524E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B7E5-95F5-402E-A506-E0BC412C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CDB7-694F-4ABD-A286-3A20D522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499E-2C22-4877-8BC1-502A96B3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44DB-92DD-4335-8DF0-E91B6D29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C80-1E1D-46F7-979D-88890E31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8901-8133-4661-BB72-6486B6EE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F5E6-D126-4F8B-8466-2BA4022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5757-7BD0-492F-A4C6-49F69849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91C4-3856-4E38-B2BE-DFA5C37F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FC7F-61D1-4BF6-8E1A-C22ED374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E07A-67D5-4B06-A9C6-27D10FAE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8B49-39AB-4A9C-ABAB-4515306C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E6709-04E5-40F4-8F2E-415D40D8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3B0AC-D690-4D6C-A790-9D9FC54D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67AC-546B-4E75-BADD-9AC2EE67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DC9-FB64-43F8-8763-C4F52ECE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16CC8-947B-475D-9931-0EDF97A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DC652-46A9-4067-87A4-958F6F67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119F-C5D8-4F79-B4E8-8CC1BEF5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D7FC-FA66-4111-8C31-F74C7ECD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B1C3-2BEC-4098-8272-E79B9D04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7EBC9-4D3D-4787-9768-E2482ADB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0ED66-9C11-4544-856C-7B960F63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535C-B82B-46B7-B7DE-029F10CE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46BF-51B1-4753-A56E-156E36A7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478C-08BE-4BE8-9C18-F941BC97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641-6D76-4715-AA70-AD0594F7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DF76-A082-4628-AFAA-549B692F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AC35C-1381-4D82-AD9C-159D60C2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0F57B-1C41-42FA-9A86-C9CA9E6A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FE668-25F1-44EA-BE3E-6DB2786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EAF0-5F87-4D89-A5A4-952DDB36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B3AF5-17D4-4015-814C-0A3C7545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B3A5-6E9E-4AE0-A7F1-D7D66FC1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CC1ED-466D-4C8F-B818-E125A2BA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CA91-4548-4B91-9A45-9088D08C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EC7BC-296E-46AE-B8A4-07FE116E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5E3-7B50-43FC-B9DD-5A95EA85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1645B-862F-4B1A-BE40-3270BE0A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7E253-CEB0-4A41-B198-C4A0B7D8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5898B-FE31-4CA8-B7F9-FA23D64B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49B1C-CF64-4596-8FBE-6575AD78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DBA66-BF75-4E38-8EC8-98E7BFA5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92609-3F71-41CD-A77B-ECD28A40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9F54E-19A8-4B26-A945-644045E8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EE5B9-A518-41E0-9A1A-A24A5A80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0208E-C3D4-48BF-AEC6-8F7A5F60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94E7C-95D5-4BF3-A6D4-F4B571F8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6F93-2E2B-4F4C-A6F6-705093E3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44CC2-B820-4D9C-982A-A4487392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0441-AF89-4391-9697-D272A09A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3234C-7990-4708-AD5B-D330435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066A7-045B-4C4A-935B-C63EE02D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AD290-10B7-44E2-B35B-94B2F764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BC6B-BE70-4655-A439-8D8B3090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87DF4-9540-4189-869A-15F7DA41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62F4-AD1A-4905-94DA-BD58799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C8A1-CCE5-4B69-971A-FF10D2B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58980-5EA7-47F4-932B-3C770BC2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89A-F4C3-4AD9-89CF-C880C0C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81C1A-A38D-43D3-920B-2912F464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2C3EF-5E98-4D5D-A0F4-B245702E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B1028-3FD9-40EB-92E3-68E314F67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36D62-C5FD-48A5-A439-5D0F68F9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34C8-C352-42D1-90B4-72DD6FFA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165D6-B31F-46D0-AFA8-6B3EF841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7325C-73E5-47D3-BC2E-AE760DEF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BF7A1-C66B-41D6-A5F7-971DD577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B6895-4E45-4D9A-ACD6-1DD3E787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13C7F-6BDE-4D4E-9E42-9987A8FB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3EF-7BCE-443F-8E6B-43106B50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54A3-74C0-413A-9D4D-E3FAA8E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3DC5D-AF42-4A6E-97A5-A467C0C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7A9DC-3C0A-46A1-B106-E2B542F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30D0A-DAF4-44F1-BC44-AAA6D9C2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8CBAA-F733-499A-BB76-434518742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26F9B-ADAD-4008-BC31-ED1554B4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C289F-4465-41A2-A44B-496AA75F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6A142-8D2F-4127-8116-F96E46FF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774F2-363A-49AB-A445-808CE5A9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419F1-87D5-45B6-9D92-A129ECFD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8A5B-D825-4C03-978B-C49EEDB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8E2F-2F59-4A48-978B-9CB011A6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8FEB5-C336-4B4F-B0C9-67B3248B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847CE-F205-4098-9801-3D84E60D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57B55-8306-4DF3-8F0E-1FDBFB26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41A36-B035-4BD4-AA23-2C7D51FA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B036F-B798-45BC-B119-CB010D4C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EF49C-4937-4391-8BA0-68BC03ED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D724A-AB8F-480E-A4A7-089DC726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34B80-90EE-4225-A3B0-DD5345F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794F3-F900-4AC3-B819-09F2BE99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5971-33E1-49B0-91E9-3579583230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A6BA-125C-419E-A54E-40C195D90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D7B-3BBF-4942-8B29-90B9AB94D3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EC89-3792-4365-8C98-847AAF6CC1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1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1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2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9ADE-4166-472B-A6C2-EE826DF4FD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2F58-767F-40AD-9B63-1EC6D94793E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3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3173-181B-47B9-B42C-5140807EE9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5739-A14F-4AC2-93A5-53EEB08344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0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3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9C30-4B31-4B91-823A-A9F9C611D3D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CB32-B8EE-4B9C-A4DE-F5F14AAF8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Один за всех,</a:t>
            </a:r>
            <a:r>
              <a:rPr b="1" lang="en-US" sz="6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39640" y="3141360"/>
            <a:ext cx="8353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99"/>
                </a:solidFill>
                <a:latin typeface="Verdana"/>
              </a:rPr>
              <a:t>и все за одного!</a:t>
            </a:r>
            <a:endParaRPr b="1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743280" cy="49244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539640" y="551664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Михаил Васильевич Ломоносов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711-1765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3672000" cy="460836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26920" y="5084640"/>
            <a:ext cx="7921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Иван Алексеевич Бунин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870-1953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"/>
          <p:cNvGraphicFramePr/>
          <p:nvPr/>
        </p:nvGraphicFramePr>
        <p:xfrm>
          <a:off x="2627280" y="189000"/>
          <a:ext cx="3673440" cy="482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89000"/>
                    <a:ext cx="36734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611280" y="522936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26920" y="5300640"/>
            <a:ext cx="7777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Александр Александрович Блок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880-192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5819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Как бы мне хотелось жить в волшебном доме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Где хранятся сказки, как стихи в альбоме,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Где старушки-стены сплетничают ночью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Обо всём, что в сказках видели воочию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Где огонь в камине создаёт уют,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И на книжной полке чудеса живут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684360" y="1125360"/>
            <a:ext cx="770400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Дядя Фёдор, кот и пёс.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Verdana"/>
              </a:rPr>
              <a:t>Эдуард Успенский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22 декабря 2007 г. исполнилось 70 ле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408720" cy="568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0581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0534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ловил Дуремар на болоте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755640" y="3212640"/>
            <a:ext cx="77788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(пиявок)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А. Толсто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«Золотой ключик, или Приключения Буратино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31640" y="907920"/>
            <a:ext cx="71182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Героиня какой сказки проходила «тестирование» на принадлежность к королевскому роду?</a:t>
            </a:r>
            <a:endParaRPr b="0" lang="en-US" sz="3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8207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«Принцесса на горошине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Х. К. Андерсен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684360" y="1600200"/>
            <a:ext cx="6480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 наяву и не во сне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ез страха и без роб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ы снова бродим по стране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оторой нет на глобус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 карту не нанесена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о знаем ты и я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Что есть она, что есть стр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Литературная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6659640" y="404640"/>
            <a:ext cx="2160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677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В какой зарубежной сказке многодетная мама одна воспитывала семерых деток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826920" y="4279680"/>
            <a:ext cx="780912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«Волк и семеро Козлят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Братья Грим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2436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зовите отчество Федоры из сказки К. И. Чуковского «Федорино горе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44370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Федора Егоровна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то жил на улице Бассейной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«Человек рассеянный с улицы Бассейной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С. В. Михалк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ак звали героя сказки с бородой необычного цвета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Синяя Борода из одноимённой сказки Братьев Гримм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брый соломенный человек с жутким именем кто это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5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Страшила из сказки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А. М. Волкова «Волшебник изумрудного города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42800" y="764640"/>
            <a:ext cx="8244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амый знаменитый житель Цветочного города – это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знайка из пове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. Н. Носова «Приключения Незнайки и его друзей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42800" y="765000"/>
            <a:ext cx="82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зовите полное имя старика Хоттабыча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ассан Абдуррахман ибн Хоттаб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з сказки Л. И. Лагина «Старик Хоттабыч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изнесите заветные слова, которые должен был обязательно выучить главный герой сказки Киплинга «Маугли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Мы с тобой одной крови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Что служило Дюймовочке колыбелькой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Скорлупка грецкого ореха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Х. К. Андерсен «Дюймовочка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азовите имя, фамилию, и место жительства Малыша, героя сказки А. Линдгрен «Малыш и Карлсон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Сванте Свантесон,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г. Стоггольм, Швеция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755640" y="1197000"/>
            <a:ext cx="7777080" cy="26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етствую тебя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2195640" y="4437000"/>
            <a:ext cx="18176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Сколько раз ходил старик к морю в сказке А. С. Пушкина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9640" y="364500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(шесть)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Сказка о рыбаке и рыбке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611280" y="1844640"/>
            <a:ext cx="77547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ери героев сказки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628280"/>
            <a:ext cx="6870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Comic Sans MS"/>
              </a:rPr>
              <a:t>Блиц-турнир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6156360" y="3860640"/>
            <a:ext cx="172872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403280" y="2492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99"/>
                </a:solidFill>
                <a:latin typeface="Verdana"/>
              </a:rPr>
              <a:t>Музыкальная пауза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4643280" y="692280"/>
            <a:ext cx="1297080" cy="136836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 rot="537600">
            <a:off x="6330960" y="4107960"/>
            <a:ext cx="229860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66"/>
                </a:solidFill>
                <a:latin typeface="Verdana"/>
              </a:rPr>
              <a:t>Зарубежная литератур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9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Давайте знакомую книгу открое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И снова пройдём от страницы 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            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странице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Всегда ведь приятно с любимы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герое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Опять повстречаться, опят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    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подружитьс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6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то из литературных героев провёл 28 лет на необитаемом острове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Робинзон Крузо, герой одноимённого ром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. Деф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Кто из литературных героев потерпел кораблекрушение и был взят в плен лилипутами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Гулливер  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Дж. Свифт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«Путешествия Гулливера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9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Назовите автора романа «Белый клык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99"/>
                </a:solidFill>
                <a:latin typeface="Verdana"/>
              </a:rPr>
              <a:t>Джек Лондо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Кто из литературных героев помчался вдогонку за Белым кроликом, провалился в глубокий колодец и оказался в удивительной стране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Алиса из сказки Л. Кэрролла «Алиса в стране чудес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24000" y="692280"/>
            <a:ext cx="8351640" cy="52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«Человек, любящий и умеющий читать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- счастливый человек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н окружён множеством умных, добрых и верных друзей.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Друзья эти -книги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громный   мир  –  заманчивый  и разнообразный – врывается  к  нам  со страниц  любимых  книг…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                            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. Г. Паустовски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979640" y="1125360"/>
            <a:ext cx="58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26920" y="2421000"/>
            <a:ext cx="7705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знай портрет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158436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187280" y="404640"/>
            <a:ext cx="7056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Пословицы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едаром молвятся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Без них прожить никак нельзя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Они великие помощницы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 в жизни верные друзья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рой они нас наставляют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веты мудрые дают,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рой чему-то научаю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И от беды нас берегут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33"/>
                </a:solidFill>
                <a:latin typeface="Verdana"/>
              </a:rPr>
              <a:t>Перевёртыши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5688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Счастье от глупости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Живые тела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Закон и поощрение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«Солдатский сын»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7596360" y="1484280"/>
            <a:ext cx="1027080" cy="10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4880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66"/>
                </a:solidFill>
                <a:latin typeface="Verdana"/>
              </a:rPr>
              <a:t>         </a:t>
            </a:r>
            <a:r>
              <a:rPr b="1" i="1" lang="en-US" sz="3200" spc="-1" strike="noStrike">
                <a:solidFill>
                  <a:srgbClr val="006666"/>
                </a:solidFill>
                <a:latin typeface="Verdana"/>
              </a:rPr>
              <a:t>Поэзия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– великое чудо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Но открывается оно, как и чудо природы, не сразу и не всем, а только человеку умному, доброму, чуткому. Постарайтесь же стать такими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7829640" y="549360"/>
            <a:ext cx="1314360" cy="118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5.55556E-006 C 0.0375 -0.08172 0.07465 -0.1632 0.11337 -0.13774 C 0.15226 -0.11228 0.16424 0.15208 0.23368 0.15346 C 0.30295 0.15485 0.4783 -0.23404 0.53003 -0.12894 C 0.58212 -0.02385 0.59062 0.68634 0.54531 0.78448 C 0.49983 0.88263 0.37361 0.45856 0.25694 0.45995 C 0.14028 0.46134 -0.06511 0.85647 -0.15469 0.79328 C -0.24445 0.73009 -0.28646 0.17407 -0.28142 0.08009 C -0.27639 -0.0139 -0.20052 0.1074 -0.12465 0.22893 E">
                                      <p:cBhvr>
                                        <p:cTn id="335" dur="5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440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Люблю тебя, Петра творенье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Люблю твой строгий, стройный вид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Невы державное теченье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Береговой её гранит…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. С. Пушкин. «Медный всадник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7354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Есть в осени первоначальной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роткая, но дивная пора –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Весь день стоит как бы хрустальный,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И лучезарны вечера…          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44841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Ф. Тютче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57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Задремали звёзды золотые,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Задрожало зеркало затона,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Брезжит свет на заводи речные 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И румянит сетку небосклона…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547280" y="4941720"/>
            <a:ext cx="619308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«С добрым утром»  С. Есени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6804000" y="476280"/>
            <a:ext cx="113364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12944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Ночевала тучка золотая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На груди утёса-великана;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Утром в путь она умчалась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                                   рано,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По лазури весело играя…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03280" y="4653000"/>
            <a:ext cx="662472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« Утёс»     М. Лермон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рузья мои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Хочу я вам сказать –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Хоть мы живём в эпоху атомного века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и зал компьютерный, ни выход в Интерне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 смогут заменить общенье с человек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даром говорят, кто в этом знает тол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ак одолела хворь телесная – беги в аптеку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А если вдруг душа болит –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Спеши, мой друг, в  библиотек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4788000" y="3357720"/>
            <a:ext cx="2744640" cy="26604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 txBox="1"/>
          <p:nvPr/>
        </p:nvSpPr>
        <p:spPr>
          <a:xfrm>
            <a:off x="1403280" y="1125360"/>
            <a:ext cx="525636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О Л О Д Ц Ы!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350720" y="-913680"/>
            <a:ext cx="779292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4176720" cy="468144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258920" y="5300640"/>
            <a:ext cx="7058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Михаил Юрьевич Лермонтов (1814-1841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4319640" cy="51847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1332000" y="6093000"/>
            <a:ext cx="70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6920" y="5589720"/>
            <a:ext cx="792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Гаврила Романович Державин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1743-1816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3743280" cy="45352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611280" y="5157720"/>
            <a:ext cx="8064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Николай Васильевич Гоголь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809-1852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3600360" cy="47530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468360" y="5373720"/>
            <a:ext cx="8675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Лев Николаевич Толстой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828-191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3889080" cy="46800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826920" y="558972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Василий Андреевич Жуковский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1783-1852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7:13:52Z</dcterms:created>
  <dc:creator>Петька</dc:creator>
  <dc:description/>
  <dc:language>en-US</dc:language>
  <cp:lastModifiedBy>Петька</cp:lastModifiedBy>
  <dcterms:modified xsi:type="dcterms:W3CDTF">2008-03-19T17:30:14Z</dcterms:modified>
  <cp:revision>21</cp:revision>
  <dc:subject/>
  <dc:title>Один за всех, и все за одного!</dc:title>
</cp:coreProperties>
</file>