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23.gif" ContentType="image/gif"/>
  <Override PartName="/ppt/media/image9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17.gif" ContentType="image/gif"/>
  <Override PartName="/ppt/media/image2.wmf" ContentType="image/x-wmf"/>
  <Override PartName="/ppt/media/image14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3.wmf" ContentType="image/x-wmf"/>
  <Override PartName="/ppt/media/image18.gif" ContentType="image/gif"/>
  <Override PartName="/ppt/media/image13.jpeg" ContentType="image/jpeg"/>
  <Override PartName="/ppt/media/image20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957-F875-4C73-9B9F-E1CEC097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ED8-6E9E-4DA2-90C9-5B1DD0E9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819C7-70CD-4C8C-A358-2D2CD44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2D839-2D9C-4262-8698-DAD81DA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655BD-D449-4351-B47A-F310117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1F06F-9AE9-4DAD-9C06-290626D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AD9D6-6E53-4C1B-8934-6B2C0C3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59C40-5E69-4BF6-9D25-B277114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3827E-E166-4B8D-A7FC-D083911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0C6BD-D185-497B-B1FA-8CE760BD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F72F7-415A-4F15-889A-6ABFD490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0962B-7FED-4AF1-8156-F0513011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159-95D0-44D9-808F-3F4D45E9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02638-248D-47AE-A557-FBE2244A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223A8-12CB-45CE-B539-014D905A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2E041-04A0-42E4-883B-31AFC297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BB179-47ED-4A43-99DE-80E07810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93E8D-FF76-4FBB-BA52-1B81717F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79546-7D15-4999-8995-3ABAD1C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703A6-2552-4826-9D5B-D83E6169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808C2-14E6-4BFF-B0CE-F378A61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98637-4C9D-4D80-8D76-32360D88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1DDD-CE8F-481F-9622-CEC950A2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1AE-5C2F-4451-965E-7D331792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A5D97-9300-46A3-A460-9BA0A808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31F-64A1-48E1-8BA5-B1A89ECB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4944-6435-43A9-ABF4-E6B0860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B1F3-118B-4BF7-A751-5134AF5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C155-C5A7-4168-841F-049CA217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A7B0-B9AC-4172-838D-EFA7B230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767-18C3-4CB1-8659-4334602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856-60F7-4152-902B-5561FA9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73A-B2F8-4733-B472-35E417C1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F5B3-4B48-4756-97B2-E6A0F5E0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C963-3A63-4ABF-A5F8-3F5BDD9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6365-B115-4DCE-BB52-8CEDDC1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2A7A-AE00-4368-AD10-F9319C50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0CB-9375-4E24-824A-C53FAD14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1C9B-A37E-4F1C-AF11-025144BB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4F19-A395-469B-8637-0DA16755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F8C1-4ABD-473D-9B06-23A5D02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6BB2-2FEC-454A-B59B-2B1C5EE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BB19-7735-4647-A038-F11F0955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C29-31F9-497B-85EB-1B98C5A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7FF5-841C-4557-B285-9E58A35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91E4-547D-4E12-B446-B6899AA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4D36-23D5-4BC6-BF11-51CE906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C3FA-4A7C-43C3-A2FB-C1F3977C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4FAD-42B8-4CA3-AD21-9BF86440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9ECC-18B9-4434-A94E-8C25DAC9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5BED-DC6A-4EC4-B8F3-51994B83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DF86-D415-4C1D-A9BD-DB493CAE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A617-3037-47B1-B793-8A832ABB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7D3F-6FEC-4F59-8467-582BA6BB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9C6-BF37-48E8-BBF3-C8131EAF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67D6-868A-474E-BEC2-565F205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9834-2F4C-454C-B9A0-6BDD0D1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EA3C-ED78-4398-B32A-199F128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9EE0-A521-480B-B421-C4AC325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2A8E-1991-4CDF-8470-DE0A0F3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F3B1-DFDE-4968-B7F9-4606EBA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A024-D987-4B82-BD1C-D020E89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E214-EFBB-472E-8847-4D440707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6908-61F4-4432-A76E-132AA444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5003F-2C5E-469E-BD0F-AFE77D26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160-BE4C-4838-B184-2637DED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531DF-B415-47E2-923C-A8AF1FE7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0D7BB-410C-48E0-BFB7-5E3FCF4B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C857F-E76D-4B28-8370-B3BDD6D1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2B5C6-B0B6-411C-ACC5-DCF269CC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14432-B891-4FE0-902D-8BF6FAB6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BBE0E-CF9F-44AF-ACC5-3782534D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36720-9773-4DE9-981D-DEAEDA53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3E391-1F63-440B-923E-8FAE85B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CF33C-F824-49A3-847E-42884312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52FCC-AB5A-4D48-84C5-2BDD98D8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8B4-AE8C-4C21-8F27-E93DB20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1A35C-3B9C-4126-A426-6C14D24F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5AFC-FC99-4635-8715-FF8FB01B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2D6B-2CDE-4835-90E7-81E3D17D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D24C8-58B4-43D7-9DA9-DE2C7AB7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DFE0-638D-4C67-91D9-E35401C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2452-DC40-4C24-A0E3-653931B0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D416-3C83-4EC6-AC15-437D5FE5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59813-AFE5-4816-844A-967CDF8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5B3C-7313-43A4-B8E0-DE5B395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EDCB-76E9-46EF-9C26-EC01C06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ADC-F527-4167-AF8B-66A4120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5CDE-42FE-4395-AD91-0A5D5D8D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447B-2B98-42FF-A9D7-1B45682A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6425-8B42-4B76-A2D5-AEFE5E32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FB30A-2D0D-40AD-9112-4ACEE08A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27D1-A665-4A43-801B-FAEBFCE0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1055B-C53C-4028-8627-18886FE3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2943-6802-47D1-82A1-3347A0E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6C6AD-6577-408A-9C6D-A369E28A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4BC2-6111-4821-8F31-CFCBCB2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6A22-2700-47F7-8BFA-B8ED315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CDC-97BE-4C8E-B9C5-F36E277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2803-DC4A-4768-9E49-6E15015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49D2-0E88-44C6-92E0-AC17D1F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71921-3E1C-4615-B430-28AF22B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62C7F-6D90-4B21-BFEC-A33AB9A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B174E-DC9C-4240-8769-48B80A70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3DA3C-C9FC-4FDE-89D4-77935863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BAAB5-FCAB-4CFE-9E4D-FB683E3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9AB1-AF14-4592-B6F9-3B22AEF2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7E4B-395C-42BD-955D-D3A4D96A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DBBAE-C31D-4017-8966-9BDD729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236-7002-4CA0-8E85-452DA31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71B42-F1EC-40A6-B7D8-83771EA8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D57B4-84A7-4D0E-8525-AFAE39F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56064-76C6-40E4-837F-DECC314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E752F-BF4D-4D1C-BCE4-7125984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0B6F-06FA-49F2-A825-D0A41CF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B233-233E-4495-B9E4-24E289D8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1842-89CA-41F8-B182-08E0A61C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53E42-DAF7-48BA-B925-44A96B92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53774-EB18-485E-BAA2-1EE662F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38E77-F2B6-4DC1-BFAA-AA09AFE6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565E-4A98-4DE5-AE75-85CD0F4125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7E29-DDC3-4120-A8BF-E1AC114A1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953-9179-4D6C-BBEE-18849844B5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5E1-EA87-4EBE-B05C-56BEC07F7C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1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2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CE4-D4FB-4CF4-AEA4-AFFF96310A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2720-5162-4A2F-817F-227C329F97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DC0-C838-4218-9892-9343D9F56A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9FC-3D20-447C-B848-F12EB0E1A4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0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3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A321-CD06-47F4-BF07-4E0F2D61C4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2343-495A-429E-87F8-413D8F8D6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Один за всех,</a:t>
            </a: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39640" y="314136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99"/>
                </a:solidFill>
                <a:latin typeface="Verdana"/>
              </a:rPr>
              <a:t>и все за одного!</a:t>
            </a:r>
            <a:endParaRPr b="1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743280" cy="49244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39640" y="551664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Михаил Васильевич Ломоносо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711-176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672000" cy="46083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26920" y="5084640"/>
            <a:ext cx="7921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Иван Алексеевич Бунин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70-1953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627280" y="189000"/>
          <a:ext cx="367344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89000"/>
                    <a:ext cx="3673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611280" y="522936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6920" y="5300640"/>
            <a:ext cx="777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Александр Александрович Бло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80-192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5819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ак бы мне хотелось жить в волшебном доме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де хранятся сказки, как стихи в альбом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де старушки-стены сплетничают ночь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бо всём, что в сказках видели воочию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де огонь в камине создаёт ую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на книжной полке чудеса живу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4360" y="1125360"/>
            <a:ext cx="770400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Дядя Фёдор, кот и пёс.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Эдуард Успенский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2 декабря 2007 г. исполнилось 70 ле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408720" cy="568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0581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053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ловил Дуремар на болот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7778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пиявок)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А. Толсто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«Золотой ключик, или Приключения Буратин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71182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Героиня какой сказки проходила «тестирование» на принадлежность к королевскому роду?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8207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«Принцесса на горошине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Х. К. Андерсен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684360" y="1600200"/>
            <a:ext cx="6480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наяву и не во сн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ез страха и без роб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ы снова бродим по стран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торой нет на глобус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карту не нанесен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 знаем ты и 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 есть она, что есть ст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Литературная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160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677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 какой зарубежной сказке многодетная мама одна воспитывала семерых деток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26920" y="4279680"/>
            <a:ext cx="780912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«Волк и семеро Козлят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Братья Грим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24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отчество Федоры из сказки К. И. Чуковского «Федорино гор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Федора Егоровн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 жил на улице Бассейно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«Человек рассеянный с улицы Бассейной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. В. Михал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к звали героя сказки с бородой необычного цвет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иняя Борода из одноимённой сказки Братьев Гримм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брый соломенный человек с жутким именем кто это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трашила из сказк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А. М. Волкова «Волшебник изумрудного города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амый знаменитый житель Цветочного города – эт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знайка из пове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. Н. Носова «Приключения Незнайки и его друзей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42800" y="765000"/>
            <a:ext cx="82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полное имя старика Хоттабыч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ассан Абдуррахман ибн Хотта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з сказки Л. И. Лагина «Старик Хоттабыч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изнесите заветные слова, которые должен был обязательно выучить главный герой сказки Киплинга «Маугл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Мы с тобой одной кров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о служило Дюймовочке колыбелько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корлупка грецкого ореха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Х. К. Андерсен «Дюймовочка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имя, фамилию, и место жительства Малыша, героя сказки А. Линдгрен «Малыш и Карлсон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ванте Свантесон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г. Стоггольм, Швеция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55640" y="1197000"/>
            <a:ext cx="7777080" cy="26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етствую тебя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18176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колько раз ходил старик к морю в сказке А. С. Пушкин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9640" y="364500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(шесть)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казка о рыбаке и рыбке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611280" y="1844640"/>
            <a:ext cx="77547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ери героев сказки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628280"/>
            <a:ext cx="6870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</a:rPr>
              <a:t>Блиц-турни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6156360" y="3860640"/>
            <a:ext cx="172872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403280" y="2492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99"/>
                </a:solidFill>
                <a:latin typeface="Verdana"/>
              </a:rPr>
              <a:t>Музыкальная пауз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1297080" cy="1368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 rot="537600">
            <a:off x="6330960" y="4107960"/>
            <a:ext cx="229860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Verdana"/>
              </a:rPr>
              <a:t>Зарубежная 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Давайте знакомую книгу открое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И снова пройдём от страницы 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      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страниц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Всегда ведь приятно с любимы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герое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Опять повстречаться, опя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подружить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то из литературных героев провёл 28 лет на необитаемом остров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обинзон Крузо, герой одноимённого ром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. Деф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то из литературных героев потерпел кораблекрушение и был взят в плен лилипутами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Гулливер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Дж. Свифт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«Путешествия Гулливера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Назовите автора романа «Белый клык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Джек Лонд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Кто из литературных героев помчался вдогонку за Белым кроликом, провалился в глубокий колодец и оказался в удивительной стране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Алиса из сказки Л. Кэрролла «Алиса в стране чудес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692280"/>
            <a:ext cx="835164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«Человек, любящий и умеющий читат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счастливый челове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н окружён множеством умных, добрых и верных друзей.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рузья эти -книги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громный   мир  –  заманчивый  и разнообразный – врывается  к  нам  со страниц  любимых  книг…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. Г. Паустовски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979640" y="1125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26920" y="2421000"/>
            <a:ext cx="7705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знай портре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15843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187280" y="404640"/>
            <a:ext cx="7056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ословицы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даром молвятся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ез них прожить никак нельзя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ни великие помощниц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в жизни верные друзья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рой они нас наставляют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веты мудрые дают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рой чему-то научаю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от беды нас берегут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Verdana"/>
              </a:rPr>
              <a:t>Перевёртыши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5688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Счастье от глупости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Живые тела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Закон и поощрение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Солдатский сын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7596360" y="1484280"/>
            <a:ext cx="102708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4880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Verdana"/>
              </a:rPr>
              <a:t>         </a:t>
            </a: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Поэзия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– великое чуд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Но открывается оно, как и чудо природы, не сразу и не всем, а только человеку умному, доброму, чуткому. Постарайтесь же стать такими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7829640" y="549360"/>
            <a:ext cx="131436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5.55556E-006 C 0.0375 -0.08172 0.07465 -0.1632 0.11337 -0.13774 C 0.15226 -0.11228 0.16424 0.15208 0.23368 0.15346 C 0.30295 0.15485 0.4783 -0.23404 0.53003 -0.12894 C 0.58212 -0.02385 0.59062 0.68634 0.54531 0.78448 C 0.49983 0.88263 0.37361 0.45856 0.25694 0.45995 C 0.14028 0.46134 -0.06511 0.85647 -0.15469 0.79328 C -0.24445 0.73009 -0.28646 0.17407 -0.28142 0.08009 C -0.27639 -0.0139 -0.20052 0.1074 -0.12465 0.22893 E">
                                      <p:cBhvr>
                                        <p:cTn id="335" dur="5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44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юблю тебя, Петра творенье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юблю твой строгий, стройный вид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евы державное теченье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Береговой её гранит…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. С. Пушкин. «Медный всадник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354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сть в осени первоначальной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роткая, но дивная пора –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Весь день стоит как бы хрустальный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 лучезарны вечера…         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44841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Ф. Тютче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57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адремали звёзды золотые,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адрожало зеркало затона,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Брезжит свет на заводи речные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 румянит сетку небосклона…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47280" y="4941720"/>
            <a:ext cx="61930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«С добрым утром»  С. Есени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113364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12944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Ночевала тучка золотая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На груди утёса-великана;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Утром в путь она умчалась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                                  рано,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По лазури весело играя…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03280" y="4653000"/>
            <a:ext cx="6624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 Утёс»     М. Лермо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рузья мо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Хочу я вам сказать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Хоть мы живём в эпоху атомного век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и зал компьютерный, ни выход в Интерн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смогут заменить общенье с человек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даром говорят, кто в этом знает тол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одолела хворь телесная – беги в аптеку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если вдруг душа болит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пеши, мой друг, в  библиотек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744640" cy="26604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403280" y="1125360"/>
            <a:ext cx="525636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Л О Д Ц Ы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50720" y="-913680"/>
            <a:ext cx="779292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176720" cy="46814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258920" y="5300640"/>
            <a:ext cx="7058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Михаил Юрьевич Лермонтов (1814-1841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319640" cy="51847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332000" y="609300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6920" y="5589720"/>
            <a:ext cx="792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Гаврила Романович Держави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743-1816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743280" cy="45352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11280" y="515772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Николай Васильевич Гогол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09-185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68360" y="5373720"/>
            <a:ext cx="8675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ев Николаевич Толсто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28-191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889080" cy="46800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826920" y="558972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Василий Андреевич Жуковски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783-185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7:13:52Z</dcterms:created>
  <dc:creator>Петька</dc:creator>
  <dc:description/>
  <dc:language>en-US</dc:language>
  <cp:lastModifiedBy>Петька</cp:lastModifiedBy>
  <dcterms:modified xsi:type="dcterms:W3CDTF">2008-03-19T17:30:14Z</dcterms:modified>
  <cp:revision>21</cp:revision>
  <dc:subject/>
  <dc:title>Один за всех, и все за одного!</dc:title>
</cp:coreProperties>
</file>