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021E-AC9E-4704-8045-CBDAE5A5D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E65B-6F29-485E-9B4C-18A34550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A745-BC5E-4FBA-9824-6434A3209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FBA6-1BB5-4E11-AFF8-BE59A8AA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7A6F-A29A-408F-B9E1-94789CDD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5597-F425-4A93-A6D2-3706762C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5280-9EFD-4210-AEF3-33478DB5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7F37-DC26-4A3D-B172-3F2B3B8B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5B75-2375-46E7-BA88-733E3C4B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A3FE-BCC0-4CE1-B52A-6065314A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B2F0-82E7-4C2B-832C-F639FE34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880F-BE51-47F1-AF53-51740AEA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0984-3374-41EE-AA56-968E46C70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44880" y="368280"/>
            <a:ext cx="68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едагогический совет №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8680" y="1506600"/>
            <a:ext cx="900468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е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Обеспечение оздоровительной направл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изического воспитания в детском сад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80000" y="5734080"/>
            <a:ext cx="489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структор по физической культур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зько Александра Валери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640" y="1268280"/>
            <a:ext cx="87652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«Солнце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возду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и вода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                    </a:t>
            </a: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наши лучшие друзья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200" y="907920"/>
            <a:ext cx="913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. Органичное сочетание физкультурных занят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 закаливающими процедур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пособствует совершенствова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истемы иммунной защиты ребён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00" y="3860640"/>
            <a:ext cx="907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. Регулярность физических нагруз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пособствует нарастанию резервных мощнос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организма ребён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48960" y="1193760"/>
            <a:ext cx="9536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indent="4492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делять особое внимание развитию у детей движ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циклического характера (бег, прыжки, ходьба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аксимально увеличить время пребывания де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 свежем воздухе с обязательной организаци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вигательной акти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ционально сочетать физкультурные занят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 закаливающими процеду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ращивать резервные возможности организма ребё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 счёт регулярных физических упраж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2"/>
          <a:srcRect l="10319" t="39426" r="9259" b="46035"/>
          <a:stretch/>
        </p:blipFill>
        <p:spPr>
          <a:xfrm>
            <a:off x="0" y="1125360"/>
            <a:ext cx="9144000" cy="237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42920" y="364500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loud"/>
          <p:cNvSpPr/>
          <p:nvPr/>
        </p:nvSpPr>
        <p:spPr>
          <a:xfrm>
            <a:off x="3564000" y="3573360"/>
            <a:ext cx="1803240" cy="1208160"/>
          </a:xfrm>
          <a:prstGeom prst="pie">
            <a:avLst/>
          </a:prstGeom>
          <a:solidFill>
            <a:srgbClr val="3399ff"/>
          </a:solidFill>
          <a:ln w="38160">
            <a:solidFill>
              <a:srgbClr val="00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2360" y="3500280"/>
            <a:ext cx="1368360" cy="1368720"/>
          </a:xfrm>
          <a:prstGeom prst="sun">
            <a:avLst>
              <a:gd name="adj" fmla="val 19027"/>
            </a:avLst>
          </a:prstGeom>
          <a:solidFill>
            <a:srgbClr val="ff00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60" y="3165480"/>
            <a:ext cx="323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ердечно-сосудистая систе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52320" y="3141720"/>
            <a:ext cx="240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ыхательная систе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17400" y="3141720"/>
            <a:ext cx="20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ммунная систе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93800" y="5516640"/>
            <a:ext cx="21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дв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2050920" y="4508280"/>
            <a:ext cx="1441440" cy="93636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292720" y="4436640"/>
            <a:ext cx="1150920" cy="107964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427640" y="4868640"/>
            <a:ext cx="0" cy="64764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20640" y="333360"/>
            <a:ext cx="783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сердечно-сосудист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48000" y="1413000"/>
            <a:ext cx="2305080" cy="1871640"/>
          </a:xfrm>
          <a:custGeom>
            <a:avLst/>
            <a:gdLst>
              <a:gd name="textAreaLeft" fmla="*/ 541800 w 2305080"/>
              <a:gd name="textAreaRight" fmla="*/ 1761840 w 2305080"/>
              <a:gd name="textAreaTop" fmla="*/ 219960 h 1871640"/>
              <a:gd name="textAreaBottom" fmla="*/ 1173960 h 18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38160" y="3645000"/>
            <a:ext cx="545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циклические дви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70520" y="4437000"/>
            <a:ext cx="4948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дь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ы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зда на велосипеде, самока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79280" y="1197000"/>
            <a:ext cx="849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«Хочешь быть здоровым – бег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Хочешь быть красивым – бег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Хочешь быть умным – бегай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63920" y="2205000"/>
            <a:ext cx="8052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ри проведении физкультурного занят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в детском саду две трети движен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оставляющих его структур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должны быть циклического характера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625760" y="260280"/>
            <a:ext cx="57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дыхательн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loud"/>
          <p:cNvSpPr/>
          <p:nvPr/>
        </p:nvSpPr>
        <p:spPr>
          <a:xfrm>
            <a:off x="2700360" y="1052640"/>
            <a:ext cx="3171960" cy="2124000"/>
          </a:xfrm>
          <a:prstGeom prst="pie">
            <a:avLst/>
          </a:prstGeom>
          <a:solidFill>
            <a:srgbClr val="3399ff"/>
          </a:solidFill>
          <a:ln w="38160">
            <a:solidFill>
              <a:srgbClr val="00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89840" y="3429000"/>
            <a:ext cx="549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двигательная актив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на свежем воздух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33440" y="4581360"/>
            <a:ext cx="70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вижные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ортивные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дивидуальная работа над ОВ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амостоятельная двигательная акти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699200" y="1700280"/>
            <a:ext cx="5882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Повышение резерв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дыхательной системы ребён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роисходит за счёт регуляр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двигательной актив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на свежем воздух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986120" y="404640"/>
            <a:ext cx="492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иммунн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1268280"/>
            <a:ext cx="2592360" cy="2305080"/>
          </a:xfrm>
          <a:prstGeom prst="sun">
            <a:avLst>
              <a:gd name="adj" fmla="val 19027"/>
            </a:avLst>
          </a:prstGeom>
          <a:solidFill>
            <a:srgbClr val="ff00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76360" y="4221000"/>
            <a:ext cx="624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закаливающие меропри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2T06:02:09Z</dcterms:created>
  <dc:creator>Customer</dc:creator>
  <dc:description/>
  <dc:language>en-US</dc:language>
  <cp:lastModifiedBy>Customer</cp:lastModifiedBy>
  <dcterms:modified xsi:type="dcterms:W3CDTF">2013-04-19T10:58:50Z</dcterms:modified>
  <cp:revision>3</cp:revision>
  <dc:subject/>
  <dc:title>Слайд 1</dc:title>
</cp:coreProperties>
</file>