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E998-851E-4B17-88CA-FEC0A74FA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3189-9923-49B1-9ACE-7F5F223E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B19D-49EC-4417-B56C-37B348F7B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3AD1-8CD9-4A01-8212-AFDCFAD6D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59CA-81A8-4F81-A583-8BB1AC9D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5049-E0EA-4DD0-95C6-58EE4657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C598-F00C-4AD8-8711-E153D2D1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6ADB-9848-4F55-B562-039B5B0C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43E4-F93B-4012-BDAA-069012AD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AFE2-8ACB-47E6-B523-274836DF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E694-0B15-4FEC-BD0D-810F1BB9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22FD-20F1-4B09-A83E-459C4DF0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02DE-C12D-467C-8A59-300CF9D9C4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384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Arial"/>
              </a:rPr>
              <a:t>Полезен ли загар?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226200" y="5300280"/>
            <a:ext cx="288288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аев Дмитр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еник 2 класса «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БОУ СОШ № 901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ЮАО г. Мос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1692360" y="1123920"/>
            <a:ext cx="544032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Загорать на солнце – полезно или вредн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загорать понемножку то в нашей коже вырабатываются вещества полезные для здоровья. Они помогают хорошо расти и не болеть. А если загорать долго, то можно получить солнечные ож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1 020"/>
          <p:cNvPicPr/>
          <p:nvPr/>
        </p:nvPicPr>
        <p:blipFill>
          <a:blip r:embed="rId1"/>
          <a:stretch/>
        </p:blipFill>
        <p:spPr>
          <a:xfrm>
            <a:off x="395280" y="1916280"/>
            <a:ext cx="3591000" cy="2705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sun-burn-7"/>
          <p:cNvPicPr/>
          <p:nvPr/>
        </p:nvPicPr>
        <p:blipFill>
          <a:blip r:embed="rId2"/>
          <a:stretch/>
        </p:blipFill>
        <p:spPr>
          <a:xfrm>
            <a:off x="4284720" y="1916280"/>
            <a:ext cx="401940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Как уберечься от солнечных луче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4" marL="1933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того, чтобы уберечься от солнечных лучей необходимо: носить головные уборы (панамы, кепки), носить солнцезащитные очки, носить одежду светлых тонов, на открытые участки кожи наносить солнцезащитный кр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lechenie-solnechnye-ojegi"/>
          <p:cNvPicPr/>
          <p:nvPr/>
        </p:nvPicPr>
        <p:blipFill>
          <a:blip r:embed="rId1"/>
          <a:stretch/>
        </p:blipFill>
        <p:spPr>
          <a:xfrm>
            <a:off x="2195640" y="1628640"/>
            <a:ext cx="4595760" cy="33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Что делать если перегрелся на солнце или получил солнечные ожог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21844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перегреве на солнце нужно уйти в тень, лучше прилечь. Для охлаждения кожу протирать влажным полотенцем, но не в коем случае нельзя обливаться или ложиться в ванную с холодной водой. А также необходимо пить много  воды. При получении солнечных ожогов необходимо смазать поврежденные участки кефиром или специальным лекарственным средств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DSC02708"/>
          <p:cNvPicPr/>
          <p:nvPr/>
        </p:nvPicPr>
        <p:blipFill>
          <a:blip r:embed="rId1"/>
          <a:stretch/>
        </p:blipFill>
        <p:spPr>
          <a:xfrm>
            <a:off x="539640" y="1989000"/>
            <a:ext cx="3600720" cy="2695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IMG_2452"/>
          <p:cNvPicPr/>
          <p:nvPr/>
        </p:nvPicPr>
        <p:blipFill>
          <a:blip r:embed="rId2"/>
          <a:stretch/>
        </p:blipFill>
        <p:spPr>
          <a:xfrm>
            <a:off x="6245280" y="1989000"/>
            <a:ext cx="21016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12:54:06Z</dcterms:created>
  <dc:creator>Admin</dc:creator>
  <dc:description/>
  <dc:language>en-US</dc:language>
  <cp:lastModifiedBy>Лебедева</cp:lastModifiedBy>
  <dcterms:modified xsi:type="dcterms:W3CDTF">2013-04-15T06:50:25Z</dcterms:modified>
  <cp:revision>6</cp:revision>
  <dc:subject/>
  <dc:title>Полезен ли загар?</dc:title>
</cp:coreProperties>
</file>