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DCE3-924D-46C2-B102-7E3B04DB6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6E80-9AA5-4CBF-8093-A6B62252C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D584-5DA8-4FB3-859D-85E92E1AF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20C9-A77E-491F-8649-4E8887510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593B-85FA-455A-A8A6-F57126A5E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D5EE-EE72-4B40-B9CC-7FF0FFC20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1B81-CDDD-4B91-B017-603ACC612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658F-62B8-4604-9405-8233DE7DF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1F6E-2928-4F42-874D-63F88AA23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8EED-27D6-41D2-B95D-544ECEFD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8F79-75E4-4372-8905-8240DB030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5020-6C27-48B8-8E48-A14644E49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19060-17C4-4425-8A91-0B62B3F038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3840" cy="25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00000"/>
                </a:solidFill>
                <a:latin typeface="Arial"/>
              </a:rPr>
              <a:t>Полезен ли загар?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226200" y="5300280"/>
            <a:ext cx="2882880" cy="14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аев Дмитр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ченик 2 класса «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БОУ СОШ № 901,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ЮАО г. Моск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"/>
          <p:cNvPicPr/>
          <p:nvPr/>
        </p:nvPicPr>
        <p:blipFill>
          <a:blip r:embed="rId1"/>
          <a:stretch/>
        </p:blipFill>
        <p:spPr>
          <a:xfrm>
            <a:off x="1692360" y="1123920"/>
            <a:ext cx="5440320" cy="40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Загорать на солнце – полезно или вредн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ли загорать понемножку то в нашей коже вырабатываются вещества полезные для здоровья. Они помогают хорошо расти и не болеть. А если загорать долго, то можно получить солнечные ожо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1 020"/>
          <p:cNvPicPr/>
          <p:nvPr/>
        </p:nvPicPr>
        <p:blipFill>
          <a:blip r:embed="rId1"/>
          <a:stretch/>
        </p:blipFill>
        <p:spPr>
          <a:xfrm>
            <a:off x="395280" y="1916280"/>
            <a:ext cx="3591000" cy="2705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sun-burn-7"/>
          <p:cNvPicPr/>
          <p:nvPr/>
        </p:nvPicPr>
        <p:blipFill>
          <a:blip r:embed="rId2"/>
          <a:stretch/>
        </p:blipFill>
        <p:spPr>
          <a:xfrm>
            <a:off x="4284720" y="1916280"/>
            <a:ext cx="4019400" cy="26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Как уберечься от солнечных лучей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4" marL="1933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того, чтобы уберечься от солнечных лучей необходимо: носить головные уборы (панамы, кепки), носить солнцезащитные очки, носить одежду светлых тонов, на открытые участки кожи наносить солнцезащитный кр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lechenie-solnechnye-ojegi"/>
          <p:cNvPicPr/>
          <p:nvPr/>
        </p:nvPicPr>
        <p:blipFill>
          <a:blip r:embed="rId1"/>
          <a:stretch/>
        </p:blipFill>
        <p:spPr>
          <a:xfrm>
            <a:off x="2195640" y="1628640"/>
            <a:ext cx="4595760" cy="33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Что делать если перегрелся на солнце или получил солнечные ожог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000" y="2205000"/>
            <a:ext cx="821844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 перегреве на солнце нужно уйти в тень, лучше прилечь. Для охлаждения кожу протирать влажным полотенцем, но не в коем случае нельзя обливаться или ложиться в ванную с холодной водой. А также необходимо пить много  воды. При получении солнечных ожогов необходимо смазать поврежденные участки кефиром или специальным лекарственным средств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DSC02708"/>
          <p:cNvPicPr/>
          <p:nvPr/>
        </p:nvPicPr>
        <p:blipFill>
          <a:blip r:embed="rId1"/>
          <a:stretch/>
        </p:blipFill>
        <p:spPr>
          <a:xfrm>
            <a:off x="539640" y="1989000"/>
            <a:ext cx="3600720" cy="2695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IMG_2452"/>
          <p:cNvPicPr/>
          <p:nvPr/>
        </p:nvPicPr>
        <p:blipFill>
          <a:blip r:embed="rId2"/>
          <a:stretch/>
        </p:blipFill>
        <p:spPr>
          <a:xfrm>
            <a:off x="6245280" y="1989000"/>
            <a:ext cx="21016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4T12:54:06Z</dcterms:created>
  <dc:creator>Admin</dc:creator>
  <dc:description/>
  <dc:language>en-US</dc:language>
  <cp:lastModifiedBy>Лебедева</cp:lastModifiedBy>
  <dcterms:modified xsi:type="dcterms:W3CDTF">2013-04-15T06:50:25Z</dcterms:modified>
  <cp:revision>6</cp:revision>
  <dc:subject/>
  <dc:title>Полезен ли загар?</dc:title>
</cp:coreProperties>
</file>