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4E6-2C52-43AE-94D7-12614323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CDB-EEB7-442C-9181-616C884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F08-35D2-4984-B5E8-CA6CB2C4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D14-2EEC-4B83-8CDB-E813389F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47CF-8CFC-42E0-A8DD-FA0244EF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CC11-A196-4323-8634-12D5FA4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B9E1-D7DB-4292-A34B-41C93BB3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5EB-CA2E-4FFA-A7F9-A42D1812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A991-448B-4E4A-A323-9028789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A858-688A-417F-B59F-7EA29B37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F8A-7DBD-4A9F-B01D-799D954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352-D814-4601-A691-8AE06305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28EB-5923-4EA7-B0DC-5DBB6D3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F64-C003-41C6-B920-78041A4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90F3-0405-4F72-8709-0DE2601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FB6D-754D-4468-B195-8CAAA72B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BD7B-D274-4735-9D25-1BB22C4A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7968-2631-4291-8757-4F261DC8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495E-9A5B-4050-A2A3-98F6437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7BDA-9EEA-4B65-92FF-E1DD80BA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EB33-1F32-4647-8B34-8CCFB5E6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D69E-0902-41EA-9C00-8D9D24D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A8A-0510-4BAE-9990-B579B26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177B-F433-43EB-9CE1-FA789A3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029F-54CE-47EA-9BCA-CAAD22D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0CC4-2304-42DB-921F-D3620E9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2FA1-1FDC-4D70-97B7-3CFD7469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8814-803B-4D97-8D3D-BA29401E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3575-0302-436B-A0D5-4E788824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5F42-49E6-4773-9E3F-9A3669AA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C27D-B798-47DB-93D1-50B5920E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235A-EBC0-42E6-81EF-ADB35A6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43BE-5FDB-4D1B-A2B1-CC6759C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2A5-40BA-422D-9CC4-C3FDD48E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37D0-C3B6-44F6-94CF-B64F719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8FB9-10CD-4A0E-AEDB-5B0EE8A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92F1-A60B-420F-95FC-A719625E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0E4D-26E2-46B3-AC1E-1DD5D12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8914-C810-4331-A65B-DB71CBD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9DA9-6E57-485B-A123-5EADEB3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7E22-3EA9-42C2-A04D-C9437FE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F544-9BBB-4FA9-AAF9-5724D24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0B20-D08D-4912-A3B9-898C7267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E5FF-2083-4F9C-9FAD-98C35B6B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851-C7EC-42DB-AF08-D009D811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6554-B723-43C7-8FDC-058FE31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4254-5DAA-49D7-9470-C899CAE8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21387-2500-4789-A07F-B2438A2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3AE0-2BA8-4BA3-BD66-9090B5D0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BAF36-568C-4706-BF3D-863B0AE7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D731-49DC-47A0-8E3A-8B7C601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B6ED-F274-42F7-A023-EEDE99B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5F85-169B-4C1F-80EF-05A9A7B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D2AE-5F60-4A3F-B718-BE7B383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8971-FC39-49A3-B54D-0919EF3D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D85-80B5-42BD-812F-6C4000EC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95AB-3F1D-4174-99F4-F5145B44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8D7E-EDAC-413C-878A-42EB5C5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B9BB-2BAF-4C60-91D4-F8ED74B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719C-7DEE-4161-9716-CC74E0B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3FDF-B06D-42A4-A05C-C210F09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A4391-9272-4A5F-ADB4-53228F4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5C0B-B5A7-470A-95A1-E6FB8033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2ABE-A7D7-431C-8447-FB6FD4C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8C23-46A1-4383-94A2-30DCE71B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8B5C-F7AC-4390-B679-3D9AF61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F14-2FDD-4BDC-ABD1-7A09129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ABFD-F797-46F1-8E4F-9633D45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7BBC-E3DA-4E61-B6E5-6243C1B4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5A14-D2A9-4CAF-96E1-3FD46BE0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C490-1474-4BF6-AE1E-1409157B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605A-2CA1-401B-9514-5B55C55E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10574-223E-4C44-90B9-8A58477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C239-21B5-4BE7-A812-8853F78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DCB26-2B50-4C18-931D-5467002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5EC6-04C0-4B10-977D-C3A5472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F414-03A5-43D8-BC2A-A3396DC2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0EE-7788-49D7-9E1E-A19D122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C099C-2590-40E6-BCF0-7CB93BF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D31B-B58D-47BF-A2FD-6F7F5637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D903-D94E-435D-A761-F5719DA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26638-6DB5-4529-BD48-CF1948D7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503A-A818-4638-9439-2673050E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EEF-43F5-414D-9C25-C84B703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0825-C2C7-47B5-BAC1-7825183148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2752-131B-4CAA-AFDD-2AA440EE95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0407-3CD6-42A4-BE82-D9C0BE1759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128-9E0F-4341-85AA-CA248CE6BA5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00A6-7BDD-41A1-9624-F3D34292A9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3054-55BF-4DC0-A3B0-A355F02C12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D764-DEC0-404C-88F2-A712B14D93E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3213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аботу выполнил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читель географи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БОУ СОШ № 29 г.Новороссийс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уклина Т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Так подтвердились слов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рхангела Гавриил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"Дух Святый найдет на Тебя, и сила Вышняго осенит Тебя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этому и Рождаемое свято, и наречется Сыном Божиим"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1844280"/>
            <a:ext cx="40305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холодную ночь Она, родив сына, не могла приютить Его в Своем дом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"Родила сына Своего первенца, и спеленала Его, и положила в ясли, потому что не было им места в гостинице»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Содержимое 8" descr="рождестХ.jpg"/>
          <p:cNvPicPr/>
          <p:nvPr/>
        </p:nvPicPr>
        <p:blipFill>
          <a:blip r:embed="rId1"/>
          <a:stretch/>
        </p:blipFill>
        <p:spPr>
          <a:xfrm>
            <a:off x="5057640" y="2679840"/>
            <a:ext cx="299736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Рождество Христов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Содержимое 4" descr="рожд Христово.jpg"/>
          <p:cNvPicPr/>
          <p:nvPr/>
        </p:nvPicPr>
        <p:blipFill>
          <a:blip r:embed="rId1"/>
          <a:stretch/>
        </p:blipFill>
        <p:spPr>
          <a:xfrm>
            <a:off x="676440" y="2854440"/>
            <a:ext cx="3822480" cy="30970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7" descr="Христос.jpg"/>
          <p:cNvPicPr/>
          <p:nvPr/>
        </p:nvPicPr>
        <p:blipFill>
          <a:blip r:embed="rId2"/>
          <a:stretch/>
        </p:blipFill>
        <p:spPr>
          <a:xfrm>
            <a:off x="5259240" y="2679840"/>
            <a:ext cx="259416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Вознесение Господн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5280" y="1628280"/>
            <a:ext cx="4897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сех этапах духовного подвига самого Иисуса Христа во имя спасения людей рядом с Ним стояла Его Мать - Пресвятая Богородица. Она переживала каждую секунду жизни Иисуса, от рождения до распятия и вознесения. После Вознесения Христова земной путь Богородицы был еще достаточно долгим и плодотворны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7" name="Содержимое 4" descr="8 Вознесение.jpg"/>
          <p:cNvPicPr/>
          <p:nvPr/>
        </p:nvPicPr>
        <p:blipFill>
          <a:blip r:embed="rId1"/>
          <a:stretch/>
        </p:blipFill>
        <p:spPr>
          <a:xfrm>
            <a:off x="5651640" y="1844640"/>
            <a:ext cx="2984400" cy="3446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1628280"/>
            <a:ext cx="740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Ей суждено было вместе с апостолами нести по свету учение Христа. Радуясь успехам учеников Сына, Сама Богородица почти никогда не выступала перед народом. Дева Мария усердно служила бедным, подавала нищим, ухаживала за больными, помогала сиротам и вдовам. Суть жизни в том и заключена, чтобы с достоинством исполнить данное Богом предназначение каждому человеку. Как исполнить? Следовать совести. Совесть должна быть поводырем жизни - предпосланная Богом, хранимая человеком. Своим бытием, материальными и духовными стараниями учила жить людей Богородица, пробуждая в человеке Совесть - голос Бога. Матери Бога - Богородице, стоя перед иконой - Ее образом, человек открывает свою душу, доверяет тайны, шлет покаяние за грехи, надеясь на Ее милость и посредничество перед Богом. И Богоматерь соединяет частицу этого Божественного начала в человеке с Всевышни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Успение Богородиц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628280"/>
            <a:ext cx="4897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ход из земной жизни Богоматери святая православная Церковь называет Успением. И воспевает Успение Богородицы так: "Побеждены законы природы в Тебе, Дева чистая, в рождении сохраняется девство и со смертью сочетается жизнь: пребывая по рождению Девою и по смерти живою, Ты спасешь всегда, Богородица, наследие Твое"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2" name="Содержимое 6" descr="успение богородицы.jpg"/>
          <p:cNvPicPr/>
          <p:nvPr/>
        </p:nvPicPr>
        <p:blipFill>
          <a:blip r:embed="rId1"/>
          <a:stretch/>
        </p:blipFill>
        <p:spPr>
          <a:xfrm>
            <a:off x="5580000" y="1989000"/>
            <a:ext cx="2728800" cy="3600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Благодеяния Богородицы столь бесконечны, что из них можно составить целую летопись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Этому и посвящены многие иконы Божией Матер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Пресвятая Богородица."/>
          <p:cNvPicPr/>
          <p:nvPr/>
        </p:nvPicPr>
        <p:blipFill>
          <a:blip r:embed="rId1"/>
          <a:stretch/>
        </p:blipFill>
        <p:spPr>
          <a:xfrm>
            <a:off x="5072040" y="857160"/>
            <a:ext cx="3857760" cy="44276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>
            <a:off x="714240" y="1000080"/>
            <a:ext cx="4000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Все упование на Тя возлаг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Мати Бож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охрани Мя под кровом Т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огородица прежде всего - Мать. Мать Иисуса Христа и духовная Мать каждого из нас. Для понимания христианской традиции и самого Божественного образа Богородицы каждому христианину полезно знать такие истины: Пресвятая Дева Мария есть в прямом смысле - Матерь Господа Иисуса Христа и потому Богородица. Богородица следует за Спасителем, как высшая сила всех небесных сил - святых апостолов и святых отцов церкв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Мать Марии звали Анной, отец носил имя Иоаким, обе родовые ветви имели за собой почтенных предк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Содержимое 4" descr="св.Анна, мать богородицы.jpeg"/>
          <p:cNvPicPr/>
          <p:nvPr/>
        </p:nvPicPr>
        <p:blipFill>
          <a:blip r:embed="rId1"/>
          <a:stretch/>
        </p:blipFill>
        <p:spPr>
          <a:xfrm>
            <a:off x="5216400" y="2679840"/>
            <a:ext cx="267984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оаким тяжело переносил свое горе, на какое-то время даже удалился в пустыню, где горько плача многократно обращался к Богу: "Слезы мои будут мне пищею, а пустыня домом до тех пор, пока великий и мудрый Господь не услышит мою молитву". И тогда Иоаким услышал слова Ангела Господня: "Я послан тебе возвестить, что молитва твоя услышана. Жена твоя Анна родит тебе чудную дочь, и Ты назовешь ее Марией. Но помни, что твоя дочь есть плод божественного дарования"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13840" y="1915920"/>
            <a:ext cx="486252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х лет от роду Мария была введена во Храм иерусалимский. Всё было в очень торжественной обстановке: шествие открывали девочки - ровесницы Пресвятой Девы, с зажженными свечами в руках, а за ними шествовали Иоаким и Анна вместе со своей благословенной дочерью, держась за руки. За ними следовали многочисленные родственники, среди которых были весьма знатные особ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8" name="Содержимое 4" descr="f_16663167.gif"/>
          <p:cNvPicPr/>
          <p:nvPr/>
        </p:nvPicPr>
        <p:blipFill>
          <a:blip r:embed="rId1"/>
          <a:stretch/>
        </p:blipFill>
        <p:spPr>
          <a:xfrm>
            <a:off x="5364000" y="2060640"/>
            <a:ext cx="344664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4360" y="1915920"/>
            <a:ext cx="38224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Введение во храм Пресвятой Богородиц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Содержимое 4" descr="введение во храм.jpg"/>
          <p:cNvPicPr/>
          <p:nvPr/>
        </p:nvPicPr>
        <p:blipFill>
          <a:blip r:embed="rId1"/>
          <a:stretch/>
        </p:blipFill>
        <p:spPr>
          <a:xfrm>
            <a:off x="5303880" y="2679840"/>
            <a:ext cx="250488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57160" y="1643040"/>
            <a:ext cx="760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Марию не покидало предчувствие великого свершения, чего-то неописуемого, необыкновенного. Она инстинктивно, не отдавая себе в том отчета, готовилась к исполнению величайшего Божественного замысла. Она душой постигала явление на свет Спасителя, Она еще не знала, каким способом Бог пошлет на Землю Своего Сына, но душа Ее уже сама готовилась к этой встреч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Радуйся, Благодатная: Господь с тобою! Благословенна Ты в женах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Содержимое 4" descr="благовещение радуйся Благодатная.jpeg"/>
          <p:cNvPicPr/>
          <p:nvPr/>
        </p:nvPicPr>
        <p:blipFill>
          <a:blip r:embed="rId1"/>
          <a:stretch/>
        </p:blipFill>
        <p:spPr>
          <a:xfrm>
            <a:off x="1380960" y="2679840"/>
            <a:ext cx="2413080" cy="344628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5" descr="3 Благовещение Пресвятой Богородицы.jpg"/>
          <p:cNvPicPr/>
          <p:nvPr/>
        </p:nvPicPr>
        <p:blipFill>
          <a:blip r:embed="rId2"/>
          <a:stretch/>
        </p:blipFill>
        <p:spPr>
          <a:xfrm>
            <a:off x="5086440" y="2679840"/>
            <a:ext cx="294012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3:47:01Z</dcterms:created>
  <dc:creator>Виктор</dc:creator>
  <dc:description/>
  <dc:language>en-US</dc:language>
  <cp:lastModifiedBy>Tatyana</cp:lastModifiedBy>
  <dcterms:modified xsi:type="dcterms:W3CDTF">2013-04-19T17:32:37Z</dcterms:modified>
  <cp:revision>12</cp:revision>
  <dc:subject/>
  <dc:title>Слайд 1</dc:title>
</cp:coreProperties>
</file>