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712-BA18-4507-B715-A16066F4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DB3-3158-4A5A-820A-C26AAA47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4D2-23CA-45F6-B758-6670B818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CD8E-26FA-4D61-9A34-88F46D8C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A095-04AC-4E06-B7B1-2F9ACDCF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E996-BC7E-4022-959A-2BE3EC40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D120-AF3F-45D5-AF45-5098C0E6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784D-1ED2-47E8-8B96-AE95A4B0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5F98-D852-4784-A66B-07CCDBE2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99F4-07A8-410B-8774-8BA5FE76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15C5-FBE8-45F3-811D-62D9F681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932-E531-48C5-86AD-9D02E307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CE11-467B-431C-AD37-4A8DF2D8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3047-1125-409A-9E6D-712252E5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1A58-AE20-4690-AADB-A2331E91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A7C4-901A-490C-9B70-C925D3DF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8193-979E-4F79-90F2-3B1F840A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9A68-7BD8-419A-8AE3-972DF8207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0E39-372C-4A71-AE8C-75EAE1B2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3E41-ECB9-439D-8CE5-EA5C826E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7F1BA-B0C8-45D4-A235-CA4BBADF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16340-42A2-4DCF-9F44-52C930F9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6AD-4161-490C-8E34-0BE8481C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18B55-8D85-452C-AB08-2A3A0BB3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2AB8-238B-4800-BF8D-38D9F813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7ADE-025B-41A8-BED1-C4569907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922B-8B83-4668-B24A-D8CF26C5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9C4C-1E5E-40F2-A34E-50ECBF92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BDAE-6064-4231-9716-AAF203BE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AC162-F621-4CA6-9C80-79F2A43B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9F3A-4393-41DB-9994-7E0AF3AA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B8498-7B9A-4133-9B1C-AF0DFC13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C2F0-1A47-4684-B7AD-AD2A7448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C3C-F280-4336-B0F3-BC4237DA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B4F1-7AF8-4947-92DE-094F6409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75AFE-737B-4C92-BDDF-A3B857B7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2C56-12DD-44C1-AD01-94BA7EFD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1715-1C13-4DDB-9137-7C7A8804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1818F-FF7D-49E7-9A32-66EE6F9C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1DBC-3554-484D-A291-C0343F6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EDDC-F779-46AD-AF0A-2D80DFCA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42E99-A8B1-479B-966D-ABB7FF56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D5486-4C25-4EBE-B8A6-BC8E282D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B3459-366E-4837-9C4F-8B5757AD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8C2-02CB-40B4-95F0-A5C8EC5A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D0481-491B-470F-B6E7-92B8F252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E571E-F0E1-4EC6-8F64-EC93CA1F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A2029-4CCA-40BA-931C-5885CAFC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22DF4-4FBD-47F3-A4F9-8B146623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83318-A77E-4DD9-8170-32FDEA29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3357-65B8-4DE8-B8BD-0CE6B5D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C2631-F40B-41DE-B5B9-EA530CAC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0FB02-8C7B-41EB-BA03-FEAD119F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0BD1F-80FA-40B0-87A9-A8BD89E9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3E093-1D09-4FBD-B700-93EFBFC7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993-19C5-41D0-82F7-4A08846B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D6C44-D511-404C-8610-D0811A9F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DA35B-657F-46D6-B2E1-2A64988E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DCBDA-BBFA-4D8B-B29C-D6AE8C4D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A8DD8-95AB-4DE0-A2DD-9A22A3C5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5AD0F-C3AA-46FC-A869-0105A97E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AC5D2-8222-4C4F-9142-5B9A704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3F7FE-947F-4786-8260-F5576670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E6108-A5FA-46ED-92EE-1479A3D4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F336D-EFA6-4EAD-8A43-AF69D18B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D78A2-4DA4-4B66-B55A-EBF51E4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77B-95BB-4596-9358-F37CB2B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08E5-50E1-49A7-BB0A-3327AF3C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E357F-6465-4328-907D-3807F1C1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70CE8-CBFD-49DA-A4CB-24F83B31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A4C74-D879-4F7D-BEB7-5F31F8F2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93A4F-54C6-4218-A13C-90E105B6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F2535-972E-4BBD-88A5-B786E7DE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4BD0D-499E-4317-90D4-A672C7D3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1511D-14C4-4B2D-B414-E0B47004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EA8C2-DDFD-4DBE-85FA-27FDF2D4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2D3D8-AA04-4A12-A00B-510AF5C1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6A2-598F-4F35-AC2C-14C29C23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151BE-5103-44E9-8BC1-579DA63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9AAE-8037-49CA-AD96-75D99E4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8424C-B0C2-4D37-921C-592C8A0A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5D3D4-F0B5-4E25-A011-16815470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7BBAC-706D-4E06-83F7-A1AD545B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03A5-1952-4FFB-926E-FBDC5464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F015-8BE1-40A2-ADD7-2051921578F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E8C1-A5C0-4CFF-96FA-E1E14B6F143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1559-57A0-44B2-987D-5D3B6DEE63C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5F15-65BD-4F05-8120-B69913AA089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6428-3C60-45DC-8ED3-C1DEAAB78D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1FAA-6089-4FDE-96FB-042AF64172B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786D-7F17-42F1-9F3D-94E195EE1CB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32130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Работу выполнила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учитель географи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БОУ СОШ № 29 г.Новороссийс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уклина Т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Так подтвердились слов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рхангела Гавриила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"Дух Святый найдет на Тебя, и сила Вышняго осенит Тебя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оэтому и Рождаемое свято, и наречется Сыном Божиим"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360" y="1844280"/>
            <a:ext cx="40305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 холодную ночь Она, родив сына, не могла приютить Его в Своем дом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"Родила сына Своего первенца, и спеленала Его, и положила в ясли, потому что не было им места в гостинице»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Содержимое 8" descr="рождестХ.jpg"/>
          <p:cNvPicPr/>
          <p:nvPr/>
        </p:nvPicPr>
        <p:blipFill>
          <a:blip r:embed="rId1"/>
          <a:stretch/>
        </p:blipFill>
        <p:spPr>
          <a:xfrm>
            <a:off x="5057640" y="2679840"/>
            <a:ext cx="299736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Рождество Христово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3" name="Содержимое 4" descr="рожд Христово.jpg"/>
          <p:cNvPicPr/>
          <p:nvPr/>
        </p:nvPicPr>
        <p:blipFill>
          <a:blip r:embed="rId1"/>
          <a:stretch/>
        </p:blipFill>
        <p:spPr>
          <a:xfrm>
            <a:off x="676440" y="2854440"/>
            <a:ext cx="3822480" cy="309708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7" descr="Христос.jpg"/>
          <p:cNvPicPr/>
          <p:nvPr/>
        </p:nvPicPr>
        <p:blipFill>
          <a:blip r:embed="rId2"/>
          <a:stretch/>
        </p:blipFill>
        <p:spPr>
          <a:xfrm>
            <a:off x="5259240" y="2679840"/>
            <a:ext cx="259416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Вознесение Господн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5280" y="1628280"/>
            <a:ext cx="48974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всех этапах духовного подвига самого Иисуса Христа во имя спасения людей рядом с Ним стояла Его Мать - Пресвятая Богородица. Она переживала каждую секунду жизни Иисуса, от рождения до распятия и вознесения. После Вознесения Христова земной путь Богородицы был еще достаточно долгим и плодотворны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7" name="Содержимое 4" descr="8 Вознесение.jpg"/>
          <p:cNvPicPr/>
          <p:nvPr/>
        </p:nvPicPr>
        <p:blipFill>
          <a:blip r:embed="rId1"/>
          <a:stretch/>
        </p:blipFill>
        <p:spPr>
          <a:xfrm>
            <a:off x="5651640" y="1844640"/>
            <a:ext cx="2984400" cy="3446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1628280"/>
            <a:ext cx="7408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Ей суждено было вместе с апостолами нести по свету учение Христа. Радуясь успехам учеников Сына, Сама Богородица почти никогда не выступала перед народом. Дева Мария усердно служила бедным, подавала нищим, ухаживала за больными, помогала сиротам и вдовам. Суть жизни в том и заключена, чтобы с достоинством исполнить данное Богом предназначение каждому человеку. Как исполнить? Следовать совести. Совесть должна быть поводырем жизни - предпосланная Богом, хранимая человеком. Своим бытием, материальными и духовными стараниями учила жить людей Богородица, пробуждая в человеке Совесть - голос Бога. Матери Бога - Богородице, стоя перед иконой - Ее образом, человек открывает свою душу, доверяет тайны, шлет покаяние за грехи, надеясь на Ее милость и посредничество перед Богом. И Богоматерь соединяет частицу этого Божественного начала в человеке с Всевышни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ndara"/>
              </a:rPr>
              <a:t>Успение Богородиц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1628280"/>
            <a:ext cx="4897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Уход из земной жизни Богоматери святая православная Церковь называет Успением. И воспевает Успение Богородицы так: "Побеждены законы природы в Тебе, Дева чистая, в рождении сохраняется девство и со смертью сочетается жизнь: пребывая по рождению Девою и по смерти живою, Ты спасешь всегда, Богородица, наследие Твое"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2" name="Содержимое 6" descr="успение богородицы.jpg"/>
          <p:cNvPicPr/>
          <p:nvPr/>
        </p:nvPicPr>
        <p:blipFill>
          <a:blip r:embed="rId1"/>
          <a:stretch/>
        </p:blipFill>
        <p:spPr>
          <a:xfrm>
            <a:off x="5580000" y="1989000"/>
            <a:ext cx="2728800" cy="36007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Благодеяния Богородицы столь бесконечны, что из них можно составить целую летопись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Этому и посвящены многие иконы Божией Матер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1" descr="Пресвятая Богородица."/>
          <p:cNvPicPr/>
          <p:nvPr/>
        </p:nvPicPr>
        <p:blipFill>
          <a:blip r:embed="rId1"/>
          <a:stretch/>
        </p:blipFill>
        <p:spPr>
          <a:xfrm>
            <a:off x="5072040" y="857160"/>
            <a:ext cx="3857760" cy="442764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"/>
          <p:cNvSpPr/>
          <p:nvPr/>
        </p:nvSpPr>
        <p:spPr>
          <a:xfrm>
            <a:off x="714240" y="1000080"/>
            <a:ext cx="4000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Все упование на Тя возлага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Мати Божия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охрани Мя под кровом Т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Богородица прежде всего - Мать. Мать Иисуса Христа и духовная Мать каждого из нас. Для понимания христианской традиции и самого Божественного образа Богородицы каждому христианину полезно знать такие истины: Пресвятая Дева Мария есть в прямом смысле - Матерь Господа Иисуса Христа и потому Богородица. Богородица следует за Спасителем, как высшая сила всех небесных сил - святых апостолов и святых отцов церкв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3000" spc="-1" strike="noStrike">
                <a:solidFill>
                  <a:srgbClr val="073e87"/>
                </a:solidFill>
                <a:latin typeface="Candara"/>
              </a:rPr>
              <a:t>Мать Марии звали Анной, отец носил имя Иоаким, обе родовые ветви имели за собой почтенных предков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3" name="Содержимое 4" descr="св.Анна, мать богородицы.jpeg"/>
          <p:cNvPicPr/>
          <p:nvPr/>
        </p:nvPicPr>
        <p:blipFill>
          <a:blip r:embed="rId1"/>
          <a:stretch/>
        </p:blipFill>
        <p:spPr>
          <a:xfrm>
            <a:off x="5216400" y="2679840"/>
            <a:ext cx="267984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оаким тяжело переносил свое горе, на какое-то время даже удалился в пустыню, где горько плача многократно обращался к Богу: "Слезы мои будут мне пищею, а пустыня домом до тех пор, пока великий и мудрый Господь не услышит мою молитву". И тогда Иоаким услышал слова Ангела Господня: "Я послан тебе возвестить, что молитва твоя услышана. Жена твоя Анна родит тебе чудную дочь, и Ты назовешь ее Марией. Но помни, что твоя дочь есть плод божественного дарования"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13840" y="1915920"/>
            <a:ext cx="486252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х лет от роду Мария была введена во Храм иерусалимский. Всё было в очень торжественной обстановке: шествие открывали девочки - ровесницы Пресвятой Девы, с зажженными свечами в руках, а за ними шествовали Иоаким и Анна вместе со своей благословенной дочерью, держась за руки. За ними следовали многочисленные родственники, среди которых были весьма знатные особы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8" name="Содержимое 4" descr="f_16663167.gif"/>
          <p:cNvPicPr/>
          <p:nvPr/>
        </p:nvPicPr>
        <p:blipFill>
          <a:blip r:embed="rId1"/>
          <a:stretch/>
        </p:blipFill>
        <p:spPr>
          <a:xfrm>
            <a:off x="5364000" y="2060640"/>
            <a:ext cx="344664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4360" y="1915920"/>
            <a:ext cx="382248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Введение во храм Пресвятой Богородицы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Содержимое 4" descr="введение во храм.jpg"/>
          <p:cNvPicPr/>
          <p:nvPr/>
        </p:nvPicPr>
        <p:blipFill>
          <a:blip r:embed="rId1"/>
          <a:stretch/>
        </p:blipFill>
        <p:spPr>
          <a:xfrm>
            <a:off x="5303880" y="2679840"/>
            <a:ext cx="250488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Земная жизнь Пресвятой Богородицы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57160" y="1643040"/>
            <a:ext cx="760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Марию не покидало предчувствие великого свершения, чего-то неописуемого, необыкновенного. Она инстинктивно, не отдавая себе в том отчета, готовилась к исполнению величайшего Божественного замысла. Она душой постигала явление на свет Спасителя, Она еще не знала, каким способом Бог пошлет на Землю Своего Сына, но душа Ее уже сама готовилась к этой встрече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ndara"/>
              </a:rPr>
              <a:t>Радуйся, Благодатная: Господь с тобою! Благословенна Ты в женах!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Содержимое 4" descr="благовещение радуйся Благодатная.jpeg"/>
          <p:cNvPicPr/>
          <p:nvPr/>
        </p:nvPicPr>
        <p:blipFill>
          <a:blip r:embed="rId1"/>
          <a:stretch/>
        </p:blipFill>
        <p:spPr>
          <a:xfrm>
            <a:off x="1380960" y="2679840"/>
            <a:ext cx="2413080" cy="344628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5" descr="3 Благовещение Пресвятой Богородицы.jpg"/>
          <p:cNvPicPr/>
          <p:nvPr/>
        </p:nvPicPr>
        <p:blipFill>
          <a:blip r:embed="rId2"/>
          <a:stretch/>
        </p:blipFill>
        <p:spPr>
          <a:xfrm>
            <a:off x="5086440" y="2679840"/>
            <a:ext cx="2940120" cy="344628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3:47:01Z</dcterms:created>
  <dc:creator>Виктор</dc:creator>
  <dc:description/>
  <dc:language>en-US</dc:language>
  <cp:lastModifiedBy>Tatyana</cp:lastModifiedBy>
  <dcterms:modified xsi:type="dcterms:W3CDTF">2013-04-19T17:32:37Z</dcterms:modified>
  <cp:revision>12</cp:revision>
  <dc:subject/>
  <dc:title>Слайд 1</dc:title>
</cp:coreProperties>
</file>