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AE5-FF66-4485-8853-1FF53E34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A03-F5B4-473F-A6CC-5E469CAD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E2DB-2B47-4E33-A0AB-C5B43527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558-1271-4F04-B936-59C2E422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9D18-68A2-4B0E-954E-2228CB452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842A-89B9-44B4-BB62-955DBABF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14BF-23E0-4C85-B44F-5976946E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1D41-AB6D-4401-930C-D569FFC4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DECB-4352-46D5-9B08-8D540D45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AFFA-7C87-4D0B-9D77-C0094F33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72FA-7A05-4A80-99B1-52B20D56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18D-3665-4108-ABFC-1284D16C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B84F-3A4F-49A6-AAB9-82DC44E7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31EC-2847-48A0-9597-5DB29D58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512B-8297-4F5B-8ED6-4B038CF0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B507-FEC5-49A7-A2EA-8E5B138D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5203-F5A1-4577-9035-D1E9ADC2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AC3-A009-4E47-AF96-4F48B59D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9A6-11BD-4C99-9CE1-9F9FBFC5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424-F5BA-4858-A8C7-791FAA80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1DA5-7E33-41F6-8743-D2561D02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EACE-58BC-4CD4-986E-8A56AE5F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21E-DE1F-4276-8A51-D3D15403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9E3-C1FC-4729-9E17-EC345BE6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637F-AE8B-4D20-9996-4C777E3E4F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C091-4F4F-4F04-ACE7-6DACEBC40AE6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._K._Rowling_2010.jp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arry_Potter_and_the_Philosopher%27s_Stone" TargetMode="External"/><Relationship Id="rId2" Type="http://schemas.openxmlformats.org/officeDocument/2006/relationships/hyperlink" Target="http://en.wikipedia.org/wiki/Harry_Potter_and_the_Chamber_of_Secrets" TargetMode="External"/><Relationship Id="rId3" Type="http://schemas.openxmlformats.org/officeDocument/2006/relationships/hyperlink" Target="http://en.wikipedia.org/wiki/Harry_Potter_and_the_Prisoner_of_Azkaban" TargetMode="External"/><Relationship Id="rId4" Type="http://schemas.openxmlformats.org/officeDocument/2006/relationships/hyperlink" Target="http://en.wikipedia.org/wiki/Harry_Potter_and_the_Goblet_of_Fire" TargetMode="External"/><Relationship Id="rId5" Type="http://schemas.openxmlformats.org/officeDocument/2006/relationships/hyperlink" Target="http://en.wikipedia.org/wiki/Harry_Potter_and_the_Order_of_the_Phoenix" TargetMode="External"/><Relationship Id="rId6" Type="http://schemas.openxmlformats.org/officeDocument/2006/relationships/hyperlink" Target="http://en.wikipedia.org/wiki/Harry_Potter_and_the_Half-Blood_Prince" TargetMode="External"/><Relationship Id="rId7" Type="http://schemas.openxmlformats.org/officeDocument/2006/relationships/hyperlink" Target="http://en.wikipedia.org/wiki/Harry_Potter_and_the_Deathly_Hallows" TargetMode="External"/><Relationship Id="rId8" Type="http://schemas.openxmlformats.org/officeDocument/2006/relationships/hyperlink" Target="http://en.wikipedia.org/wiki/File:The_elephant_house.jp" TargetMode="External"/><Relationship Id="rId9" Type="http://schemas.openxmlformats.org/officeDocument/2006/relationships/image" Target="../media/image2.jpeg"/><Relationship Id="rId10" Type="http://schemas.openxmlformats.org/officeDocument/2006/relationships/hyperlink" Target="http://commons.wikimedia.org/wiki/File:J._K._Rowling_at_the_White_House_2010-04-05_10.jpg?uselang=r" TargetMode="Externa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antastic_Beasts_and_Where_to_Find_Them" TargetMode="External"/><Relationship Id="rId2" Type="http://schemas.openxmlformats.org/officeDocument/2006/relationships/hyperlink" Target="http://en.wikipedia.org/wiki/Fantastic_Beasts_and_Where_to_Find_Them" TargetMode="External"/><Relationship Id="rId3" Type="http://schemas.openxmlformats.org/officeDocument/2006/relationships/hyperlink" Target="http://en.wikipedia.org/wiki/Fantastic_Beasts_and_Where_to_Find_Them" TargetMode="External"/><Relationship Id="rId4" Type="http://schemas.openxmlformats.org/officeDocument/2006/relationships/hyperlink" Target="http://en.wikipedia.org/wiki/Quidditch_Through_the_Ages" TargetMode="External"/><Relationship Id="rId5" Type="http://schemas.openxmlformats.org/officeDocument/2006/relationships/hyperlink" Target="http://en.wikipedia.org/wiki/The_Tales_of_Beedle_the_Bard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t_Andrews_University" TargetMode="External"/><Relationship Id="rId2" Type="http://schemas.openxmlformats.org/officeDocument/2006/relationships/hyperlink" Target="http://en.wikipedia.org/wiki/University_of_Edinburgh" TargetMode="External"/><Relationship Id="rId3" Type="http://schemas.openxmlformats.org/officeDocument/2006/relationships/hyperlink" Target="http://en.wikipedia.org/wiki/Napier_University" TargetMode="External"/><Relationship Id="rId4" Type="http://schemas.openxmlformats.org/officeDocument/2006/relationships/hyperlink" Target="http://en.wikipedia.org/wiki/University_of_Exeter" TargetMode="External"/><Relationship Id="rId5" Type="http://schemas.openxmlformats.org/officeDocument/2006/relationships/hyperlink" Target="http://en.wikipedia.org/wiki/University_of_Aberdeen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униципальное бюджетное общеобразовательное учреждение средняя общеобразовательная школа №2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5400" y="1828440"/>
            <a:ext cx="8226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ЗАДОЯННАЯ ЛИЛИЯ АНАТОЛЬЕВН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ЧИТЕЛЬ АНГЛИЙСКОГО ЯЗЫК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ЕЗЕНТАЦИЯ ДЛЯ 8 КЛАСС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 ТЕМЕ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66"/>
                </a:solidFill>
                <a:latin typeface="Arial"/>
              </a:rPr>
              <a:t>«ЗАРУБЕЖНЫЕ ПИСАТЕЛИ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J.K.ROWLING”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Joanne "Jo" Rowling  (born 31 July                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65), pen name J. K. 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Rowling, is a British novelist, best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known as the author of the Harry Pott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fantasy series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The Potter books have gained</a:t>
            </a:r>
            <a:br>
              <a:rPr sz="2800"/>
            </a:b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worldwide attention, won multiple awards, and sold more than 400 million copies.They have become the best-selling book series in history, and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been the basis for a popular series of films, in which Rowling had overall approval on the scripts as well as maintaining creative control by serving as a producer on  the final instalment.Rowling conceived the idea for the series  on a train trip from Manchester to London in 1990.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5" name="Рисунок 21" descr="http://upload.wikimedia.org/wikipedia/commons/thumb/5/5d/J._K._Rowling_2010.jpg/220px-J._K._Rowling_201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666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24379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arry Potter and the Philosopher's Ston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26 June 1997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arry Potter and the Chamber of Secret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2 July 1998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Harry Potter and the Prisoner of Azkaba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8 July 1999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Harry Potter and the Goblet of Fir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8 July 2000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5"/>
              </a:rPr>
              <a:t>Harry Potter and the Order of the Phoenix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21 Jun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003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6"/>
              </a:rPr>
              <a:t>Harry Potter and the Half-Blood Princ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16 July 2005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7"/>
              </a:rPr>
              <a:t>Harry Potter and the Deathly Hallow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(21 July 2007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Рисунок 27" descr="http://upload.wikimedia.org/wikipedia/commons/thumb/5/5a/The_elephant_house.jpg/170px-The_elephant_house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04920" y="22860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8" descr="http://upload.wikimedia.org/wikipedia/commons/thumb/2/2f/J._K._Rowling_at_the_White_House_2010-04-05_10.jpg/220px-J._K._Rowling_at_the_White_House_2010-04-05_10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181480" y="228600"/>
            <a:ext cx="3695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8226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Fantastic Beast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and Where to Find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The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supplement 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Harry Potter series)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2001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Quidditch Through the Ag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supplement to the Harry Potter series) (2001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5"/>
              </a:rPr>
              <a:t>The Tales of Beedle the Bar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supplement to the Harry Potter series) (2008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Picture 9" descr="map"/>
          <p:cNvPicPr/>
          <p:nvPr/>
        </p:nvPicPr>
        <p:blipFill>
          <a:blip r:embed="rId6"/>
          <a:stretch/>
        </p:blipFill>
        <p:spPr>
          <a:xfrm>
            <a:off x="4114800" y="0"/>
            <a:ext cx="4876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0" y="1218960"/>
            <a:ext cx="82263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Awards and honou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owling has receive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norary degrees from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St Andrews Universit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th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University of Edinburg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Napier Universit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th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University of Exete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the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5"/>
              </a:rPr>
              <a:t>University of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erdeen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 Harvard  University, for whom sh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ke at the 2008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mencement ceremony. I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009 Rowling was  awarded the Légion d'honneu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y French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ident Nicolas Sarkozy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20" descr="букин"/>
          <p:cNvPicPr/>
          <p:nvPr/>
        </p:nvPicPr>
        <p:blipFill>
          <a:blip r:embed="rId6"/>
          <a:stretch/>
        </p:blipFill>
        <p:spPr>
          <a:xfrm>
            <a:off x="4495680" y="0"/>
            <a:ext cx="4648320" cy="335268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ued Acer Customer</cp:lastModifiedBy>
  <dcterms:modified xsi:type="dcterms:W3CDTF">2013-04-19T12:25:1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