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C247-E346-48AF-AFDA-B922C65A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91BD-CA89-4FE2-9B63-93C3535F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891A-C027-4D22-9FCE-37D0A567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4D2-B613-4606-A16F-629D6210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1B31-D029-434F-AF78-0A9F03CD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FB73-EACD-4913-B69B-CB491773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4048-B601-4599-8171-E2B0610D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0E8E-9011-4FF1-947B-41375582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284E-8999-422B-BD1A-00FEE6DB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7361-FE4C-4DED-9E9F-E38FDFFD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CF01-5E1A-4FF1-8522-375A0796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0E7C-3A46-425D-B292-A3A2A2CD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621E-D8EE-4B30-999B-55B0EB94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D52F-A42E-4BF7-8A1B-D034197D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68D1-7583-4AD3-AB21-5F06DD22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113B-ABEA-4FD4-A4A3-779C5AF2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9FD0-2D4B-4BC8-B7D3-090CA7C6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16D-8BF2-42BE-A8F6-4B64EF92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6A46-0E77-47CE-B1E9-E2854DA9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E20-36F5-46A8-8E9E-34882651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65E1-C8A9-4DB7-A81A-80164B3C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25EE-C5AF-4D10-A277-75698EBB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1BE9-1E4B-4347-9E7E-3110D035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FA3D-7548-413B-B280-BB087839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BED2-1F4A-4583-9223-39F2DF0F026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47C6-EBC4-476D-85BD-B569191BE022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J._K._Rowling_2010.jp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arry_Potter_and_the_Philosopher%27s_Stone" TargetMode="External"/><Relationship Id="rId2" Type="http://schemas.openxmlformats.org/officeDocument/2006/relationships/hyperlink" Target="http://en.wikipedia.org/wiki/Harry_Potter_and_the_Chamber_of_Secrets" TargetMode="External"/><Relationship Id="rId3" Type="http://schemas.openxmlformats.org/officeDocument/2006/relationships/hyperlink" Target="http://en.wikipedia.org/wiki/Harry_Potter_and_the_Prisoner_of_Azkaban" TargetMode="External"/><Relationship Id="rId4" Type="http://schemas.openxmlformats.org/officeDocument/2006/relationships/hyperlink" Target="http://en.wikipedia.org/wiki/Harry_Potter_and_the_Goblet_of_Fire" TargetMode="External"/><Relationship Id="rId5" Type="http://schemas.openxmlformats.org/officeDocument/2006/relationships/hyperlink" Target="http://en.wikipedia.org/wiki/Harry_Potter_and_the_Order_of_the_Phoenix" TargetMode="External"/><Relationship Id="rId6" Type="http://schemas.openxmlformats.org/officeDocument/2006/relationships/hyperlink" Target="http://en.wikipedia.org/wiki/Harry_Potter_and_the_Half-Blood_Prince" TargetMode="External"/><Relationship Id="rId7" Type="http://schemas.openxmlformats.org/officeDocument/2006/relationships/hyperlink" Target="http://en.wikipedia.org/wiki/Harry_Potter_and_the_Deathly_Hallows" TargetMode="External"/><Relationship Id="rId8" Type="http://schemas.openxmlformats.org/officeDocument/2006/relationships/hyperlink" Target="http://en.wikipedia.org/wiki/File:The_elephant_house.jp" TargetMode="External"/><Relationship Id="rId9" Type="http://schemas.openxmlformats.org/officeDocument/2006/relationships/image" Target="../media/image2.jpeg"/><Relationship Id="rId10" Type="http://schemas.openxmlformats.org/officeDocument/2006/relationships/hyperlink" Target="http://commons.wikimedia.org/wiki/File:J._K._Rowling_at_the_White_House_2010-04-05_10.jpg?uselang=r" TargetMode="Externa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antastic_Beasts_and_Where_to_Find_Them" TargetMode="External"/><Relationship Id="rId2" Type="http://schemas.openxmlformats.org/officeDocument/2006/relationships/hyperlink" Target="http://en.wikipedia.org/wiki/Fantastic_Beasts_and_Where_to_Find_Them" TargetMode="External"/><Relationship Id="rId3" Type="http://schemas.openxmlformats.org/officeDocument/2006/relationships/hyperlink" Target="http://en.wikipedia.org/wiki/Fantastic_Beasts_and_Where_to_Find_Them" TargetMode="External"/><Relationship Id="rId4" Type="http://schemas.openxmlformats.org/officeDocument/2006/relationships/hyperlink" Target="http://en.wikipedia.org/wiki/Quidditch_Through_the_Ages" TargetMode="External"/><Relationship Id="rId5" Type="http://schemas.openxmlformats.org/officeDocument/2006/relationships/hyperlink" Target="http://en.wikipedia.org/wiki/The_Tales_of_Beedle_the_Bard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t_Andrews_University" TargetMode="External"/><Relationship Id="rId2" Type="http://schemas.openxmlformats.org/officeDocument/2006/relationships/hyperlink" Target="http://en.wikipedia.org/wiki/University_of_Edinburgh" TargetMode="External"/><Relationship Id="rId3" Type="http://schemas.openxmlformats.org/officeDocument/2006/relationships/hyperlink" Target="http://en.wikipedia.org/wiki/Napier_University" TargetMode="External"/><Relationship Id="rId4" Type="http://schemas.openxmlformats.org/officeDocument/2006/relationships/hyperlink" Target="http://en.wikipedia.org/wiki/University_of_Exeter" TargetMode="External"/><Relationship Id="rId5" Type="http://schemas.openxmlformats.org/officeDocument/2006/relationships/hyperlink" Target="http://en.wikipedia.org/wiki/University_of_Aberdeen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Муниципальное бюджетное общеобразовательное учреждение средняя общеобразовательная школа №2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5400" y="1828440"/>
            <a:ext cx="8226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ЗАДОЯННАЯ ЛИЛИЯ АНАТОЛЬЕВН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УЧИТЕЛЬ АНГЛИЙСКОГО ЯЗЫК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ЕЗЕНТАЦИЯ ДЛЯ 8 КЛАСС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 ТЕМЕ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Arial"/>
              </a:rPr>
              <a:t>«ЗАРУБЕЖНЫЕ ПИСАТЕЛИ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cc66"/>
                </a:solidFill>
                <a:latin typeface="Arial"/>
              </a:rPr>
              <a:t>J.K.ROWLING”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Joanne "Jo" Rowling  (born 31 July                 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65), pen name J. K. 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Rowling, is a British novelist, best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known as the author of the Harry Pott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fantasy series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The Potter books have gained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worldwide attention, won multiple awards, and sold more than 400 million copies.They have become the best-selling book series in history, and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been the basis for a popular series of films, in which Rowling had overall approval on the scripts as well as maintaining creative control by serving as a producer on  the final instalment.Rowling conceived the idea for the series  on a train trip from Manchester to London in 1990.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5" name="Рисунок 21" descr="http://upload.wikimedia.org/wikipedia/commons/thumb/5/5d/J._K._Rowling_2010.jpg/220px-J._K._Rowling_201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666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0" y="24379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arry Potter and the Philosopher's Ston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26 June 1997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arry Potter and the Chamber of Secret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2 July 1998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Harry Potter and the Prisoner of Azkaba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8 July 1999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4"/>
              </a:rPr>
              <a:t>Harry Potter and the Goblet of Fir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8 July 2000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5"/>
              </a:rPr>
              <a:t>Harry Potter and the Order of the Phoenix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21 Jun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003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6"/>
              </a:rPr>
              <a:t>Harry Potter and the Half-Blood Pri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16 July 2005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7"/>
              </a:rPr>
              <a:t>Harry Potter and the Deathly Hallow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21 July 2007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Рисунок 27" descr="http://upload.wikimedia.org/wikipedia/commons/thumb/5/5a/The_elephant_house.jpg/170px-The_elephant_house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04920" y="22860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8" descr="http://upload.wikimedia.org/wikipedia/commons/thumb/2/2f/J._K._Rowling_at_the_White_House_2010-04-05_10.jpg/220px-J._K._Rowling_at_the_White_House_2010-04-05_10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181480" y="228600"/>
            <a:ext cx="3695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8226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Fantastic Beast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and Where to Find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The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supplement t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Harry Potter series)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2001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4"/>
              </a:rPr>
              <a:t>Quidditch Through the Ag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supplement to the Harry Potter series) (2001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5"/>
              </a:rPr>
              <a:t>The Tales of Beedle the Bar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supplement to the Harry Potter series) (2008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Picture 9" descr="map"/>
          <p:cNvPicPr/>
          <p:nvPr/>
        </p:nvPicPr>
        <p:blipFill>
          <a:blip r:embed="rId6"/>
          <a:stretch/>
        </p:blipFill>
        <p:spPr>
          <a:xfrm>
            <a:off x="4114800" y="0"/>
            <a:ext cx="4876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82263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Awards and honou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owling has receive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norary degrees from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St Andrews University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th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University of Edinburg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 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Napier University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th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4"/>
              </a:rPr>
              <a:t>University of Exete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the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5"/>
              </a:rPr>
              <a:t>University of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erdeen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d Harvard  University, for whom sh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ke at the 2008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mencement ceremony. In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009 Rowling was  awarded the Légion d'honneu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y French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ident Nicolas Sarkozy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Picture 20" descr="букин"/>
          <p:cNvPicPr/>
          <p:nvPr/>
        </p:nvPicPr>
        <p:blipFill>
          <a:blip r:embed="rId6"/>
          <a:stretch/>
        </p:blipFill>
        <p:spPr>
          <a:xfrm>
            <a:off x="4495680" y="0"/>
            <a:ext cx="4648320" cy="335268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ued Acer Customer</cp:lastModifiedBy>
  <dcterms:modified xsi:type="dcterms:W3CDTF">2013-04-19T12:25:1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