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jpeg" ContentType="image/jpeg"/>
  <Override PartName="/ppt/media/image8.png" ContentType="image/png"/>
  <Override PartName="/ppt/media/image11.jpeg" ContentType="image/jpeg"/>
  <Override PartName="/ppt/media/image7.jpeg" ContentType="image/jpeg"/>
  <Override PartName="/ppt/media/image9.png" ContentType="image/png"/>
  <Override PartName="/ppt/media/image10.jpeg" ContentType="image/jpeg"/>
  <Override PartName="/ppt/media/image1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DCAF4B-AFFF-4C38-A46D-F6DECF1E1E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CA1987-22A6-40C7-A575-DA5EC6CF36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2B6E88-683D-4167-8628-F3D72B648B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7DF49A-4502-4A45-83F6-3DB2A65975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3E0E89-36A5-442A-A23D-A34B0A7D12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3711B4-77B5-40B4-8EC8-322AFC17DF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7D1B5D-B510-40CE-B2B9-FC4B0BFC9C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23D68B-7954-4304-9CDA-CAD35E3E82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CE9AD2-49F6-4202-8D44-5E0A366043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D349D3-335C-4DE7-ABC1-3D11ACE5D0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B26350-48FA-4AC8-9069-EE2CBC0900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72F3D9-EA54-4FE6-A057-9350C78EDC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DFC72B-4F83-41E7-A723-F748FBE32A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7A87AA-D7E9-4AB8-9DD8-B43912196C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A00B7D-8F10-4606-9321-8E5C7CE2B5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AF3003-00F3-48EA-B31A-F6D33DC534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6B90E9-44B3-461C-AF9D-F33F4D1BCF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05FED01-FA08-45C8-868F-9A1071135C2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4C3FE5-32FC-4C5D-9316-652CD0F1B5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E2E705-F05E-4B59-82B1-34C1ECF2E7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3CECD4-61D3-4739-9A2F-DF9B115FAD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11DCD0-A300-4D7E-B1BB-689A521727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71857-791D-4480-95FC-C171D14695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035769-ADCC-4C2D-AC9E-55A95B598C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705FDF-B2C1-4E94-BBF7-B0C8627425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71BBA7-9767-4BA3-8043-9C978E1561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CA47C4-F4A9-4CFA-8521-C3E59AEEA7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269868-FA19-439D-A842-DC4887FEDB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CBCF3AB-D765-4DDF-81BB-152226F85F3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45D1E0C-8BAD-4885-8032-395E15B55A5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9AA8751-B0DC-470C-BD8D-9683897AA5A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371D6F-C1E5-4263-8836-632620DB28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C55D73-155C-4202-A1F8-36AE5B3642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DD5A3A-1BCB-436B-88AA-03786298DB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8A6928-A1E2-4AA9-809B-2DDB11AA43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71DFD2-C5CA-40CE-8CF4-78C4ED4EEF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782D25-B6EA-4C72-9A01-06807485CC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746E83-E76F-46C8-80B6-366259D25A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D570F7-94BB-44BA-8901-A84F04F448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4D9652-2CF7-47D8-9952-A880FD965B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4422D5-D641-4197-9028-9A92377A99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2D691B5-8CA4-4BF8-A2BC-B51BE4FE518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476488C-7BED-4E3D-AEA2-3A01113EC67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A8E0196-EFFB-45B5-A8DA-D2F7FAE2EFD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D1EB46-AAF7-46DF-96FE-B64607BAC0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4B67AD-823F-44B8-A267-5C2808EEE4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6A5C9B-F10D-48B5-AEE4-E5743DD825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A8B9C2-B1D2-49F4-A877-2BA7CABE3F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2855F3-AC1B-4BE6-BC47-33FA41AF0C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243373-0E81-477C-85E8-4799209F09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F47B54-05C4-4FC8-89A4-0FB7590992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160331-560B-4E12-973E-2BEF9FAD1C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59FA43-E90A-4DA7-90BD-F0424E8CF5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1A3606-BD5D-4848-BEE1-88C8544068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2F8E78D-5DB2-4478-960B-46B4506CDBE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B600EA-8427-4540-BEAA-121CA0F914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D832F6B-4422-44DB-A952-971B41BEBD6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8F373D3-B2E9-46D8-AC38-90A894EB3B8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1793A0A-048C-499B-913A-331C24980C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E8CD04-BDC8-4BEB-AF63-31A75DA878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E1659D7-009F-496A-AFF9-0E159EDBA2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02A8668-ED26-4328-B74D-F94E6DA0F9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BC045F-0CDC-4A4F-9BE4-24105717B4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11CF4F-A10B-45DA-A47A-01E1E41CDF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85655E-AFC3-47E0-8BB3-97A970F89C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F4B260-0B40-482D-A68E-7DEDD0CC42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F17F1-D1AA-4006-B366-76B07111D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60AE3AA-600B-4418-9E66-4DE4C9EADE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F9DA032-C053-415F-9858-8B9C813BC4D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3E975EB-08F2-43AF-A3D0-6D1AA02A278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33E5D51-1695-4D35-B64B-CA58339F260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CB17FFA-A264-4C30-8746-F0E60FC228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F31C9C-2B3C-476F-B6D0-4D24760724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F23061-2290-458B-A692-D04CA2C4E9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FA94749-A3E3-4F44-89C1-009B714DB2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310695-7288-4C87-B9EA-F61A2E0931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0E10EE-FAD4-4D72-96CE-A4ACCC5942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2D956-64E4-4E13-A591-2392FB3F7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766B01-1BEB-4022-8903-3174C011FD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6CE7A2-F04A-4FC5-83D5-9B46D777DD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88DE6D-8B52-4D26-BF15-E77DE329E5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4F868B5-E599-4F1D-AE9B-061563EF8B2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2EF5082-8EC8-42CE-A2FB-C57717CE6B2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39793-EC86-483A-A495-6A3C90312B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0" name="Прямоугольный треугольник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Прямая соединительная линия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Прямая соединительная линия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AC041-4036-4AB8-B1A9-4B1FD561AC7E}" type="slidenum">
              <a:rPr b="0" lang="ru-RU"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44" name="Прямоугольный треугольник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Прямая соединительная линия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Прямая соединительная линия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Равнобедренный треугольник 9"/>
          <p:cNvSpPr/>
          <p:nvPr/>
        </p:nvSpPr>
        <p:spPr>
          <a:xfrm rot="16200000">
            <a:off x="7553160" y="525420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EB9A1-E760-4A8A-9BEC-DB90A19A450A}" type="slidenum">
              <a:rPr b="0" lang="ru-RU" sz="1300" spc="-1" strike="noStrike">
                <a:solidFill>
                  <a:srgbClr val="ffffff"/>
                </a:solidFill>
                <a:latin typeface="Century Gothic"/>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89" name="Прямоугольный треугольник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Прямая соединительная линия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Прямая соединительная линия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B0967-ADF4-4663-8F2C-96EE0FB74CE7}" type="slidenum">
              <a:rPr b="0" lang="ru-RU"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Прямоугольный треугольник 9"/>
          <p:cNvSpPr/>
          <p:nvPr/>
        </p:nvSpPr>
        <p:spPr>
          <a:xfrm flipV="1">
            <a:off x="6480" y="612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Равнобедренный треугольник 11"/>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Прямая соединительная линия 12"/>
          <p:cNvSpPr/>
          <p:nvPr/>
        </p:nvSpPr>
        <p:spPr>
          <a:xfrm flipH="1" flipV="1">
            <a:off x="6469200" y="900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Прямая соединительная линия 14"/>
          <p:cNvSpPr/>
          <p:nvPr/>
        </p:nvSpPr>
        <p:spPr>
          <a:xfrm flipV="1">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Century Gothic"/>
              </a:rPr>
              <a:t>&lt;date/time&gt;</a:t>
            </a:r>
            <a:endParaRPr b="0" lang="en-US" sz="1000" spc="-1" strike="noStrike">
              <a:solidFill>
                <a:srgbClr val="ffffff"/>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15C52-CAF2-4FC8-B381-29A5EC76F669}" type="slidenum">
              <a:rPr b="0" lang="ru-RU"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7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0"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181"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09245-A1E8-4869-9B6D-41872DF4EDE7}" type="slidenum">
              <a:rPr b="0" lang="ru-RU"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2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1"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entury Gothic"/>
              </a:rPr>
              <a:t>&lt;date/time&gt;</a:t>
            </a:r>
            <a:endParaRPr b="0" lang="en-US" sz="900" spc="-1" strike="noStrike">
              <a:solidFill>
                <a:srgbClr val="000000"/>
              </a:solidFill>
              <a:latin typeface="Times New Roman"/>
            </a:endParaRPr>
          </a:p>
        </p:txBody>
      </p:sp>
      <p:sp>
        <p:nvSpPr>
          <p:cNvPr id="222"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EE7D5-CACB-4B41-B547-A89476AB1EBA}" type="slidenum">
              <a:rPr b="0" lang="ru-RU" sz="900" spc="-1" strike="noStrike">
                <a:solidFill>
                  <a:srgbClr val="000000"/>
                </a:solidFill>
                <a:latin typeface="Century Gothic"/>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6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2"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entury Gothic"/>
              </a:rPr>
              <a:t>&lt;date/time&gt;</a:t>
            </a:r>
            <a:endParaRPr b="0" lang="en-US" sz="900" spc="-1" strike="noStrike">
              <a:solidFill>
                <a:srgbClr val="ffffff"/>
              </a:solidFill>
              <a:latin typeface="Times New Roman"/>
            </a:endParaRPr>
          </a:p>
        </p:txBody>
      </p:sp>
      <p:sp>
        <p:nvSpPr>
          <p:cNvPr id="263"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67923-FB43-4AE5-AD20-D4B23C787A77}" type="slidenum">
              <a:rPr b="0" lang="ru-RU" sz="900" spc="-1" strike="noStrike">
                <a:solidFill>
                  <a:srgbClr val="ffffff"/>
                </a:solidFill>
                <a:latin typeface="Century Gothic"/>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Заголовок 1" descr=""/>
          <p:cNvPicPr/>
          <p:nvPr/>
        </p:nvPicPr>
        <p:blipFill>
          <a:blip r:embed="rId1"/>
          <a:stretch/>
        </p:blipFill>
        <p:spPr>
          <a:xfrm>
            <a:off x="542880" y="-285840"/>
            <a:ext cx="8759880" cy="6705720"/>
          </a:xfrm>
          <a:prstGeom prst="rect">
            <a:avLst/>
          </a:prstGeom>
          <a:ln w="0">
            <a:noFill/>
          </a:ln>
        </p:spPr>
      </p:pic>
    </p:spTree>
  </p:cSld>
  <p:transition spd="slow">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Заголовок 1" descr=""/>
          <p:cNvPicPr/>
          <p:nvPr/>
        </p:nvPicPr>
        <p:blipFill>
          <a:blip r:embed="rId1"/>
          <a:stretch/>
        </p:blipFill>
        <p:spPr>
          <a:xfrm>
            <a:off x="457200" y="122400"/>
            <a:ext cx="8229600" cy="1627200"/>
          </a:xfrm>
          <a:prstGeom prst="rect">
            <a:avLst/>
          </a:prstGeom>
          <a:ln w="0">
            <a:noFill/>
          </a:ln>
        </p:spPr>
      </p:pic>
      <p:pic>
        <p:nvPicPr>
          <p:cNvPr id="303" name="Содержимое 3" descr="Витя Новицкий.jpg"/>
          <p:cNvPicPr/>
          <p:nvPr/>
        </p:nvPicPr>
        <p:blipFill>
          <a:blip r:embed="rId2"/>
          <a:stretch/>
        </p:blipFill>
        <p:spPr>
          <a:xfrm>
            <a:off x="714240" y="1500120"/>
            <a:ext cx="4429440" cy="4643640"/>
          </a:xfrm>
          <a:prstGeom prst="rect">
            <a:avLst/>
          </a:prstGeom>
          <a:ln w="0">
            <a:noFill/>
          </a:ln>
        </p:spPr>
      </p:pic>
      <p:sp>
        <p:nvSpPr>
          <p:cNvPr id="304" name="TextBox 4"/>
          <p:cNvSpPr/>
          <p:nvPr/>
        </p:nvSpPr>
        <p:spPr>
          <a:xfrm>
            <a:off x="5429160" y="2357280"/>
            <a:ext cx="3429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entury Gothic"/>
              </a:rPr>
              <a:t>Юному защитнику Новороссийска,</a:t>
            </a:r>
            <a:br>
              <a:rPr sz="2800"/>
            </a:br>
            <a:r>
              <a:rPr b="0" lang="ru-RU" sz="2800" spc="-1" strike="noStrike">
                <a:solidFill>
                  <a:srgbClr val="ffffff"/>
                </a:solidFill>
                <a:latin typeface="Century Gothic"/>
              </a:rPr>
              <a:t>пионеру-герою Вите Новицкому, 1927-1942</a:t>
            </a:r>
            <a:endParaRPr b="0" lang="en-US" sz="2800" spc="-1" strike="noStrike">
              <a:solidFill>
                <a:srgbClr val="ffffff"/>
              </a:solidFill>
              <a:latin typeface="Arial"/>
            </a:endParaRPr>
          </a:p>
        </p:txBody>
      </p:sp>
    </p:spTree>
  </p:cSld>
  <p:transition spd="slow">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Заголовок 1" descr=""/>
          <p:cNvPicPr/>
          <p:nvPr/>
        </p:nvPicPr>
        <p:blipFill>
          <a:blip r:embed="rId1"/>
          <a:stretch/>
        </p:blipFill>
        <p:spPr>
          <a:xfrm>
            <a:off x="457200" y="268200"/>
            <a:ext cx="8229600" cy="1225800"/>
          </a:xfrm>
          <a:prstGeom prst="rect">
            <a:avLst/>
          </a:prstGeom>
          <a:ln w="0">
            <a:noFill/>
          </a:ln>
        </p:spPr>
      </p:pic>
      <p:sp>
        <p:nvSpPr>
          <p:cNvPr id="306" name=""/>
          <p:cNvSpPr txBox="1"/>
          <p:nvPr/>
        </p:nvSpPr>
        <p:spPr>
          <a:xfrm>
            <a:off x="457200" y="1882800"/>
            <a:ext cx="8229600" cy="4572000"/>
          </a:xfrm>
          <a:prstGeom prst="rect">
            <a:avLst/>
          </a:prstGeom>
          <a:noFill/>
          <a:ln w="0">
            <a:noFill/>
          </a:ln>
        </p:spPr>
        <p:txBody>
          <a:bodyPr anchor="t">
            <a:normAutofit/>
          </a:bodyPr>
          <a:p>
            <a:pPr marL="447840" indent="-3826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entury Gothic"/>
              </a:rPr>
              <a:t>    </a:t>
            </a:r>
            <a:r>
              <a:rPr b="0" lang="ru-RU" sz="2600" spc="-1" strike="noStrike">
                <a:solidFill>
                  <a:srgbClr val="ffffff"/>
                </a:solidFill>
                <a:latin typeface="Century Gothic"/>
              </a:rPr>
              <a:t>«Если погибну в борьбе за рабочее дело, прошу политрука Вершинина и старшего лейтенанта Куницына зайти ко мне домой в город Ейск и рассказать моей матери, что сын ее погиб за освобождение Родины. Прошу мой комсомольский билет, орден, этот блокнот и бескозырку передать ей. Пусть хранит и вспоминает своего сына матроса. Город Ейск, Ивановская, 35, Чаленко Таисе Ефимовне. Моряк от роду 15 лет Чаленко Виктор».</a:t>
            </a:r>
            <a:endParaRPr b="0" lang="en-US" sz="2600" spc="-1" strike="noStrike">
              <a:solidFill>
                <a:srgbClr val="ffffff"/>
              </a:solidFill>
              <a:latin typeface="Century Gothic"/>
            </a:endParaRPr>
          </a:p>
          <a:p>
            <a:pPr marL="447840" indent="-3826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entury Gothic"/>
              </a:rPr>
              <a:t>    </a:t>
            </a:r>
            <a:r>
              <a:rPr b="0" lang="ru-RU" sz="2600" spc="-1" strike="noStrike">
                <a:solidFill>
                  <a:srgbClr val="ffffff"/>
                </a:solidFill>
                <a:latin typeface="Century Gothic"/>
              </a:rPr>
              <a:t>( из письма матери)</a:t>
            </a:r>
            <a:endParaRPr b="0" lang="en-US" sz="2600" spc="-1" strike="noStrike">
              <a:solidFill>
                <a:srgbClr val="ffffff"/>
              </a:solidFill>
              <a:latin typeface="Century Gothic"/>
            </a:endParaRPr>
          </a:p>
          <a:p>
            <a:pPr marL="447840" indent="-382680">
              <a:lnSpc>
                <a:spcPct val="90000"/>
              </a:lnSpc>
              <a:spcBef>
                <a:spcPts val="6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Tree>
  </p:cSld>
  <p:transition spd="slow">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Заголовок 1" descr=""/>
          <p:cNvPicPr/>
          <p:nvPr/>
        </p:nvPicPr>
        <p:blipFill>
          <a:blip r:embed="rId1"/>
          <a:stretch/>
        </p:blipFill>
        <p:spPr>
          <a:xfrm>
            <a:off x="457200" y="122400"/>
            <a:ext cx="8229600" cy="1809720"/>
          </a:xfrm>
          <a:prstGeom prst="rect">
            <a:avLst/>
          </a:prstGeom>
          <a:ln w="0">
            <a:noFill/>
          </a:ln>
        </p:spPr>
      </p:pic>
      <p:pic>
        <p:nvPicPr>
          <p:cNvPr id="308" name="Содержимое 3" descr="корницкицй 2.jpg"/>
          <p:cNvPicPr/>
          <p:nvPr/>
        </p:nvPicPr>
        <p:blipFill>
          <a:blip r:embed="rId2"/>
          <a:stretch/>
        </p:blipFill>
        <p:spPr>
          <a:xfrm>
            <a:off x="714240" y="2428920"/>
            <a:ext cx="2286000" cy="3000240"/>
          </a:xfrm>
          <a:prstGeom prst="rect">
            <a:avLst/>
          </a:prstGeom>
          <a:ln w="0">
            <a:noFill/>
          </a:ln>
        </p:spPr>
      </p:pic>
      <p:pic>
        <p:nvPicPr>
          <p:cNvPr id="309" name="Рисунок 4" descr="Бюст на Кожзаводе.jpg"/>
          <p:cNvPicPr/>
          <p:nvPr/>
        </p:nvPicPr>
        <p:blipFill>
          <a:blip r:embed="rId3"/>
          <a:stretch/>
        </p:blipFill>
        <p:spPr>
          <a:xfrm>
            <a:off x="3429000" y="2500200"/>
            <a:ext cx="5429160" cy="2571840"/>
          </a:xfrm>
          <a:prstGeom prst="rect">
            <a:avLst/>
          </a:prstGeom>
          <a:ln w="0">
            <a:noFill/>
          </a:ln>
        </p:spPr>
      </p:pic>
      <p:sp>
        <p:nvSpPr>
          <p:cNvPr id="310" name="TextBox 5"/>
          <p:cNvSpPr/>
          <p:nvPr/>
        </p:nvSpPr>
        <p:spPr>
          <a:xfrm>
            <a:off x="3500280" y="5572080"/>
            <a:ext cx="5500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БЮСТ М.КОРНИЦКОМУ В Г.КРАСНОДАРЕ</a:t>
            </a:r>
            <a:endParaRPr b="0" lang="en-US" sz="1800" spc="-1" strike="noStrike">
              <a:solidFill>
                <a:srgbClr val="ffffff"/>
              </a:solidFill>
              <a:latin typeface="Arial"/>
            </a:endParaRPr>
          </a:p>
        </p:txBody>
      </p:sp>
    </p:spTree>
  </p:cSld>
  <p:transition spd="slow">
    <p:strips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Заголовок 1" descr=""/>
          <p:cNvPicPr/>
          <p:nvPr/>
        </p:nvPicPr>
        <p:blipFill>
          <a:blip r:embed="rId1"/>
          <a:stretch/>
        </p:blipFill>
        <p:spPr>
          <a:xfrm>
            <a:off x="457200" y="268200"/>
            <a:ext cx="8229600" cy="1395360"/>
          </a:xfrm>
          <a:prstGeom prst="rect">
            <a:avLst/>
          </a:prstGeom>
          <a:ln w="0">
            <a:noFill/>
          </a:ln>
        </p:spPr>
      </p:pic>
      <p:sp>
        <p:nvSpPr>
          <p:cNvPr id="312" name=""/>
          <p:cNvSpPr txBox="1"/>
          <p:nvPr/>
        </p:nvSpPr>
        <p:spPr>
          <a:xfrm>
            <a:off x="457200" y="1643040"/>
            <a:ext cx="8229600" cy="4811760"/>
          </a:xfrm>
          <a:prstGeom prst="rect">
            <a:avLst/>
          </a:prstGeom>
          <a:noFill/>
          <a:ln w="0">
            <a:noFill/>
          </a:ln>
        </p:spPr>
        <p:txBody>
          <a:bodyPr anchor="t">
            <a:normAutofit/>
          </a:bodyPr>
          <a:p>
            <a:pPr marL="447840" indent="-382680">
              <a:lnSpc>
                <a:spcPct val="80000"/>
              </a:lnSpc>
              <a:spcBef>
                <a:spcPts val="476"/>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Century Gothic"/>
              </a:rPr>
              <a:t>«Вторая группа Куникова пробилась в Станичку и закрепилась в здании школы, чтобы прикрыть фланг берегового плацдарма. Саперы и гранатометчики 73-й пехотной дивизии старались вытеснить русских. В конце концов немцам удалось выбить бойцов Куникова и из школы и окружить эту ударную группу… В ту минуту решалась битва, которая длилась потом семь месяцев, или 302 400 минут. Героем той минуты стал советский старшина Корницкий. Он определил исход первого боя. Когда ему стала ясна безнадежность положения его ударной группы, он привязал к поясу пятнадцать ручных гранат, выдернул чеку, вскочил на стену школьного двора и прыгнул в место сосредоточения немецкого пехотного взвода. Живая наземная мина, он взорвался сам, но при этом взорвал и немцев. Кольцо разомкнулось. Корницкий, посмертно удостоенный звания Героя Советского Союза, разрешил опасный кризис первого часа и открыл дорогу главному удару. Сражения выигрывают солдаты»</a:t>
            </a:r>
            <a:endParaRPr b="0" lang="en-US" sz="1900" spc="-1" strike="noStrike">
              <a:solidFill>
                <a:srgbClr val="ffffff"/>
              </a:solidFill>
              <a:latin typeface="Century Gothic"/>
            </a:endParaRPr>
          </a:p>
        </p:txBody>
      </p:sp>
    </p:spTree>
  </p:cSld>
  <p:transition spd="slow">
    <p:strips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Заголовок 1" descr=""/>
          <p:cNvPicPr/>
          <p:nvPr/>
        </p:nvPicPr>
        <p:blipFill>
          <a:blip r:embed="rId1"/>
          <a:stretch/>
        </p:blipFill>
        <p:spPr>
          <a:xfrm>
            <a:off x="457200" y="122400"/>
            <a:ext cx="8229600" cy="1809720"/>
          </a:xfrm>
          <a:prstGeom prst="rect">
            <a:avLst/>
          </a:prstGeom>
          <a:ln w="0">
            <a:noFill/>
          </a:ln>
        </p:spPr>
      </p:pic>
      <p:pic>
        <p:nvPicPr>
          <p:cNvPr id="314" name="Содержимое 3" descr="Петрова 2.jpg"/>
          <p:cNvPicPr/>
          <p:nvPr/>
        </p:nvPicPr>
        <p:blipFill>
          <a:blip r:embed="rId2"/>
          <a:stretch/>
        </p:blipFill>
        <p:spPr>
          <a:xfrm>
            <a:off x="785880" y="1857240"/>
            <a:ext cx="2357280" cy="3571920"/>
          </a:xfrm>
          <a:prstGeom prst="rect">
            <a:avLst/>
          </a:prstGeom>
          <a:ln w="0">
            <a:noFill/>
          </a:ln>
        </p:spPr>
      </p:pic>
      <p:pic>
        <p:nvPicPr>
          <p:cNvPr id="315" name="Рисунок 4" descr="Галина петрова.jpg"/>
          <p:cNvPicPr/>
          <p:nvPr/>
        </p:nvPicPr>
        <p:blipFill>
          <a:blip r:embed="rId3"/>
          <a:stretch/>
        </p:blipFill>
        <p:spPr>
          <a:xfrm>
            <a:off x="4714920" y="1857240"/>
            <a:ext cx="2357280" cy="3286440"/>
          </a:xfrm>
          <a:prstGeom prst="rect">
            <a:avLst/>
          </a:prstGeom>
          <a:ln w="0">
            <a:noFill/>
          </a:ln>
        </p:spPr>
      </p:pic>
      <p:sp>
        <p:nvSpPr>
          <p:cNvPr id="316" name="TextBox 5"/>
          <p:cNvSpPr/>
          <p:nvPr/>
        </p:nvSpPr>
        <p:spPr>
          <a:xfrm>
            <a:off x="3857760" y="5500800"/>
            <a:ext cx="4929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БЮСТ   У  ЗДАНИЯ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НОВОЧЕРКАСКОГО УНИВЕРСИТЕТА</a:t>
            </a:r>
            <a:endParaRPr b="0" lang="en-US" sz="1800" spc="-1" strike="noStrike">
              <a:solidFill>
                <a:srgbClr val="ffffff"/>
              </a:solidFill>
              <a:latin typeface="Arial"/>
            </a:endParaRPr>
          </a:p>
        </p:txBody>
      </p:sp>
    </p:spTree>
  </p:cSld>
  <p:transition spd="slow">
    <p:diamon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Заголовок 1" descr=""/>
          <p:cNvPicPr/>
          <p:nvPr/>
        </p:nvPicPr>
        <p:blipFill>
          <a:blip r:embed="rId1"/>
          <a:stretch/>
        </p:blipFill>
        <p:spPr>
          <a:xfrm>
            <a:off x="457200" y="182520"/>
            <a:ext cx="8229600" cy="1170000"/>
          </a:xfrm>
          <a:prstGeom prst="rect">
            <a:avLst/>
          </a:prstGeom>
          <a:ln w="0">
            <a:noFill/>
          </a:ln>
        </p:spPr>
      </p:pic>
      <p:sp>
        <p:nvSpPr>
          <p:cNvPr id="318" name=""/>
          <p:cNvSpPr txBox="1"/>
          <p:nvPr/>
        </p:nvSpPr>
        <p:spPr>
          <a:xfrm>
            <a:off x="457200" y="1499760"/>
            <a:ext cx="8229600" cy="4954680"/>
          </a:xfrm>
          <a:prstGeom prst="rect">
            <a:avLst/>
          </a:prstGeom>
          <a:noFill/>
          <a:ln w="0">
            <a:noFill/>
          </a:ln>
        </p:spPr>
        <p:txBody>
          <a:bodyPr anchor="t">
            <a:normAutofit/>
          </a:bodyPr>
          <a:p>
            <a:pPr marL="447840" indent="-3826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Century Gothic"/>
              </a:rPr>
              <a:t>Всех имен благородных мы здесь перечислить не сможем.</a:t>
            </a:r>
            <a:endParaRPr b="0" lang="en-US" sz="3600" spc="-1" strike="noStrike">
              <a:solidFill>
                <a:srgbClr val="ffffff"/>
              </a:solidFill>
              <a:latin typeface="Century Gothic"/>
            </a:endParaRPr>
          </a:p>
          <a:p>
            <a:pPr marL="447840" indent="-3826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Century Gothic"/>
              </a:rPr>
              <a:t>Их много под вечной охраной гранита.</a:t>
            </a:r>
            <a:endParaRPr b="0" lang="en-US" sz="3600" spc="-1" strike="noStrike">
              <a:solidFill>
                <a:srgbClr val="ffffff"/>
              </a:solidFill>
              <a:latin typeface="Century Gothic"/>
            </a:endParaRPr>
          </a:p>
          <a:p>
            <a:pPr marL="447840" indent="-3826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Century Gothic"/>
              </a:rPr>
              <a:t>Но помни, внимающим этим словам,</a:t>
            </a:r>
            <a:endParaRPr b="0" lang="en-US" sz="3600" spc="-1" strike="noStrike">
              <a:solidFill>
                <a:srgbClr val="ffffff"/>
              </a:solidFill>
              <a:latin typeface="Century Gothic"/>
            </a:endParaRPr>
          </a:p>
          <a:p>
            <a:pPr marL="447840" indent="-3826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Century Gothic"/>
              </a:rPr>
              <a:t>Никто не забыт, ничто не забыто</a:t>
            </a:r>
            <a:r>
              <a:rPr b="0" lang="ru-RU" sz="3000" spc="-1" strike="noStrike">
                <a:solidFill>
                  <a:srgbClr val="ffffff"/>
                </a:solidFill>
                <a:latin typeface="Century Gothic"/>
              </a:rPr>
              <a:t>!</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31T13:17:04Z</dcterms:created>
  <dc:creator>Виктор</dc:creator>
  <dc:description/>
  <dc:language>en-US</dc:language>
  <cp:lastModifiedBy>Tatyana</cp:lastModifiedBy>
  <dcterms:modified xsi:type="dcterms:W3CDTF">2013-04-19T17:01:55Z</dcterms:modified>
  <cp:revision>6</cp:revision>
  <dc:subject/>
  <dc:title>Их именами названы улицы нашего города</dc:title>
</cp:coreProperties>
</file>