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92C2-813B-4B41-983A-4D2DCD4D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DC88-56E3-47E6-91A2-1B2EFEA6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296-E66F-4288-9B2E-2BC4FE5B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82AC-65D9-43E2-AD14-04EB03BC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E91-5C0D-4ACB-BBF7-9B4FE1AE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6435-6C5D-40FD-A83E-8FEF6076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7A9-C942-4457-B184-3DA19EF5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76B3-41FE-48A0-BA0D-2CAEB9E8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FC83-CCC3-450E-9E04-DCA12311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936-5A7B-430C-A4D4-2CDA1F9D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5727-CAB1-48BD-8C95-5BF3655E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0424-25AE-437E-B746-8D6E14DF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DE3E-DC9D-4D32-8C4F-CD9227D9F4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ТИПЫ ТЕКС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2349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ПИСА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339933"/>
                </a:solidFill>
                <a:latin typeface="Arial"/>
              </a:rPr>
              <a:t>ПОВЕСТВО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ССУЖД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ДНО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 flipH="1">
            <a:off x="1186920" y="1413000"/>
            <a:ext cx="2305080" cy="7920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4354560" y="1413000"/>
            <a:ext cx="0" cy="1439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5581800" y="1341360"/>
            <a:ext cx="2087280" cy="863640"/>
          </a:xfrm>
          <a:prstGeom prst="line">
            <a:avLst/>
          </a:prstGeom>
          <a:ln w="507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1403280" y="3068640"/>
            <a:ext cx="0" cy="187308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395280" y="189000"/>
            <a:ext cx="8280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ОВЕСНЫЙ ПОРТР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изображение наружности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7640" y="4723920"/>
            <a:ext cx="878508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ЗОБРАЖЕНИЕ ЧЕРТ ЛИ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ЗОБРАЖЕНИЕ ФИГ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ЗОБРАЖЕНИЕ ОДЕЖ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ЗОБРАЖЕНИЕ ЧЕЛОВЕКА В ДЕЙСТВИИ – ПОЗА, МИМИКА, ЖЕ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 rot="5400000">
            <a:off x="3852000" y="1627920"/>
            <a:ext cx="1224000" cy="50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 rot="5400000">
            <a:off x="4033080" y="3967920"/>
            <a:ext cx="1008000" cy="50472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250920" y="189000"/>
            <a:ext cx="8713800" cy="6553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разительные средства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пользуемые в текстах-описаниях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835280" y="0"/>
            <a:ext cx="561636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22068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а к..ртине изобр..жена, хру..кая ф..гур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с,з)жавшись в уютн..м кресл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белая фу..болка, ак?уратная прич..с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добные к..рич?нев..е брюки, лё?кие тапоч?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..рьёзн..е выр..жение лица, тёплое с..яние воло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..крытая книга, св..рнувшись, как к..тёно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ч..тание тёплых красок, от?енков, п..литра худож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10537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редоточить, устремить (-НН-)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испадать, читать (-ЮЩ-)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10702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редоточить, устремить (-ЕНН-)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редоточенный, устремл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испадать, читать (-ЮЩ-)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испадающий, читающ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 flipV="1">
            <a:off x="4716360" y="1916280"/>
            <a:ext cx="360360" cy="50472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H="1" flipV="1">
            <a:off x="5076720" y="1916280"/>
            <a:ext cx="287280" cy="50472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 flipV="1">
            <a:off x="7740720" y="1916280"/>
            <a:ext cx="360360" cy="50472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H="1" flipV="1">
            <a:off x="8101080" y="1844280"/>
            <a:ext cx="358560" cy="57636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V="1">
            <a:off x="5435640" y="4149720"/>
            <a:ext cx="360360" cy="50328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 flipH="1" flipV="1">
            <a:off x="5796000" y="4149720"/>
            <a:ext cx="288720" cy="50328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 flipV="1">
            <a:off x="7740720" y="4149360"/>
            <a:ext cx="360360" cy="43164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 flipH="1" flipV="1">
            <a:off x="8101080" y="4149360"/>
            <a:ext cx="287280" cy="43164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23292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Риф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М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е забы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чит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танце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м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друж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весел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4076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./з. Написать сочинение с добавлением диалога по упр. 7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400800" cy="1705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35"/>
          <p:cNvPicPr/>
          <p:nvPr/>
        </p:nvPicPr>
        <p:blipFill>
          <a:blip r:embed="rId2"/>
          <a:stretch/>
        </p:blipFill>
        <p:spPr>
          <a:xfrm>
            <a:off x="7215120" y="4000680"/>
            <a:ext cx="1600200" cy="2465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8:42:40Z</dcterms:created>
  <dc:creator>фы</dc:creator>
  <dc:description/>
  <dc:language>en-US</dc:language>
  <cp:lastModifiedBy>фы</cp:lastModifiedBy>
  <dcterms:modified xsi:type="dcterms:W3CDTF">2010-10-15T06:04:37Z</dcterms:modified>
  <cp:revision>7</cp:revision>
  <dc:subject/>
  <dc:title>ТИПЫ ТЕКСТОВ</dc:title>
</cp:coreProperties>
</file>