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45A-4B10-4974-BD26-9585142D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98E-5804-42B0-A057-44A24BD2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E693-48AF-4F64-8837-B2C6C19C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2B3-F6D7-46AD-A28D-99A1A7C8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2F0-1EA4-4B54-BDDF-3FE9752B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E44-9169-40AC-883E-895BC5B1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D3F-FAB6-4A59-90BF-8DD3ED4E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602-04F2-48B9-B5CC-36209542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0BE-18E2-4592-8D0E-7FC023D5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927-136F-4C69-8324-AA841EDB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32B-23B4-405D-A611-C7B6A310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B83-89BF-4FD1-BD11-8D7C55AF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BA71-764B-40C0-9CB8-82BA80F1C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cc"/>
                </a:solidFill>
                <a:latin typeface="Arial"/>
              </a:rPr>
              <a:t>ТИПЫ ТЕК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349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ПИСА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339933"/>
                </a:solidFill>
                <a:latin typeface="Arial"/>
              </a:rPr>
              <a:t>ПОВЕСТВ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СУЖ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ОДНО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 flipH="1">
            <a:off x="1186920" y="1413000"/>
            <a:ext cx="2305080" cy="79200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4354560" y="1413000"/>
            <a:ext cx="0" cy="1439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5581800" y="1341360"/>
            <a:ext cx="2087280" cy="863640"/>
          </a:xfrm>
          <a:prstGeom prst="line">
            <a:avLst/>
          </a:prstGeom>
          <a:ln w="50760">
            <a:solidFill>
              <a:srgbClr val="008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403280" y="3068640"/>
            <a:ext cx="0" cy="187308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395280" y="189000"/>
            <a:ext cx="828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ОВЕСНЫЙ ПОРТР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зображение наружност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7640" y="4723920"/>
            <a:ext cx="878508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ЗОБРАЖЕНИЕ ЧЕРТ Л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ЗОБРАЖЕНИЕ ФИГ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ЗОБРАЖЕНИЕ ОДЕЖ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ЗОБРАЖЕНИЕ ЧЕЛОВЕКА В ДЕЙСТВИИ – ПОЗА, МИМИКА, ЖЕ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 rot="5400000">
            <a:off x="3852000" y="1627920"/>
            <a:ext cx="1224000" cy="50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 rot="5400000">
            <a:off x="4033080" y="3967920"/>
            <a:ext cx="1008000" cy="50472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250920" y="189000"/>
            <a:ext cx="8713800" cy="6553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разительные средства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уемые в текстах-описаниях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83528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22068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 к..ртине изобр..жена, хру..кая ф..гур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с,з)жавшись в уютн..м кресл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елая фу..болка, ак?уратная прич..с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удобные к..рич?нев..е брюки, лё?кие тапоч?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..рьёзн..е выр..жение лица, тёплое с..яние воло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..крытая книга, св..рнувшись, как к..тёно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ч..тание тёплых красок, от?енков, п..литра худож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10537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редоточить, устремить (-НН-)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спадать, читать (-ЮЩ-)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0702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редоточить, устремить (-ЕНН-)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редоточенный, устремлё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спадать, читать (-ЮЩ-)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испадающий, читающ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 flipV="1">
            <a:off x="4716360" y="1916280"/>
            <a:ext cx="360360" cy="5047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 flipV="1">
            <a:off x="5076720" y="1916280"/>
            <a:ext cx="287280" cy="5047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V="1">
            <a:off x="7740720" y="1916280"/>
            <a:ext cx="360360" cy="50472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 flipV="1">
            <a:off x="8101080" y="1844280"/>
            <a:ext cx="358560" cy="57636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V="1">
            <a:off x="5435640" y="4149720"/>
            <a:ext cx="360360" cy="50328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 flipH="1" flipV="1">
            <a:off x="5796000" y="4149720"/>
            <a:ext cx="288720" cy="50328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7740720" y="4149360"/>
            <a:ext cx="360360" cy="43164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 flipV="1">
            <a:off x="8101080" y="4149360"/>
            <a:ext cx="287280" cy="43164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3292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</a:rPr>
              <a:t>Риф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Ми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е забы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чит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танце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ум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друж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весел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4076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./з. Написать сочинение с добавлением диалога по упр. 7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0800" cy="1705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35"/>
          <p:cNvPicPr/>
          <p:nvPr/>
        </p:nvPicPr>
        <p:blipFill>
          <a:blip r:embed="rId2"/>
          <a:stretch/>
        </p:blipFill>
        <p:spPr>
          <a:xfrm>
            <a:off x="7215120" y="4000680"/>
            <a:ext cx="1600200" cy="2465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8:42:40Z</dcterms:created>
  <dc:creator>фы</dc:creator>
  <dc:description/>
  <dc:language>en-US</dc:language>
  <cp:lastModifiedBy>фы</cp:lastModifiedBy>
  <dcterms:modified xsi:type="dcterms:W3CDTF">2010-10-15T06:04:37Z</dcterms:modified>
  <cp:revision>7</cp:revision>
  <dc:subject/>
  <dc:title>ТИПЫ ТЕКСТОВ</dc:title>
</cp:coreProperties>
</file>