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54FF-F0EC-4F64-8650-A4F6D50D6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69FC-630B-4C77-921A-5D9C0967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597B-9137-452E-98D6-4E4551E19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BC2C-E31D-4317-B48C-C01ECFF36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C612-BE26-4B7F-8CEC-415683D3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F435-7F4F-4BFB-A572-23645F0C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60B4-50FC-4949-A1D8-22960C51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FA36-2D3B-4C86-B7C5-525868E8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B187-B58E-4220-9F66-FDA4977E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AE3A-ABE1-4AFA-982D-B8BE6F69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6105-2410-4230-BB44-BE73FB1F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A0D1-00BC-4656-A0B5-A63CC0D7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945A-93FA-42FC-B618-513185C587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Литературное чт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707920"/>
            <a:ext cx="640080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4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5268600" y="5321160"/>
            <a:ext cx="3460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дготовила: Прудникова Светлана Юрь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ОУ ГСОШ г Каляз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дготовить рассказ о Русалоч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оставить кроссворд по сказк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Г. Х. Андерс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11280" y="2133720"/>
            <a:ext cx="7993080" cy="31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всем за урок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евиз 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-1440" y="-72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-1440" y="-72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1096920" y="2146320"/>
            <a:ext cx="688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т сказок лучше тех, которы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оздаёт  сама жизн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аша речь на урок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96244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Обдуманн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592200" y="2217600"/>
            <a:ext cx="426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следовательн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519120" y="2867040"/>
            <a:ext cx="383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одержательн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520560" y="3514680"/>
            <a:ext cx="165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ётк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663840" y="4091040"/>
            <a:ext cx="278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авильн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664560" y="4667400"/>
            <a:ext cx="358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 меру быстр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очему слова объединены в одну группу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Цветае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232200" y="2290680"/>
            <a:ext cx="225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ндерсе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519840" y="2867040"/>
            <a:ext cx="17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Есени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736560" y="3586320"/>
            <a:ext cx="173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убц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2341800" y="4508640"/>
            <a:ext cx="55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кая фамилия лишняя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4625280" y="1498680"/>
            <a:ext cx="213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Фамил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Андерсен - сказочни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4448160" cy="5238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487400" y="1557360"/>
            <a:ext cx="4845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брые сказки вы помни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дет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очу, чтобы сказки любил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бы подкралось к самом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рдц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заронило зерно добр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любв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роверка домашнего зада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305080" y="1019160"/>
            <a:ext cx="453384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Отдыхае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ы в сказку к русалоч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обрались в дальний пут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Летели, плыли, ехали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ра и отдохну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543240" y="4032360"/>
            <a:ext cx="4429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се любят сказки добр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вольна детво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орее все за дел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новь в сказку нам пора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Виктор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колько принцесс дочек было у морского цар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7958160" y="765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-3960" y="1628640"/>
            <a:ext cx="652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гда русалочкам разрешалос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плывать на поверхность мор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7164720" y="1844640"/>
            <a:ext cx="172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в 15 л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-5400" y="2492280"/>
            <a:ext cx="811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увидела русалочка, когда первый ра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плыла на поверхность мор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4214880" y="3429000"/>
            <a:ext cx="493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Корабль, людей, принц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-3600" y="3789360"/>
            <a:ext cx="796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то спас принца во время бури на мор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6803640" y="4149720"/>
            <a:ext cx="216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Русалоч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225720" y="4500720"/>
            <a:ext cx="830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взяла ведьма за помощь у русалочк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7380360" y="4941720"/>
            <a:ext cx="129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Голо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298080" y="5292720"/>
            <a:ext cx="599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олько лет живут русалочк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3760560" y="579600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акая тема сказк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Любов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453240" y="2028960"/>
            <a:ext cx="839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 имя настоящей любви человек может пожерт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вать, если понадобится жизнь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31T05:27:56Z</dcterms:created>
  <dc:creator>Admin</dc:creator>
  <dc:description/>
  <dc:language>en-US</dc:language>
  <cp:lastModifiedBy>Админитратор</cp:lastModifiedBy>
  <dcterms:modified xsi:type="dcterms:W3CDTF">2013-04-18T16:49:59Z</dcterms:modified>
  <cp:revision>2</cp:revision>
  <dc:subject/>
  <dc:title>Слайд 1</dc:title>
</cp:coreProperties>
</file>