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B0D1-BB57-4EF7-B051-7A3D0457E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D566-2078-4131-8667-9926E7D3C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1CD6-EA3C-404E-921A-733C5D7A7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E184-633A-4924-86AC-34EFD30AC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0567-64E1-4481-8D79-70559DAF8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976A-9C50-4E7F-BABA-F8A79DFF5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AC31-D966-4C9D-B3D1-106CAF811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4752-C520-42E6-9AD2-5650C527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9412-2A64-4274-AFBF-49D7F587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881C-F708-47E3-B7A7-8BE17A81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8095-C924-46F8-96EA-E27085BE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C947-A820-4C7E-B7D0-E5D6F98F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E5E9B-38F6-4D36-A011-4A8C502A68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Литературное чт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2707920"/>
            <a:ext cx="6400800" cy="6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4 клас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5268600" y="5321160"/>
            <a:ext cx="3460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дготовила: Прудникова Светлана Юрье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ОУ ГСОШ г Каляз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одготовить рассказ о Русалочк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оставить кроссворд по сказк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Г. Х. Андерсе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611280" y="2133720"/>
            <a:ext cx="7993080" cy="31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всем за урок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Девиз 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-1440" y="-72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-1440" y="-72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1096920" y="2146320"/>
            <a:ext cx="688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ет сказок лучше тех, которые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оздаёт  сама жизн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Наша речь на урок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96244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Обдуманно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592200" y="2217600"/>
            <a:ext cx="426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следовательно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519120" y="2867040"/>
            <a:ext cx="383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одержательно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520560" y="3514680"/>
            <a:ext cx="165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Чётко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663840" y="4091040"/>
            <a:ext cx="278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авильно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664560" y="4667400"/>
            <a:ext cx="358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 меру быстро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Почему слова объединены в одну группу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Цветае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232200" y="2290680"/>
            <a:ext cx="225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ндерсе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519840" y="2867040"/>
            <a:ext cx="173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сени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736560" y="3586320"/>
            <a:ext cx="173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убц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2341800" y="4508640"/>
            <a:ext cx="551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акая фамилия лишняя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/>
          <p:nvPr/>
        </p:nvSpPr>
        <p:spPr>
          <a:xfrm>
            <a:off x="4625280" y="1498680"/>
            <a:ext cx="213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Фамил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4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Андерсен - сказочн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4448160" cy="5238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487400" y="1557360"/>
            <a:ext cx="4845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брые сказки вы помнит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 дет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очу, чтобы сказки любил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бы подкралось к самом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рдц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заронило зерно добро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любв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роверка домашнего задан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305080" y="1019160"/>
            <a:ext cx="453384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Отдыхае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Мы в сказку к русалоч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обрались в дальний путь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Летели, плыли, ехали 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ора и отдохну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543240" y="4032360"/>
            <a:ext cx="4429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се любят сказки добр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вольна детво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орее все за дел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новь в сказку нам пора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Виктор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колько принцесс дочек было у морского цар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/>
          <p:nvPr/>
        </p:nvSpPr>
        <p:spPr>
          <a:xfrm>
            <a:off x="7958160" y="765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/>
          <p:nvPr/>
        </p:nvSpPr>
        <p:spPr>
          <a:xfrm>
            <a:off x="-3960" y="1628640"/>
            <a:ext cx="6528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гда русалочкам разрешалос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плывать на поверхность мор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/>
          <p:nvPr/>
        </p:nvSpPr>
        <p:spPr>
          <a:xfrm>
            <a:off x="7164720" y="1844640"/>
            <a:ext cx="172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в 15 л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/>
          <p:nvPr/>
        </p:nvSpPr>
        <p:spPr>
          <a:xfrm>
            <a:off x="-5400" y="2492280"/>
            <a:ext cx="8113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увидела русалочка, когда первый ра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плыла на поверхность мор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/>
          <p:nvPr/>
        </p:nvSpPr>
        <p:spPr>
          <a:xfrm>
            <a:off x="4214880" y="3429000"/>
            <a:ext cx="493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Корабль, людей, принц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/>
          <p:nvPr/>
        </p:nvSpPr>
        <p:spPr>
          <a:xfrm>
            <a:off x="-3600" y="3789360"/>
            <a:ext cx="796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то спас принца во время бури на мор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/>
          <p:nvPr/>
        </p:nvSpPr>
        <p:spPr>
          <a:xfrm>
            <a:off x="6803640" y="4149720"/>
            <a:ext cx="216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Русалоч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/>
          <p:nvPr/>
        </p:nvSpPr>
        <p:spPr>
          <a:xfrm>
            <a:off x="225720" y="4500720"/>
            <a:ext cx="830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взяла ведьма за помощь у русалочк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/>
          <p:nvPr/>
        </p:nvSpPr>
        <p:spPr>
          <a:xfrm>
            <a:off x="7380360" y="4941720"/>
            <a:ext cx="129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Голо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/>
          <p:nvPr/>
        </p:nvSpPr>
        <p:spPr>
          <a:xfrm>
            <a:off x="298080" y="5292720"/>
            <a:ext cx="599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колько лет живут русалочк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3760560" y="579600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Какая тема сказк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Любов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453240" y="2028960"/>
            <a:ext cx="839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 имя настоящей любви человек может пожерт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вать, если понадобится жизнь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31T05:27:56Z</dcterms:created>
  <dc:creator>Admin</dc:creator>
  <dc:description/>
  <dc:language>en-US</dc:language>
  <cp:lastModifiedBy>Админитратор</cp:lastModifiedBy>
  <dcterms:modified xsi:type="dcterms:W3CDTF">2013-04-18T16:49:59Z</dcterms:modified>
  <cp:revision>2</cp:revision>
  <dc:subject/>
  <dc:title>Слайд 1</dc:title>
</cp:coreProperties>
</file>