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1AE-8E31-4CB1-BADC-6C87CE57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E7B0-5972-46BC-B5FF-2A32D870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D5C-6A42-4A59-A24C-A9B09527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E2D-97EA-47ED-ACF6-EC4CED0D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EF7E-31FE-45E8-9677-FD7B43C9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4FCB-7B72-4D36-84D7-2AA587A6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0909-B35E-4EF8-9D2C-0289CB0B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5D22-A7B3-4F8C-A9C3-9E6E02EF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9106-9684-4748-875D-D5B67BB9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3ABB-E912-48A4-BE04-770B1C39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4A4E-F7AD-40E9-AF5C-1825EE75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A30-7453-4B20-8517-C708B4EB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D392-1A4A-4177-B3D7-0613B98A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76F3-5069-41CD-A8F1-55C25088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D202-44A6-4BA4-99E8-9A893225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9A6B-F76D-4734-BF94-78C721FC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D654-60E8-4447-966F-81F207AD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D70F-0B86-4166-8254-0DDCC5AF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3C33-E073-4D72-A9D8-6CFB30AB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6161-30C0-431B-99C9-E596CFAD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E31D-00D6-4D53-A02D-434849A0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5FBF-29CB-4B53-B680-ACCCA026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B72-2679-4601-BAC3-75A5E5AC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372D-DE39-4EB4-8C22-A00E63D7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1048-3F6A-4E26-BF51-E92EE3AA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CBD6-9C55-4857-9CA5-F15FB1A3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87C7-B337-4196-B648-EF8275AF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2D9B-FB68-4876-9D58-6989B184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4D99-341F-42A5-966A-6BCC1171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E38A-972D-461D-BFB2-3ED9FB8D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2798-36F5-4C58-9581-0E909EAE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CF72C-BCAC-4B91-9190-3DB0C52A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9992-B42E-4580-984E-BCD0BBC2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595-17A4-4C38-8C10-4722A370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B22E-76AB-4D0F-B2B7-753C48C4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A849E-89FF-4C37-9369-E006D446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BBA3-0584-44EB-AF36-AC075E8A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2ABCC-84FF-49EB-97D2-6D10D7AB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6DDF-8C61-4B2C-A0F9-B6577E41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C6FBB-912E-44C5-A8B2-FE2370CE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7777B-4384-4EE4-B3AB-8A7C3B02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020C7-44FE-4634-AEB2-3E4B48EA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E836C-50F6-439D-B3DE-A5EA09C0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700-A4A8-4243-A1B7-440B7343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5EC-21FC-40B8-A9CD-4F24D249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338-0C56-4E13-AF87-18936B24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0EE-6296-4948-9A72-909FB890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BF0-D583-4AF7-9BE5-BD9AE462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C309F8-806C-4DF3-8C08-B6EDA83611F9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DDD9D6-31C6-4405-8381-8DABABEFF92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c32"/>
            </a:gs>
            <a:gs pos="100000">
              <a:srgbClr val="272f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8435160" y="573840"/>
            <a:ext cx="86040" cy="572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8569440" y="573840"/>
            <a:ext cx="575640" cy="572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484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8600"/>
                </a:solidFill>
                <a:latin typeface="Aria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4840" cy="353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-182880">
              <a:lnSpc>
                <a:spcPct val="100000"/>
              </a:lnSpc>
              <a:spcBef>
                <a:spcPts val="360"/>
              </a:spcBef>
              <a:buClr>
                <a:srgbClr val="ff86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880">
              <a:lnSpc>
                <a:spcPct val="100000"/>
              </a:lnSpc>
              <a:spcBef>
                <a:spcPts val="320"/>
              </a:spcBef>
              <a:buClr>
                <a:srgbClr val="ff8600"/>
              </a:buClr>
              <a:buFont typeface="Wingdings" charset="2"/>
              <a:buChar char="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880">
              <a:lnSpc>
                <a:spcPct val="100000"/>
              </a:lnSpc>
              <a:spcBef>
                <a:spcPts val="281"/>
              </a:spcBef>
              <a:buClr>
                <a:srgbClr val="ff8600"/>
              </a:buClr>
              <a:buFont typeface="Wingdings" charset="2"/>
              <a:buChar char=""/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880">
              <a:lnSpc>
                <a:spcPct val="100000"/>
              </a:lnSpc>
              <a:spcBef>
                <a:spcPts val="281"/>
              </a:spcBef>
              <a:buClr>
                <a:srgbClr val="ff8600"/>
              </a:buClr>
              <a:buFont typeface="Wingdings" charset="2"/>
              <a:buChar char=""/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07680" y="548640"/>
            <a:ext cx="1188720" cy="2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>
                    <a:alpha val="50000"/>
                  </a:srgbClr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>
                    <a:alpha val="50000"/>
                  </a:srgbClr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08760" y="856080"/>
            <a:ext cx="2246040" cy="30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314480" y="548640"/>
            <a:ext cx="940680" cy="3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121F14-F0C3-4E4A-AEAC-DC33CD0D60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DA56D52-939F-4E6A-8175-B9A3382380E6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7640" y="62064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Сила трения в быту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99640" y="256500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7c7972"/>
                </a:solidFill>
                <a:latin typeface="Verdana"/>
              </a:rPr>
              <a:t>Всегда ли сила трения враг в бы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icture 3"/>
          <p:cNvSpPr/>
          <p:nvPr/>
        </p:nvSpPr>
        <p:spPr>
          <a:xfrm>
            <a:off x="4356000" y="4107600"/>
            <a:ext cx="4233960" cy="20088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:\Users\Антон\Desktop\trenie.gif"/>
          <p:cNvPicPr/>
          <p:nvPr/>
        </p:nvPicPr>
        <p:blipFill>
          <a:blip r:embed="rId2"/>
          <a:stretch/>
        </p:blipFill>
        <p:spPr>
          <a:xfrm>
            <a:off x="502200" y="3668400"/>
            <a:ext cx="3521520" cy="2640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77" name="TextBox 5"/>
          <p:cNvSpPr/>
          <p:nvPr/>
        </p:nvSpPr>
        <p:spPr>
          <a:xfrm>
            <a:off x="4835160" y="3143160"/>
            <a:ext cx="308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стромина Анна, 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Антон\Desktop\ftrenia.gif"/>
          <p:cNvPicPr/>
          <p:nvPr/>
        </p:nvPicPr>
        <p:blipFill>
          <a:blip r:embed="rId1"/>
          <a:stretch/>
        </p:blipFill>
        <p:spPr>
          <a:xfrm>
            <a:off x="0" y="-44280"/>
            <a:ext cx="9143640" cy="6901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640" y="116640"/>
            <a:ext cx="8820000" cy="17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5"/>
                </a:solidFill>
                <a:latin typeface="Arial"/>
              </a:rPr>
              <a:t>ПРИЧИНЫ ВОЗНИКНОВЕНИЯ ТРЕНИЯ: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1640" y="3861000"/>
            <a:ext cx="9792720" cy="13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</a:rPr>
              <a:t>Неровности  поверх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</a:rPr>
              <a:t>Молекулярное  взаимодействие     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Стрелка вниз 3"/>
          <p:cNvSpPr/>
          <p:nvPr/>
        </p:nvSpPr>
        <p:spPr>
          <a:xfrm rot="1165800">
            <a:off x="1382400" y="2213280"/>
            <a:ext cx="1151640" cy="136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>
            <a:solidFill>
              <a:srgbClr val="60687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84" name="Стрелка вниз 4"/>
          <p:cNvSpPr/>
          <p:nvPr/>
        </p:nvSpPr>
        <p:spPr>
          <a:xfrm rot="19952400">
            <a:off x="5857920" y="2177640"/>
            <a:ext cx="1151640" cy="136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>
            <a:solidFill>
              <a:srgbClr val="60687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85" name="Picture 2" descr="C:\Users\Антон\Desktop\OQAAAHuO85NGWrwcly4NIjk5ZR8BVJTS9tmXZl9PzADnfuH_UsD3TbVI0Dt4mOWNAxjEea5lLOdkIwTj9Yt3iARsEVwA15jOjNIcMkkjOofLBe4elPJ_LGBwm2NA.png"/>
          <p:cNvPicPr/>
          <p:nvPr/>
        </p:nvPicPr>
        <p:blipFill>
          <a:blip r:embed="rId1"/>
          <a:stretch/>
        </p:blipFill>
        <p:spPr>
          <a:xfrm>
            <a:off x="2843640" y="4659840"/>
            <a:ext cx="3888000" cy="20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187" name="Объект 4" descr=""/>
          <p:cNvPicPr/>
          <p:nvPr/>
        </p:nvPicPr>
        <p:blipFill>
          <a:blip r:embed="rId1"/>
          <a:stretch/>
        </p:blipFill>
        <p:spPr>
          <a:xfrm>
            <a:off x="-65160" y="-76320"/>
            <a:ext cx="931752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189" name="Объект 3" descr=""/>
          <p:cNvPicPr/>
          <p:nvPr/>
        </p:nvPicPr>
        <p:blipFill>
          <a:blip r:embed="rId1"/>
          <a:stretch/>
        </p:blipFill>
        <p:spPr>
          <a:xfrm>
            <a:off x="12600" y="-26640"/>
            <a:ext cx="9131040" cy="68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1"/>
          <a:stretch/>
        </p:blipFill>
        <p:spPr>
          <a:xfrm>
            <a:off x="23400" y="-9000"/>
            <a:ext cx="9198720" cy="68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ерспектива">
  <a:themeElements>
    <a:clrScheme name="Перспектива">
      <a:dk1>
        <a:srgbClr val="000000"/>
      </a:dk1>
      <a:lt1>
        <a:srgbClr val="ffffff"/>
      </a:lt1>
      <a:dk2>
        <a:srgbClr val="283138"/>
      </a:dk2>
      <a:lt2>
        <a:srgbClr val="ff8600"/>
      </a:lt2>
      <a:accent1>
        <a:srgbClr val="838d9b"/>
      </a:accent1>
      <a:accent2>
        <a:srgbClr val="d2610c"/>
      </a:accent2>
      <a:accent3>
        <a:srgbClr val="80716a"/>
      </a:accent3>
      <a:accent4>
        <a:srgbClr val="94147c"/>
      </a:accent4>
      <a:accent5>
        <a:srgbClr val="5d5ad2"/>
      </a:accent5>
      <a:accent6>
        <a:srgbClr val="6f6c7d"/>
      </a:accent6>
      <a:hlink>
        <a:srgbClr val="6187e3"/>
      </a:hlink>
      <a:folHlink>
        <a:srgbClr val="7b8eb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22</TotalTime>
  <Application>LibreOffice/7.4.7.2$Linux_X86_64 LibreOffice_project/40$Build-2</Application>
  <AppVersion>15.0000</AppVersion>
  <Words>20</Words>
  <Paragraphs>5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8:01:02Z</dcterms:created>
  <dc:creator>Антон</dc:creator>
  <dc:description/>
  <dc:language>en-US</dc:language>
  <cp:lastModifiedBy>User</cp:lastModifiedBy>
  <dcterms:modified xsi:type="dcterms:W3CDTF">2012-04-18T14:24:35Z</dcterms:modified>
  <cp:revision>6</cp:revision>
  <dc:subject/>
  <dc:title>Сила трения в быт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