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79A-6553-4706-A049-651A1B6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871-61A1-4AFE-BB56-AF222C50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0FA-943F-4302-8860-543541E7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183-577B-45DA-B7BB-9CF8A6D7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CEC6-60D0-4A0A-9D7B-C3FC5D5A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BA08-6F4A-4EB8-A53F-5DD4D183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F3E1-9A7E-4ACA-94F7-F73C34B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A24E-C9A2-450C-A403-7F76763C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64DA-D045-4B9B-B1EA-CDCE36CE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D3F5-2B07-46B6-9BFB-1B69A20C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B8B-4F00-4F04-B1C2-7D61658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268-C2DB-411F-A13E-07F89F2B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C1E-FDA3-417F-8F46-36D390CA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0ECD-2E44-4DF7-9B55-DC98B428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9530-3E3B-4445-8B99-CEF9626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83B-CB48-41E3-8D40-8EEE0739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A5EC-E4C2-4CE6-A659-B7783E64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DBA3B-F418-4968-8DD4-A305A99C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3BEE-D1ED-4FC7-9C7D-BAE80C6D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989F3-407A-4D38-9972-7C57846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6B63-AB9A-40BF-BE31-BF6591A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1351-24D8-4A98-B7C8-7A88936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8F4-5571-49BF-89FE-9B192A5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94A4-43EB-4AB7-9C38-BAFEB64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5C86-16A6-4EE7-BBF6-73AEDCE7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C496-B79E-4B52-AAEC-8C96920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55C36-63E6-4D1A-8DD8-7E4018F9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1B0F-3F4C-4616-A39D-C62CF0D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1B623-4ACB-4710-B8D9-03BAB4A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ACD0-EBA9-4450-ACF1-D8993A01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535E2-0304-4526-A57D-CDF4FD11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75B9-9476-43E1-BB78-C2A56FF4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7402-68BA-4A56-B242-B2B1EB6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089-364F-428D-A178-433BF2B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4C76-FD88-413E-9538-040E4240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46DA-6BDD-43F6-B4E5-D2146F7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42394-969A-47FE-88F6-0CB0467F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545F-98FA-416B-8FA3-5E80CEE3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FDE2-9DC8-44AB-B596-3F8B8AED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7A14-D970-4D8B-BD30-B2A5D3D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2225-2542-46A8-9CD4-6210628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D691-9045-4A6A-899B-C968298A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2866-AFF9-4EC0-916C-DB8935C4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38E-8374-40C5-9E92-FE43DB91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54D-9458-4F96-863D-E5ED7C3B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50F-5CF7-4740-B578-20F364A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FB5-E968-4BB9-8EA5-614FDFCF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141-2127-4483-8E07-5EDBD033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Скругленный прямоугольник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Скругленный прямоугольник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Скругленный прямоугольник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Образец заголовка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E58864-F988-4AAE-863C-AA080888AECD}" type="slidenum">
              <a:rPr b="0" lang="ru-RU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ru-RU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927437-F28F-4DFE-AA6B-A858666BCC4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c32"/>
            </a:gs>
            <a:gs pos="100000">
              <a:srgbClr val="272f3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8435160" y="573840"/>
            <a:ext cx="86040" cy="572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8569440" y="573840"/>
            <a:ext cx="575640" cy="5720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4840" cy="115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8600"/>
                </a:solidFill>
                <a:latin typeface="Arial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4840" cy="353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182880">
              <a:lnSpc>
                <a:spcPct val="100000"/>
              </a:lnSpc>
              <a:spcBef>
                <a:spcPts val="40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182880">
              <a:lnSpc>
                <a:spcPct val="100000"/>
              </a:lnSpc>
              <a:spcBef>
                <a:spcPts val="36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880">
              <a:lnSpc>
                <a:spcPct val="100000"/>
              </a:lnSpc>
              <a:spcBef>
                <a:spcPts val="320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880">
              <a:lnSpc>
                <a:spcPct val="100000"/>
              </a:lnSpc>
              <a:spcBef>
                <a:spcPts val="281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880">
              <a:lnSpc>
                <a:spcPct val="100000"/>
              </a:lnSpc>
              <a:spcBef>
                <a:spcPts val="281"/>
              </a:spcBef>
              <a:buClr>
                <a:srgbClr val="ff8600"/>
              </a:buClr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007680" y="548640"/>
            <a:ext cx="1188720" cy="2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>
                    <a:alpha val="50000"/>
                  </a:srgbClr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>
                    <a:alpha val="50000"/>
                  </a:srgbClr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008760" y="856080"/>
            <a:ext cx="2246040" cy="300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314480" y="548640"/>
            <a:ext cx="940680" cy="30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B61B67-0B22-4926-853F-5D66488483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800CD9-5465-49E3-8C59-28D388B9E146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7640" y="62064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500" spc="-1" strike="noStrike">
                <a:solidFill>
                  <a:srgbClr val="ff9257"/>
                </a:solidFill>
                <a:latin typeface="Verdana"/>
              </a:rPr>
              <a:t>Сила трения в быту</a:t>
            </a:r>
            <a:endParaRPr b="0" lang="ru-RU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99640" y="256500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7c7972"/>
                </a:solidFill>
                <a:latin typeface="Verdana"/>
              </a:rPr>
              <a:t>Всегда ли сила трения враг в быт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icture 3"/>
          <p:cNvSpPr/>
          <p:nvPr/>
        </p:nvSpPr>
        <p:spPr>
          <a:xfrm>
            <a:off x="4356000" y="4107600"/>
            <a:ext cx="4233960" cy="200880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Users\Антон\Desktop\trenie.gif"/>
          <p:cNvPicPr/>
          <p:nvPr/>
        </p:nvPicPr>
        <p:blipFill>
          <a:blip r:embed="rId2"/>
          <a:stretch/>
        </p:blipFill>
        <p:spPr>
          <a:xfrm>
            <a:off x="502200" y="3668400"/>
            <a:ext cx="3521520" cy="2640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77" name="TextBox 5"/>
          <p:cNvSpPr/>
          <p:nvPr/>
        </p:nvSpPr>
        <p:spPr>
          <a:xfrm>
            <a:off x="4835160" y="3143160"/>
            <a:ext cx="308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стромина Анна,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Антон\Desktop\ftrenia.gif"/>
          <p:cNvPicPr/>
          <p:nvPr/>
        </p:nvPicPr>
        <p:blipFill>
          <a:blip r:embed="rId1"/>
          <a:stretch/>
        </p:blipFill>
        <p:spPr>
          <a:xfrm>
            <a:off x="0" y="-44280"/>
            <a:ext cx="9143640" cy="6901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40" y="116640"/>
            <a:ext cx="88200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/>
                </a:solidFill>
                <a:latin typeface="Arial"/>
              </a:rPr>
              <a:t>ПРИЧИНЫ ВОЗНИКНОВЕНИЯ ТРЕНИЯ: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1640" y="3861000"/>
            <a:ext cx="9792720" cy="13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Неровности  поверх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chemeClr val="accent2"/>
                </a:solidFill>
                <a:latin typeface="Arial"/>
              </a:rPr>
              <a:t>Молекулярное  взаимодействие      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трелка вниз 3"/>
          <p:cNvSpPr/>
          <p:nvPr/>
        </p:nvSpPr>
        <p:spPr>
          <a:xfrm rot="1165800">
            <a:off x="1382400" y="2213280"/>
            <a:ext cx="1151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solidFill>
              <a:srgbClr val="60687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84" name="Стрелка вниз 4"/>
          <p:cNvSpPr/>
          <p:nvPr/>
        </p:nvSpPr>
        <p:spPr>
          <a:xfrm rot="19952400">
            <a:off x="5857920" y="2177640"/>
            <a:ext cx="1151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2"/>
          </a:solidFill>
          <a:ln>
            <a:solidFill>
              <a:srgbClr val="60687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5" name="Picture 2" descr="C:\Users\Антон\Desktop\OQAAAHuO85NGWrwcly4NIjk5ZR8BVJTS9tmXZl9PzADnfuH_UsD3TbVI0Dt4mOWNAxjEea5lLOdkIwTj9Yt3iARsEVwA15jOjNIcMkkjOofLBe4elPJ_LGBwm2NA.png"/>
          <p:cNvPicPr/>
          <p:nvPr/>
        </p:nvPicPr>
        <p:blipFill>
          <a:blip r:embed="rId1"/>
          <a:stretch/>
        </p:blipFill>
        <p:spPr>
          <a:xfrm>
            <a:off x="2843640" y="4659840"/>
            <a:ext cx="3888000" cy="20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87" name="Объект 4" descr=""/>
          <p:cNvPicPr/>
          <p:nvPr/>
        </p:nvPicPr>
        <p:blipFill>
          <a:blip r:embed="rId1"/>
          <a:stretch/>
        </p:blipFill>
        <p:spPr>
          <a:xfrm>
            <a:off x="-65160" y="-76320"/>
            <a:ext cx="93175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89" name="Объект 3" descr=""/>
          <p:cNvPicPr/>
          <p:nvPr/>
        </p:nvPicPr>
        <p:blipFill>
          <a:blip r:embed="rId1"/>
          <a:stretch/>
        </p:blipFill>
        <p:spPr>
          <a:xfrm>
            <a:off x="12600" y="-26640"/>
            <a:ext cx="9131040" cy="68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191" name="Объект 3" descr=""/>
          <p:cNvPicPr/>
          <p:nvPr/>
        </p:nvPicPr>
        <p:blipFill>
          <a:blip r:embed="rId1"/>
          <a:stretch/>
        </p:blipFill>
        <p:spPr>
          <a:xfrm>
            <a:off x="23400" y="-9000"/>
            <a:ext cx="9198720" cy="68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ерспектива">
  <a:themeElements>
    <a:clrScheme name="Перспектива">
      <a:dk1>
        <a:srgbClr val="000000"/>
      </a:dk1>
      <a:lt1>
        <a:srgbClr val="ffffff"/>
      </a:lt1>
      <a:dk2>
        <a:srgbClr val="283138"/>
      </a:dk2>
      <a:lt2>
        <a:srgbClr val="ff8600"/>
      </a:lt2>
      <a:accent1>
        <a:srgbClr val="838d9b"/>
      </a:accent1>
      <a:accent2>
        <a:srgbClr val="d2610c"/>
      </a:accent2>
      <a:accent3>
        <a:srgbClr val="80716a"/>
      </a:accent3>
      <a:accent4>
        <a:srgbClr val="94147c"/>
      </a:accent4>
      <a:accent5>
        <a:srgbClr val="5d5ad2"/>
      </a:accent5>
      <a:accent6>
        <a:srgbClr val="6f6c7d"/>
      </a:accent6>
      <a:hlink>
        <a:srgbClr val="6187e3"/>
      </a:hlink>
      <a:folHlink>
        <a:srgbClr val="7b8eb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22</TotalTime>
  <Application>LibreOffice/7.4.7.2$Linux_X86_64 LibreOffice_project/40$Build-2</Application>
  <AppVersion>15.0000</AppVersion>
  <Words>20</Words>
  <Paragraphs>5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8:01:02Z</dcterms:created>
  <dc:creator>Антон</dc:creator>
  <dc:description/>
  <dc:language>en-US</dc:language>
  <cp:lastModifiedBy>User</cp:lastModifiedBy>
  <dcterms:modified xsi:type="dcterms:W3CDTF">2012-04-18T14:24:35Z</dcterms:modified>
  <cp:revision>6</cp:revision>
  <dc:subject/>
  <dc:title>Сила трения в быт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