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F20-370E-44A2-AEAF-7065DF0A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79D-B384-402E-A071-0425DD58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4AE-DA49-4FEC-B56E-C721AA7C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AD2-5C8D-4F12-A656-82C44116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9EDA-F4A3-4481-A0C5-0A10E85A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93C1-DB65-4897-A92C-7B5FA8D4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BF8E-6FD7-4269-948D-D294287F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C1ED-B75A-44D3-A6C0-E2EFD483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F532-501F-4211-AA81-0F2E762F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8417-9A6C-46CB-A9B7-E312D6AA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C482-1D30-469F-949A-AE85DB40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E2E-1880-4DD2-908E-727D3DE6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284B-B73E-44E9-92F5-E20EC1EC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2D2A-8D70-4D8C-AD40-D3004E4D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2BEE-9B0F-4020-813A-FA5DDD85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328C-1F4A-4DEA-8B79-4201FA4B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B5F4-0EE9-45AC-BBCD-E4F8F575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1F7-D5DA-45AA-8547-F7BBD505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255-00FA-49D3-97BC-6C3D7CE3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C44-B66F-4EF8-ACD4-A266911A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A08-907C-4776-ACDE-833C9341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AC6-4004-48E8-B2A9-AFFF7210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CF2-670A-4FE9-A905-E65DD7C1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BBC-6877-49EA-B810-0595248F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9DEC-05C9-4C4F-9C7F-45DB8FFDB3D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7A61-03CB-4D51-98E9-808B8A430B0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71520" y="981000"/>
            <a:ext cx="8564400" cy="185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340000" y="3332160"/>
            <a:ext cx="619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у выполни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географ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БОУ СОШ № 29 г. Новороссийс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клина Т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26960" y="360360"/>
            <a:ext cx="7504200" cy="1339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65-летие Великой Победы в Великой Отечественной войне – это не только праздник Памяти, праздник народа-победителя, но это и незримая связь поколений,  выраженная в отношении к одному из главных символов Побе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Содержимое 4" descr="5.jpg"/>
          <p:cNvPicPr/>
          <p:nvPr/>
        </p:nvPicPr>
        <p:blipFill>
          <a:blip r:embed="rId2"/>
          <a:stretch/>
        </p:blipFill>
        <p:spPr>
          <a:xfrm>
            <a:off x="3857760" y="2071800"/>
            <a:ext cx="4829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адостная и яркая, ароматная и нежная, романтическая майская сирень запомнилась воинам-освободителям на долгие год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Это самый популярный цветок Победного мая. Сирень – растение, наделенное особой душой, хранящее память о событиях 1945 г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686720" cy="1577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ышные букеты сирени дарили девушки воинам-победителям; букетами сирени встречали на станциях поезда, с возвращающимися из Берлина войсками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Содержимое 4" descr="2.jpg"/>
          <p:cNvPicPr/>
          <p:nvPr/>
        </p:nvPicPr>
        <p:blipFill>
          <a:blip r:embed="rId2"/>
          <a:stretch/>
        </p:blipFill>
        <p:spPr>
          <a:xfrm>
            <a:off x="3575160" y="1495440"/>
            <a:ext cx="511164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42848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</a:rPr>
              <a:t>ПОБЕ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1. Успех в бою, в войн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2. Успех в борьбе за что-либо, достижение, успешное осуществление чего-либо в результате борьбы, преодоление чего-либ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(Академический словарь русского язы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285920"/>
            <a:ext cx="4040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22 ИЮНЯ 1941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2040" y="1285560"/>
            <a:ext cx="3643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22 ИЮНЯ 1941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Содержимое 6" descr="8.jpg"/>
          <p:cNvPicPr/>
          <p:nvPr/>
        </p:nvPicPr>
        <p:blipFill>
          <a:blip r:embed="rId2"/>
          <a:stretch/>
        </p:blipFill>
        <p:spPr>
          <a:xfrm>
            <a:off x="714240" y="2143080"/>
            <a:ext cx="3357720" cy="400068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7" descr="10.jpg"/>
          <p:cNvPicPr/>
          <p:nvPr/>
        </p:nvPicPr>
        <p:blipFill>
          <a:blip r:embed="rId3"/>
          <a:stretch/>
        </p:blipFill>
        <p:spPr>
          <a:xfrm>
            <a:off x="5257800" y="2362320"/>
            <a:ext cx="28162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6" descr="9.jpg"/>
          <p:cNvPicPr/>
          <p:nvPr/>
        </p:nvPicPr>
        <p:blipFill>
          <a:blip r:embed="rId2"/>
          <a:stretch/>
        </p:blipFill>
        <p:spPr>
          <a:xfrm>
            <a:off x="1166760" y="1571760"/>
            <a:ext cx="2619360" cy="41958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7" descr="11.jpg"/>
          <p:cNvPicPr/>
          <p:nvPr/>
        </p:nvPicPr>
        <p:blipFill>
          <a:blip r:embed="rId3"/>
          <a:stretch/>
        </p:blipFill>
        <p:spPr>
          <a:xfrm>
            <a:off x="5075280" y="1600200"/>
            <a:ext cx="318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9 МАЯ 1945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9 МАЯ 1945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Содержимое 6" descr="6.jpg"/>
          <p:cNvPicPr/>
          <p:nvPr/>
        </p:nvPicPr>
        <p:blipFill>
          <a:blip r:embed="rId2"/>
          <a:stretch/>
        </p:blipFill>
        <p:spPr>
          <a:xfrm>
            <a:off x="457200" y="2392200"/>
            <a:ext cx="4040280" cy="370368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7" descr="7.jpg"/>
          <p:cNvPicPr/>
          <p:nvPr/>
        </p:nvPicPr>
        <p:blipFill>
          <a:blip r:embed="rId3"/>
          <a:stretch/>
        </p:blipFill>
        <p:spPr>
          <a:xfrm>
            <a:off x="4645080" y="2428920"/>
            <a:ext cx="4041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186760" cy="1335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85840" y="1285560"/>
            <a:ext cx="42861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 исторических судьбоносных событиях познается человек, его возможности, его характер, духовные сил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Героизм и самопожертвование фронтового поколения во имя Победы является основой патриотической гордости российских гражд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Гражданский долг тех, кто живет в России в ХХ1 веке  – помнить о миллионах соотечественников, погибших за свою отчизну, проявлять уважение и внимание к старшему поколению, не забывать трагические и героические страницы своей истор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4.jpg"/>
          <p:cNvPicPr/>
          <p:nvPr/>
        </p:nvPicPr>
        <p:blipFill>
          <a:blip r:embed="rId2"/>
          <a:stretch/>
        </p:blipFill>
        <p:spPr>
          <a:xfrm>
            <a:off x="4714920" y="1500120"/>
            <a:ext cx="38577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18:53:14Z</dcterms:created>
  <dc:creator>Виктор</dc:creator>
  <dc:description/>
  <dc:language>en-US</dc:language>
  <cp:lastModifiedBy>Tatyana</cp:lastModifiedBy>
  <dcterms:modified xsi:type="dcterms:W3CDTF">2013-04-19T17:06:10Z</dcterms:modified>
  <cp:revision>7</cp:revision>
  <dc:subject/>
  <dc:title>Сирень 1945 года</dc:title>
</cp:coreProperties>
</file>