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811-07B5-4B18-85CA-F4D284A9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EA2-DF98-41A8-B64B-A4DA835D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A9A-9AB2-4000-90F7-4C61BC17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882-97DB-48D3-9012-B290CAC3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FBA5-5567-4F6F-B5BF-DB017263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A342-2A0A-4195-861F-329C351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4D65-3CF8-4E25-BEEE-981D0C6E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1795-2A41-40CB-86B6-D25F7174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718A-4EA6-4719-81A5-E99E3C5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8903-1762-4B30-AB7C-5F3F9118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E21A-2774-48F6-B5BE-0CADAE2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8ED-586E-4160-844F-E67CD818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4D2E-0FD2-43D3-89C8-696D7FF6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5493-A37D-42B6-B8F5-35A7E8FB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5C0F-290B-475C-9A7A-BA3A29D4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2CB2-D456-4690-8206-A02FF0C4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3DC4-4018-4CD2-ADA3-D73C0577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F85-6440-4A3E-8849-D25818B9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B33-E62D-4DD2-9C1A-A82F7776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E38-F3E8-4467-92C4-57365286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C9D-4B07-4F98-8393-A77D4F3D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0B1-48BA-4E50-9A21-16FA180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1B9-77A9-46EF-AED1-EA01690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EFE-508F-4AF2-B92F-1B247211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1306-130F-4E55-AFCC-46B3FEB3466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BB9F-0F1B-4401-924D-48DBFF9551A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71520" y="981000"/>
            <a:ext cx="8564400" cy="1859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340000" y="3332160"/>
            <a:ext cx="619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у выполни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географ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БОУ СОШ № 29 г. Новороссийс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клина Т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26960" y="360360"/>
            <a:ext cx="7504200" cy="1339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65-летие Великой Победы в Великой Отечественной войне – это не только праздник Памяти, праздник народа-победителя, но это и незримая связь поколений,  выраженная в отношении к одному из главных символов Побе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Содержимое 4" descr="5.jpg"/>
          <p:cNvPicPr/>
          <p:nvPr/>
        </p:nvPicPr>
        <p:blipFill>
          <a:blip r:embed="rId2"/>
          <a:stretch/>
        </p:blipFill>
        <p:spPr>
          <a:xfrm>
            <a:off x="3857760" y="2071800"/>
            <a:ext cx="4829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Радостная и яркая, ароматная и нежная, романтическая майская сирень запомнилась воинам-освободителям на долгие год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Это самый популярный цветок Победного мая. Сирень – растение, наделенное особой душой, хранящее память о событиях 1945 го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7686720" cy="1577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ышные букеты сирени дарили девушки воинам-победителям; букетами сирени встречали на станциях поезда, с возвращающимися из Берлина войсками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Содержимое 4" descr="2.jpg"/>
          <p:cNvPicPr/>
          <p:nvPr/>
        </p:nvPicPr>
        <p:blipFill>
          <a:blip r:embed="rId2"/>
          <a:stretch/>
        </p:blipFill>
        <p:spPr>
          <a:xfrm>
            <a:off x="3575160" y="1495440"/>
            <a:ext cx="51116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42848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Times New Roman"/>
              </a:rPr>
              <a:t>ПОБЕД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1. Успех в бою, в войн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2. Успех в борьбе за что-либо, достижение, успешное осуществление чего-либо в результате борьбы, преодоление чего-либ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(Академический словарь русского язык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28592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2 ИЮНЯ 1941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2040" y="1285560"/>
            <a:ext cx="3643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2 ИЮНЯ 1941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Содержимое 6" descr="8.jpg"/>
          <p:cNvPicPr/>
          <p:nvPr/>
        </p:nvPicPr>
        <p:blipFill>
          <a:blip r:embed="rId2"/>
          <a:stretch/>
        </p:blipFill>
        <p:spPr>
          <a:xfrm>
            <a:off x="714240" y="2143080"/>
            <a:ext cx="3357720" cy="400068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7" descr="10.jpg"/>
          <p:cNvPicPr/>
          <p:nvPr/>
        </p:nvPicPr>
        <p:blipFill>
          <a:blip r:embed="rId3"/>
          <a:stretch/>
        </p:blipFill>
        <p:spPr>
          <a:xfrm>
            <a:off x="5257800" y="2362320"/>
            <a:ext cx="281628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32408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6" descr="9.jpg"/>
          <p:cNvPicPr/>
          <p:nvPr/>
        </p:nvPicPr>
        <p:blipFill>
          <a:blip r:embed="rId2"/>
          <a:stretch/>
        </p:blipFill>
        <p:spPr>
          <a:xfrm>
            <a:off x="1166760" y="1571760"/>
            <a:ext cx="2619360" cy="41958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7" descr="11.jpg"/>
          <p:cNvPicPr/>
          <p:nvPr/>
        </p:nvPicPr>
        <p:blipFill>
          <a:blip r:embed="rId3"/>
          <a:stretch/>
        </p:blipFill>
        <p:spPr>
          <a:xfrm>
            <a:off x="5075280" y="1600200"/>
            <a:ext cx="3184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9 МАЯ 1945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9 МАЯ 1945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Содержимое 6" descr="6.jpg"/>
          <p:cNvPicPr/>
          <p:nvPr/>
        </p:nvPicPr>
        <p:blipFill>
          <a:blip r:embed="rId2"/>
          <a:stretch/>
        </p:blipFill>
        <p:spPr>
          <a:xfrm>
            <a:off x="457200" y="2392200"/>
            <a:ext cx="4040280" cy="3703680"/>
          </a:xfrm>
          <a:prstGeom prst="rect">
            <a:avLst/>
          </a:prstGeom>
          <a:ln w="0">
            <a:noFill/>
          </a:ln>
        </p:spPr>
      </p:pic>
      <p:pic>
        <p:nvPicPr>
          <p:cNvPr id="106" name="Содержимое 7" descr="7.jpg"/>
          <p:cNvPicPr/>
          <p:nvPr/>
        </p:nvPicPr>
        <p:blipFill>
          <a:blip r:embed="rId3"/>
          <a:stretch/>
        </p:blipFill>
        <p:spPr>
          <a:xfrm>
            <a:off x="4645080" y="2428920"/>
            <a:ext cx="40417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186760" cy="1335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5840" y="1285560"/>
            <a:ext cx="42861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исторических судьбоносных событиях познается человек, его возможности, его характер, духовные сил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Героизм и самопожертвование фронтового поколения во имя Победы является основой патриотической гордости российских гражд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Гражданский долг тех, кто живет в России в ХХ1 веке  – помнить о миллионах соотечественников, погибших за свою отчизну, проявлять уважение и внимание к старшему поколению, не забывать трагические и героические страницы своей истор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4.jpg"/>
          <p:cNvPicPr/>
          <p:nvPr/>
        </p:nvPicPr>
        <p:blipFill>
          <a:blip r:embed="rId2"/>
          <a:stretch/>
        </p:blipFill>
        <p:spPr>
          <a:xfrm>
            <a:off x="4714920" y="1500120"/>
            <a:ext cx="38577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8:53:14Z</dcterms:created>
  <dc:creator>Виктор</dc:creator>
  <dc:description/>
  <dc:language>en-US</dc:language>
  <cp:lastModifiedBy>Tatyana</cp:lastModifiedBy>
  <dcterms:modified xsi:type="dcterms:W3CDTF">2013-04-19T17:06:10Z</dcterms:modified>
  <cp:revision>7</cp:revision>
  <dc:subject/>
  <dc:title>Сирень 1945 года</dc:title>
</cp:coreProperties>
</file>