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ED7CE-0100-4FF1-ADB7-821A1FC09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A9572-13B2-46AF-A343-BC1842D37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7D247-0B98-4D92-9AA4-45BB714DE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36380-2A7D-47AF-A51B-5357F9339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57202-1DC0-4893-8612-CEC1D9F94A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08773-ADC9-4C4B-8F49-1A7C110A7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C0DE6-A19F-4351-A6F3-1B87013BF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3C849-1990-449D-8355-35C7F77B1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AFE79-268D-4172-B460-01007ABEC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9CBE1-7DBF-493D-9031-8DAECAA8D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8A94-B40A-4158-AD54-EF56F34D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5EABC-651B-467B-9A94-B5F5A96AE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71DF0-B05D-416C-916F-03E6C64EF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5D204-CBAF-413F-AEA7-3A20B7F15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7BFAA-D097-4650-A986-5B1D95ED6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BC981-45A9-41D8-AB63-3D10809A5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692506-54A8-4880-82A4-B463A29E7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33234F-0CCF-415C-9FF0-12DE826A41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C0F00-9D13-4A8F-911F-C2574A17D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8323A-547E-4763-BEA8-1D1894BF6D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A3D89-26F0-423F-B980-9F656D0DD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22E24B-6423-4A3D-B5A6-239F5609C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3AF3E-E033-4250-B49E-9B5EA01EB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977F15-1EA9-4EFE-A51A-5ADD83426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A3C20-2AE3-4FC6-9785-435C0CEC6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EAF76-2090-49F2-8B99-948FBE043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022E5-41B6-4987-A3AF-07929B104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2370E4-B1C1-4AAE-B4F0-4512869500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0EC696-73A9-4805-8760-D99529729F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F3BD09-EA00-4A58-8E68-CABD5141AB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F2802F-21E9-4ACF-9B8D-29E9253000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A251F-6AC6-4305-B5A5-5CC9FE9EBB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E72C75-0CC3-4C47-AC92-574AF8458A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57A07-2B94-4F71-B982-FAEF300F8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04F9B-37CC-4447-8B49-8BD26A64B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5AAA3-F19B-4B42-B657-96C4A2D2C0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CA1384-E8F1-4A70-900E-D340CF092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E04AF-BA0A-43F2-9CA1-6ACAFE970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F2DBD-18B0-4031-A7A2-450F266B9A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3C939-D3D0-4F4C-945B-610DD922E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547DF-C967-4CFA-A34D-5A49A52BFC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9F39C1-D9BC-4FF8-B972-B430A8F527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0480A4-3EE3-4411-AC60-F2AEE0CBA3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64FE52-9B34-408E-9184-16C90BF24B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38655-FB9B-4FCE-9E50-6124BD8CE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69EF25-C7EE-41CB-BEDC-51EB778837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699CA6-7ACB-40AA-923C-B83E3776B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BEC22-DCAA-4757-ACA8-E1B5955929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DDDCD-FCA5-4380-BAB9-CA1D5F36B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5AA82E-0C6F-4802-A82B-94E410EC24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B335EB-5809-4480-84AA-8F2EFB2B7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9C520-7172-4F5B-94B4-5C8CBBAAA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ECA43-A31C-402C-BE2C-A06071DBF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44A3BE-D4B8-4A30-B503-0E8D561813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EF910-0333-48DD-B20D-75C9F25D49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7ADDE-BF08-441E-98DC-55F0DD9DA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05E5DD-BC91-45E3-AFA9-CEA32DB2AA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75D590-7151-4280-A1DC-709A0C85E6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B5022-3828-4042-9C64-64EBDEE080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8CDE0-4730-4927-A4C5-0952E32C2D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D47715-95B4-4785-8AEF-A1778A83A5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5E5809-6CA3-4A67-80FE-80CD3D3FD9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E4C1C-A9C2-4F10-9083-7E1C1F7760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C56F7-57F0-403B-B845-F0685C192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7D566-5DBE-4946-995F-2A7CD05B26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A7E5E-7CD6-4BDD-8084-578E67E5A4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89A85-89DC-4A3F-B068-7C6881177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C464A6-DE53-4547-9DED-E56FF33781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D8DF4E-3815-4DC4-A07E-92338685FC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674B21-3FC1-409C-9D52-AB06408C87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ABEC7-4C98-488C-B56F-09B4ECB7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E7EAD-4E33-419A-9BD5-07EDA5FE7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3502-0011-415A-8A85-89DC8167653F}"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43"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B3A4-B618-44A0-9A00-34DABD58530D}"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737373"/>
            </a:gs>
          </a:gsLst>
          <a:lin ang="12960000"/>
        </a:gradFill>
      </p:bgPr>
    </p:bg>
    <p:spTree>
      <p:nvGrpSpPr>
        <p:cNvPr id="1" name=""/>
        <p:cNvGrpSpPr/>
        <p:nvPr/>
      </p:nvGrpSpPr>
      <p:grpSpPr>
        <a:xfrm>
          <a:off x="0" y="0"/>
          <a:ext cx="0" cy="0"/>
          <a:chOff x="0" y="0"/>
          <a:chExt cx="0" cy="0"/>
        </a:xfrm>
      </p:grpSpPr>
      <p:sp>
        <p:nvSpPr>
          <p:cNvPr id="86" name="Полилиния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Полилиния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F08B-5786-4A2C-A1CF-170E3C944816}"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FD09A-B520-4F85-99FC-E8B6C66798B1}"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Полилиния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Полилиния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F06A-A899-49BD-9D72-DBF038C594E9}"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dddddd"/>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b2b2b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96969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6b6b6"/>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6b6b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C41B-650A-45DD-8AE7-A218498D7E1A}" type="slidenum">
              <a:rPr b="0" lang="ru-RU" sz="1000" spc="-1" strike="noStrike">
                <a:solidFill>
                  <a:srgbClr val="b6b6b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Заголовок 1" descr=""/>
          <p:cNvPicPr/>
          <p:nvPr/>
        </p:nvPicPr>
        <p:blipFill>
          <a:blip r:embed="rId1"/>
          <a:stretch/>
        </p:blipFill>
        <p:spPr>
          <a:xfrm>
            <a:off x="420840" y="3206880"/>
            <a:ext cx="7003800" cy="2438280"/>
          </a:xfrm>
          <a:prstGeom prst="rect">
            <a:avLst/>
          </a:prstGeom>
          <a:ln w="0">
            <a:noFill/>
          </a:ln>
        </p:spPr>
      </p:pic>
      <p:sp>
        <p:nvSpPr>
          <p:cNvPr id="255" name="PlaceHolder 1"/>
          <p:cNvSpPr>
            <a:spLocks noGrp="1"/>
          </p:cNvSpPr>
          <p:nvPr>
            <p:ph type="subTitle"/>
          </p:nvPr>
        </p:nvSpPr>
        <p:spPr>
          <a:xfrm>
            <a:off x="6873840" y="4428720"/>
            <a:ext cx="2270160" cy="2428920"/>
          </a:xfrm>
          <a:prstGeom prst="rect">
            <a:avLst/>
          </a:prstGeom>
          <a:noFill/>
          <a:ln w="0">
            <a:noFill/>
          </a:ln>
        </p:spPr>
        <p:txBody>
          <a:bodyPr lIns="90000" rIns="45720" tIns="0" bIns="0" anchor="b">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полнил</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еник 10В класса</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каров Никола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Ч. 3 ст. 20 УК РФ устанавливает необходимость учёта так называемого психологического возраста субъекта. Согласно ей, если несовершеннолетний достиг возраста 14 или 16 лет, но вследствие отставания в психическом развитии, не связанном с психическим расстройством, во время совершения общественно опасного деяния не мог в полной мере осознавать фактический характер и общественную опасность своих действий (бездействия) либо руководить ими, он не подлежит уголовной ответственности. В теории данное состояние субъекта получило название «возрастная невменяемость», поскольку такие несовершеннолетние не обладают всеми необходимыми социально-психологическими качествами вменяемого лица соответствующего возраста.</a:t>
            </a:r>
            <a:endParaRPr b="0" lang="en-US" sz="1400" spc="-1" strike="noStrike">
              <a:solidFill>
                <a:srgbClr val="ffffff"/>
              </a:solidFill>
              <a:latin typeface="Arial"/>
            </a:endParaRPr>
          </a:p>
          <a:p>
            <a:pPr marL="419040" indent="-382680">
              <a:lnSpc>
                <a:spcPct val="80000"/>
              </a:lnSpc>
              <a:spcBef>
                <a:spcPts val="3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nSpc>
                <a:spcPct val="80000"/>
              </a:lnSpc>
              <a:spcBef>
                <a:spcPts val="3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УК РФ не устанавливает максимальный возраст уголовной ответственности. Поэтому даже достигший престарелого возраста человек в случае совершения им преступления подлежит уголовной ответственности. Однако законодатель всё же дифференцирует уголовную ответственность таких лиц. Так, согласно ст. 59 УК к мужчине старше шестидесяти пяти лет не может быть применена смертная казнь</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дин из видов юридической ответственности, основным содержанием которого выступают меры, применяемые государственными органами к лицу в связи с совершением им преступления.</a:t>
            </a:r>
            <a:endParaRPr b="0" lang="en-US" sz="2300" spc="-1" strike="noStrike">
              <a:solidFill>
                <a:srgbClr val="ffffff"/>
              </a:solidFill>
              <a:latin typeface="Arial"/>
            </a:endParaRPr>
          </a:p>
          <a:p>
            <a:pPr marL="419040" indent="-382680">
              <a:lnSpc>
                <a:spcPct val="80000"/>
              </a:lnSpc>
              <a:spcBef>
                <a:spcPts val="5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nSpc>
                <a:spcPct val="80000"/>
              </a:lnSpc>
              <a:spcBef>
                <a:spcPts val="5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Уголовная ответственность является формой негативной реакции общества на противоправное поведение и заключается в применении к лицу, совершившему преступление, физических, имущественных и моральных лишений, призванных предотвратить совершение новых преступлений.</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Позитивная и негативная уголовная ответственность</a:t>
            </a:r>
            <a:endParaRPr b="0" lang="en-US" sz="41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теории уголовного права многими авторами предлагается рассматривать уголовную ответственность в двух аспектах: в позитивном и в негативном.</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зитивная уголовная ответственность сводится к отсутствию нарушений запретов, установленных уголовным законом. Позитивная уголовная ответственность понимается как «обязанность соблюдать требования уголовного закона», «правовые требования», «выполнение должного», «социальный правовой долг». Правовым последствием данного вида ответственности является положительная уголовно-правовая оценка поведения лица со стороны государства, в том числе поощрение его действий. По мнению сторонников теории позитивной ответственности, она проявляется, например, в том, что исключается уголовная ответственность за преступление, которое лицо не совершало; в освобождении от ответственности лица, добровольно отказавшегося от совершения преступления и т. д.</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гативная (или ретроспективная) уголовная ответственность связана с совершением лицом преступления (нарушением уголовного закона) и заключается в применяемых государством репрессивных мерах.</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еление уголовной ответственности на негативную и позитивную не является общепринятым в науке уголовного права. Отмечается, что позитивная уголовная ответственность не имеет большого правового значения, поскольку «перенесение понятия ответственности в область должного, толкуемого не как объективная реальность, а как определённый психологический процесс, лишает её правового содержания». Г. В. Назаренко указывает, что позитивная уголовная ответственность скорее является институтом морали, чем права.</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этому именно негативная уголовная ответственность имеет наибольшее теоретическое и практическое значение; в большинстве работ в рамках рассмотрения института уголовной ответственности (в том числе далее в настоящей статье) освещается исключительно этот её аспект.</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Теории уголовной ответственности</a:t>
            </a:r>
            <a:endParaRPr b="0" lang="en-US" sz="41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fontScale="95000"/>
          </a:bodyPr>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Законодательство России и многих других государств мира не даёт определения понятия «уголовная ответственность» (исключением является УК Республики Беларусь, который в ст. 44 говорит, что уголовная ответственность выражается в осуждении от имени Республики Беларусь по приговору суда лица, совершившего преступление, и применении на основе осуждения наказания либо иных мер уголовной ответственности)[10].</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Вопрос о том, что представляет собой уголовная ответственность, является одним из наиболее спорных в уголовно-правовой теории. Были предложены следующие концепции уголовной ответственности:</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является тождественной уголовному наказанию[11] или иным мерам государственно-принудительного воздействия[12].</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 это обязанность лица подлежать действию уголовного закона[13].</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 это обязанность лица понести лишения (связанные с наказанием и иными юридическими мерами, наложенными на него) как следствие совершения им преступления[14].</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 это состояние лица, связанное с претерпеванием лишений (наказания и иных мер принуждения), наложенных на него вследствие совершения преступления[15].</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выражается в порицании лица от имени государства в обвинительном приговоре суда[16].</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отождествляется с уголовным правоотношением, сторонами которого являются государство и совершившее преступление лицо[17].</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На основании обобщения данных концепций предлагается считать уголовную ответственность комплексным образованием, включающим несколько компонентов или элементов: обязанность лица предстать перед судом за совершение преступного деяния и дать отчёт в содеянном, порицание его самого и совершённого им деяния от имени государства в судебном приговоре, назначенное наказание или иные меры уголовно-правового характера, применённые к лицу, а также судимость[18].</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Называются также следующие обязательные признаки уголовной ответственности[19]:</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основана на нормах уголовного права, устанавливающих её основания и границы.</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Субъектом, применяющим уголовную ответственность, является государство, использующее репрессивные (принудительные) методы воздействия.</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Формальным основанием уголовной ответственности является обвинительный приговор суда, выносимый от лица государства.</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возлагается на лицо в особом порядке, предусмотренном нормами уголовно-процессуального права.</a:t>
            </a:r>
            <a:endParaRPr b="0" lang="en-US" sz="900" spc="-1" strike="noStrike">
              <a:solidFill>
                <a:srgbClr val="ffffff"/>
              </a:solidFill>
              <a:latin typeface="Arial"/>
            </a:endParaRPr>
          </a:p>
          <a:p>
            <a:pPr marL="397800" indent="-363240">
              <a:spcBef>
                <a:spcPts val="224"/>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Уголовная ответственность имеет личный характер.</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Franklin Gothic Book"/>
              </a:rPr>
              <a:t>Дифференциация и индивидуализация уголовной ответственности</a:t>
            </a:r>
            <a:endParaRPr b="0" lang="en-US" sz="28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Уголовная ответственность может дифференцироваться в зависимости от различных обстоятельств. В классической школе уголовного права предполагалось, что за равные деяния, совершённые различными преступниками должно назначаться равное наказание. Так, В. Спасович писал, что наказание должно быть определенным и в качественном, и в количественном отношении; чтобы быть равномерным качеству и количеству содеянного зла, оно должно содержать равную ему ценность. Представители этой правовой школы считали, что объём и характер уголовной ответственности должен устанавливаться законодателем в зависимости от объективных признаков деяния, т. е. дифференцироваться; позднее под влиянием антропологической и социологической школы в число признаков, дифференцирующих уголовную ответственность, стали включаться и признаки, относящиеся к лицу, совершившему преступление (субъективные признаки).</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ифференциация ответственности осуществляется в ходе законотворческого процесса, при подготовке и принятии уголовного закона: законодатель решает, какие обстоятельства должны влиять на вид и размер ответственности и закрепляет соответствующие положения в законодательном акте. Средствами дифференциации могут служить установленные в законе отягчающие и смягчающие обстоятельства, квалифицирующие и привилегирующие признаки составов, категоризация преступлений и т. д.</a:t>
            </a: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19040" indent="-382680">
              <a:lnSpc>
                <a:spcPct val="80000"/>
              </a:lnSpc>
              <a:spcBef>
                <a:spcPts val="3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ифференциации ответственности корреспондирует её индивидуализация, суть которой заключается в том, что правоприменитель (суд или иной орган) в рамках усмотрения, предоставленного ему законодателем, устанавливает конкретную меру ответственности, налагаемую на преступника, с учётом конкретной степени общественной опасности деяния и совершившего его лица.</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ffffff"/>
                </a:solidFill>
                <a:latin typeface="Franklin Gothic Book"/>
              </a:rPr>
              <a:t>Возраст уголовной ответственности </a:t>
            </a:r>
            <a:endParaRPr b="0" lang="en-US" sz="41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a:rPr>
              <a:t>это возраст, по достижении которого лицо в соответствии с нормами уголовного права может быть привлечено к уголовной ответственности за совершение общественно опасного деяния. В уголовном законодательстве большинства стран устанавливается некий минимальный возраст уголовной ответственности.</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85480" y="28548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Franklin Gothic Book"/>
              </a:rPr>
              <a:t>Возраст уголовной ответственности в правовых системах мира</a:t>
            </a:r>
            <a:endParaRPr b="0" lang="en-US" sz="32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головное право различных стран устанавливает разный возраст уголовной ответственности:</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ША — 16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ранция — 13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РГ — 14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Япония — 14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нглия — 10—17 лет (по различным составам преступлений).</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рландия — 7 лет.</a:t>
            </a:r>
            <a:endParaRPr b="0" lang="en-US" sz="2800" spc="-1" strike="noStrike">
              <a:solidFill>
                <a:srgbClr val="ffffff"/>
              </a:solidFill>
              <a:latin typeface="Arial"/>
            </a:endParaRPr>
          </a:p>
          <a:p>
            <a:pPr marL="419040" indent="-382680">
              <a:lnSpc>
                <a:spcPct val="80000"/>
              </a:lnSpc>
              <a:spcBef>
                <a:spcPts val="700"/>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инляндия — 15 ле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680"/>
            <a:ext cx="7467480" cy="939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Franklin Gothic Book"/>
              </a:rPr>
              <a:t>Возраст уголовной ответственности в уголовном праве России</a:t>
            </a:r>
            <a:endParaRPr b="0" lang="en-US" sz="2700" spc="-1" strike="noStrike">
              <a:solidFill>
                <a:srgbClr val="ffffff"/>
              </a:solidFill>
              <a:latin typeface="Franklin Gothic Book"/>
            </a:endParaRPr>
          </a:p>
        </p:txBody>
      </p:sp>
      <p:sp>
        <p:nvSpPr>
          <p:cNvPr id="269" name=""/>
          <p:cNvSpPr txBox="1"/>
          <p:nvPr/>
        </p:nvSpPr>
        <p:spPr>
          <a:xfrm>
            <a:off x="499680" y="1142640"/>
            <a:ext cx="7467480" cy="5715000"/>
          </a:xfrm>
          <a:prstGeom prst="rect">
            <a:avLst/>
          </a:prstGeom>
          <a:noFill/>
          <a:ln w="0">
            <a:noFill/>
          </a:ln>
        </p:spPr>
        <p:txBody>
          <a:bodyPr lIns="90000" rIns="90000" tIns="46800" bIns="46800" anchor="t">
            <a:normAutofit/>
          </a:bodyPr>
          <a:p>
            <a:pPr marL="419040" indent="-382680">
              <a:lnSpc>
                <a:spcPct val="80000"/>
              </a:lnSpc>
              <a:spcBef>
                <a:spcPts val="249"/>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Уголовным кодексом РФ предусмотрен общий минимальный возраст уголовной ответственности 16 лет.</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В ч. 2 ст. 20 УК РФ перечисляются составы преступлений, по которым устанавливается пониженный до 14 лет возраст уголовной ответственности. Их можно разделить на несколько групп:</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Связанные с физическим насилием или его угрозой — убийство (ст. 105 УК), умышленное причинение тяжкого вреда здоровью (ст. 111 УК), умышленное причинение средней тяжести вреда здоровью (ст. 112 УК), изнасилование (ст. 131 УК), насильственные действия сексуального характера (ст. 132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Связанные с завладением чужим имуществом — кража (ст. 158 УК), грабеж (ст. 161 УК), разбой (ст. 162 УК), вымогательство (ст. 163 УК), неправомерное завладение автомобилем или иным транспортным средством без цели хищения (ст. 166 УК), хищение либо вымогательство оружия, боеприпасов, взрывчатых веществ и взрывных устройств (ст. 226 УК), хищение либо вымогательство наркотических средств или психотропных веществ (ст. 229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Связанные с уничтожением или повреждением имущества — умышленное уничтожение или повреждение имущества при отягчающих обстоятельствах (ч. 2 ст. 167 УК), террористический акт (ст. 205 УК), вандализм (ст. 214 УК), приведение в негодность транспортных средств или путей сообщения (ст. 267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Иные — похищение человека (ст. 126 УК), захват заложника (ст. 206 УК), заведомо ложное сообщение об акте терроризма (ст. 207 УК), хулиганство при отягчающих обстоятельствах (ч. 2 ст. 213 УК).</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Можно выделить два критерия, которыми руководствуется законодатель, формируя этот перечень: во-первых, это тяжесть деяния (лишь одно из перечисленных преступлений является преступлением небольшой тяжести — вандализм, остальные принадлежат к категориям средней тяжести, тяжких и особо тяжких); во-вторых — способность несовершеннолетнего осознавать социальную значимость причинённого вреда (представления о недопустимости насилия и посягательств на имущество появляются в процессе нормального развития личности одними из первых).</a:t>
            </a: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19040" indent="-382680">
              <a:lnSpc>
                <a:spcPct val="80000"/>
              </a:lnSpc>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Этот перечень носит исчерпывающий характер. Лица, не достигшие 16 лет, не могут быть привлечены к ответственности за деяния, не входящие в него. Однако в случаях, когда в действиях лица имеются как признаки деяния, ответственность за которое возможна лишь с 16-летнего возраста, так и признаки деяния, ответственность за которое предусмотрена с 14 лет (например, хищение предмета, имеющего особую историческую ценность (ст. 164 УК РФ) путём кражи (ст. 158 УК РФ). В данном случае субъект не может нести ответственность за более тяжкое деяние (ст. 164), предусмотренное специальной нормой УК, и привлекается к ответственности по общей норме (ст. 158).</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lIns="90000" rIns="90000" tIns="46800" bIns="46800" anchor="t">
            <a:normAutofit fontScale="96000"/>
          </a:bodyPr>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Гораздо более сложным является вопрос об ответственности не достигших 16 лет лиц за преступления с привилегированными составами (например, предусмотренные в ст. 106—108 УК РФ), уголовная ответственность за которые наступает с 16-летнего возраста. В этом случае такие лица также не могут быть привлечены к ответственности по специальной норме, но проблемным является вопрос о применимости в данном случае общей нормы.</a:t>
            </a: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В. Ф. Щепельков указывает, что несправедливой является ситуация, когда за совершение одного и того же деяния несовершеннолетний будет подвергаться более строгому наказанию, нежели взрослый; системное толкование уголовного закона (с учётом снижения максимального предела наказания несовершеннолетних, менее жестких условий освобождения от уголовной ответственности и наказания, возможности применения принудительных мер воспитательного воздействия и т. д.) позволяет сделать вывод о том, что лица, не достигшие шестнадцатилетнего возраста, не подлежат уголовной ответственности за преступления с привилегированными составами.</a:t>
            </a: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Повышенный возраст уголовной ответственности может устанавливаться в статьях Особенной части УК и выступает как составная часть признаков специального субъекта данных составов. Повышенный возраст уголовной ответственности может устанавливаться как в явном виде (18 лет — для развратных действий, вовлечения несовершеннолетнего в совершение преступления и т. д.), так и вытекать из прочих признаков субъекта данного состава (так, преступления, субъектом которых является судья, могут быть совершены лишь лицом, достигшим возраста 25 лет).</a:t>
            </a: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402120" indent="-367200">
              <a:spcBef>
                <a:spcPts val="275"/>
              </a:spcBef>
              <a:buClr>
                <a:srgbClr val="ddddd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В настоящее время вопрос о минимальном возрасте уголовной ответственности является дискуссионным, достаточно многими авторами высказываются соображения о необходимости снижения общего возраста уголовной ответственности. Однако целесообразность такого снижения представляется сомнительной, поскольку доля лиц, совершающих запрещённые уголовным законом общественно опасные деяния в возрасте до 16 лет является незначительной.</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0-12-22T19:23:55Z</dcterms:modified>
  <cp:revision>4</cp:revision>
  <dc:subject/>
  <dc:title>Слайд 1</dc:title>
</cp:coreProperties>
</file>