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2C15-51E2-48AE-AF63-F14B89AE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39A-A7E5-4674-8F38-6A828D58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47D3-12FF-470E-AFE7-ED6EB9B0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00F0-D26C-460F-8A03-35822224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83B-0EFE-4F78-936E-C8990E04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31F-F19D-4183-9A7E-931154B7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2BB-756A-4962-9220-40A53686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48D-18E1-4FD1-9BE0-2BD69791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9F9-0780-4A36-98E2-528DC527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783-5D35-488E-B576-E3F5B397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5CF-610A-4A43-85DF-4F1FEE40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51F-7A8D-45C8-9921-0565422F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B73B-60D4-4CDC-9DC6-7BC46DB042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314360" y="191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то под листиком-листочк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шет аленьким платочком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глашала в гости -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азалась в гор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1139760" y="738360"/>
            <a:ext cx="2041560" cy="9442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3589200" y="3284640"/>
            <a:ext cx="3883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у бабушки Маши в сад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прекраснейшей грядке раст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и сочная, вкусная, сладка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такая я вся ароматна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меня ты, Егор, погляди-к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за ягодка 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Прямоугольник 6" descr=""/>
          <p:cNvPicPr/>
          <p:nvPr/>
        </p:nvPicPr>
        <p:blipFill>
          <a:blip r:embed="rId2"/>
          <a:stretch/>
        </p:blipFill>
        <p:spPr>
          <a:xfrm>
            <a:off x="4559400" y="963720"/>
            <a:ext cx="420660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3" descr=""/>
          <p:cNvPicPr/>
          <p:nvPr/>
        </p:nvPicPr>
        <p:blipFill>
          <a:blip r:embed="rId1"/>
          <a:stretch/>
        </p:blipFill>
        <p:spPr>
          <a:xfrm>
            <a:off x="3103560" y="426960"/>
            <a:ext cx="4241880" cy="15606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1542960" y="1916280"/>
            <a:ext cx="61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вянистое растение со сладкими красными ягод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 многих языках название этой ягоды звучит по- разному, но непременно связано с понятием «земля». У поляков эта ягода именуется «поземка». У немцев- «эрдбэрэ»(земляная ягода). И вы, конечно , догадались почему. Ягоды земляники нередко лежат прямо на земле, коротенький стебелек не поднимает ягоду  от поч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стихотворение. Впиши пропущенные сл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979640" y="2923920"/>
            <a:ext cx="5113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Летом спеет ________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ладкая, душистая.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 лес по ягоды пойдем,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_________ наберё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. Радченк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433440" y="573120"/>
            <a:ext cx="5546520" cy="1560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692360" y="1773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читай родственные  слова. Спиши. Подчеркни буквы. Которые нужно запомн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679400" y="3284640"/>
            <a:ext cx="584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ляника, земляничный, землянич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195640" y="50133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одним из слов составь предложение с вопросительным знаком на конц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пиши в каждое словосочетание слово земляника, если нужно изменив его. Какими частями речи являются слова в словосочетаниях? Надпиш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1476360" y="2637000"/>
            <a:ext cx="66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ренье из___________ ,  стихи о _______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зина с ____________ , нагнулся к _______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елая, сочная __________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08:59:14Z</dcterms:created>
  <dc:creator>SamLab.ws</dc:creator>
  <dc:description/>
  <dc:language>en-US</dc:language>
  <cp:lastModifiedBy>SamLab.ws</cp:lastModifiedBy>
  <dcterms:modified xsi:type="dcterms:W3CDTF">2011-06-29T09:35:52Z</dcterms:modified>
  <cp:revision>4</cp:revision>
  <dc:subject/>
  <dc:title>Презентация PowerPoint</dc:title>
</cp:coreProperties>
</file>