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1D9-5B64-48C6-B967-32BFA661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E1D-2F6E-4C8E-BB75-93E223EB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284-C48B-4579-91EC-28D6141C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903-0250-4187-9579-4ACF1BCC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85F-83CD-4D5E-BC96-D600CFD3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6F5-B210-4860-BD80-0BD95025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E55-4104-4643-8232-D4401961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FDA-FFCD-48F7-82B5-8170019F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DB6-6ADC-4652-B8B1-C550EB61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473-9211-4439-9263-3F7DCA9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4AF-1FEC-474B-98EF-398529A1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2D2-5641-4FDB-8BE2-7A860738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B001-36D4-4AF4-B2F8-4650F9801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314360" y="19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то под листиком-листочк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шет аленьким платочко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ала в гости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азалась в гор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1139760" y="738360"/>
            <a:ext cx="2041560" cy="9442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589200" y="3284640"/>
            <a:ext cx="388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у бабушки Маши в сад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екраснейшей грядке раст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и сочная, вкусная, сладк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такая я вся ароматна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меня ты, Егор, погляди-к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за ягодка 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6" descr=""/>
          <p:cNvPicPr/>
          <p:nvPr/>
        </p:nvPicPr>
        <p:blipFill>
          <a:blip r:embed="rId2"/>
          <a:stretch/>
        </p:blipFill>
        <p:spPr>
          <a:xfrm>
            <a:off x="4559400" y="963720"/>
            <a:ext cx="42066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3103560" y="426960"/>
            <a:ext cx="4241880" cy="1560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1542960" y="1916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вянистое растение со сладкими красными ягод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многих языках название этой ягоды звучит по- разному, но непременно связано с понятием «земля». У поляков эта ягода именуется «поземка». У немцев- «эрдбэрэ»(земляная ягода). И вы, конечно , догадались почему. Ягоды земляники нередко лежат прямо на земле, коротенький стебелек не поднимает ягоду  от поч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стихотворение. Впиши пропущенны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79640" y="2923920"/>
            <a:ext cx="5113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етом спеет ________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ладкая, душистая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лес по ягоды пойдем,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_________ наберё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. Радченк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433440" y="573120"/>
            <a:ext cx="5546520" cy="1560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92360" y="17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читай родственные  слова. Спиши. Подчеркни буквы. Которые нужно запомн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679400" y="3284640"/>
            <a:ext cx="584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ляника, земляничный, земляни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195640" y="5013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одним из слов составь предложение с вопросительным знаком на кон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пиши в каждое словосочетание слово земляника, если нужно изменив его. Какими частями речи являются слова в словосочетаниях? Надпиш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476360" y="263700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енье из___________ ,  стихи о _______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зина с ____________ , нагнулся к _______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елая, сочная 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8:59:14Z</dcterms:created>
  <dc:creator>SamLab.ws</dc:creator>
  <dc:description/>
  <dc:language>en-US</dc:language>
  <cp:lastModifiedBy>SamLab.ws</cp:lastModifiedBy>
  <dcterms:modified xsi:type="dcterms:W3CDTF">2011-06-29T09:35:52Z</dcterms:modified>
  <cp:revision>4</cp:revision>
  <dc:subject/>
  <dc:title>Презентация PowerPoint</dc:title>
</cp:coreProperties>
</file>