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A5D-75FB-4344-A796-4B657A45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474-FEAD-4565-A33A-B02BB3B7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58D-F76F-4E74-A4FC-1386E0C6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761-294E-4E89-A0F7-73218901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9DD0-DA04-4C81-AD66-072B22EE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D57B-3FEE-4497-BA1F-0C582939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BE6B-678C-47B9-B81F-726759D6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78B6-4579-4898-B95D-6139A647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6843-BBBD-407F-A3F4-7B7CBBDB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5F8F-0527-4E72-9E72-9BBCAF8B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5E39-5AC4-4043-AD61-67147F9C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EE3-A508-4EEE-B497-33929C42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D6FB-ADA3-43D3-987B-25F2881A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310E-D734-44A6-875E-569A7ADD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0F35-6B40-4424-872E-49D4F4AA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7BB5-E684-411E-9B80-F940B9AB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B256-3103-45DD-AB32-077A4A45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00A0-F19D-481B-BE4A-3852686B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66FC-1187-4EB0-A30D-394AF331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21B8-B031-46E1-80C5-14BBDCAE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132A-11CF-4EEF-AC26-802F4E07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5953-66BA-4E89-85B7-737E0024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3F6-EE35-41E4-AD82-737EB553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EAFDB-1481-4424-8E50-0E52CFB2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1B2AD-559B-4995-BBA5-1257A281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6DD3-70DB-410F-B2B4-D6F9287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1D2B9-45D6-48F6-8193-966426C9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CE983-213D-479D-A9C7-99C5D118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E5B70-9B58-4E2A-911B-8532796A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3004-A986-4A57-8E74-64FB41C2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7CE-C073-4FB9-A174-56706FA0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6FD-99F2-4227-A097-269D22EF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F3B-1D9E-4BD0-BE81-BC7D0505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DFA-DCF4-4B70-939D-60A31194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1B5-1F60-4088-8DAB-CD789036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727-5F73-45D4-8DE4-01BCA2A2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780000"/>
                </a:gs>
                <a:gs pos="50000">
                  <a:srgbClr val="800000"/>
                </a:gs>
                <a:gs pos="100000">
                  <a:srgbClr val="78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AE4D-1AE1-40A0-8026-A28E65A224E0}" type="datetime">
              <a:rPr b="0" lang="ru-RU" sz="1200" spc="-1" strike="noStrike">
                <a:solidFill>
                  <a:srgbClr val="ffffff"/>
                </a:solidFill>
                <a:latin typeface="Garamond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373F-5192-4293-A6F0-D3D95F58481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4725-E0AF-41EE-B732-9ABF7C1CAFD1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F49F-A71C-4E9B-B146-2B574B0F37A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5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EB08-01D5-462E-978B-FDA651331627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D125-CC4C-4B42-AB9D-24C3DE59628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1"/>
          <p:cNvSpPr/>
          <p:nvPr/>
        </p:nvSpPr>
        <p:spPr>
          <a:xfrm>
            <a:off x="4572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304920" y="762120"/>
            <a:ext cx="85341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ЛЕГКАЯ АТЛЕТ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Бег на результат 60 м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5715000"/>
            <a:ext cx="716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Franklin Gothic Book"/>
              </a:rPr>
              <a:t>Методические рекомендации.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Franklin Gothic Book"/>
              </a:rPr>
              <a:t>Учитель физической культуры: Яничева Виталия Олеговн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42B8-92D3-407A-B3E7-60EE8368B91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7" name="Picture 5" descr="bd0149-005"/>
          <p:cNvPicPr/>
          <p:nvPr/>
        </p:nvPicPr>
        <p:blipFill>
          <a:blip r:embed="rId1"/>
          <a:stretch/>
        </p:blipFill>
        <p:spPr>
          <a:xfrm>
            <a:off x="304920" y="3276720"/>
            <a:ext cx="3276360" cy="245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bd0149-004"/>
          <p:cNvPicPr/>
          <p:nvPr/>
        </p:nvPicPr>
        <p:blipFill>
          <a:blip r:embed="rId2"/>
          <a:stretch/>
        </p:blipFill>
        <p:spPr>
          <a:xfrm>
            <a:off x="5562720" y="6094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304920" y="457200"/>
            <a:ext cx="52578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French Script MT"/>
              </a:rPr>
              <a:t>Заключительным усилием для сохранения скорости бега является</a:t>
            </a:r>
            <a:r>
              <a:rPr b="1" lang="ru-RU" sz="3600" spc="-1" strike="noStrike">
                <a:solidFill>
                  <a:srgbClr val="00ccff"/>
                </a:solidFill>
                <a:latin typeface="French Script MT"/>
              </a:rPr>
              <a:t> </a:t>
            </a:r>
            <a:r>
              <a:rPr b="1" lang="ru-RU" sz="3800" spc="-1" strike="noStrike">
                <a:solidFill>
                  <a:srgbClr val="00ccff"/>
                </a:solidFill>
                <a:latin typeface="French Script MT"/>
              </a:rPr>
              <a:t>ФИНИШИРОВАНИЕ.</a:t>
            </a:r>
            <a:r>
              <a:rPr b="1" lang="ru-RU" sz="3600" spc="-1" strike="noStrike">
                <a:solidFill>
                  <a:srgbClr val="00ccff"/>
                </a:solidFill>
                <a:latin typeface="French Script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3886200" y="3505320"/>
            <a:ext cx="52578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French Script MT"/>
              </a:rPr>
              <a:t>Финишировать нельзя прыжком. После финиша нужно постепенно, замедляя бег, перейти на ходьбу.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1F06-D40C-4DFD-B814-4B98994B54C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8120" y="4572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Бег – естественный способ передвижения, входящий во многие виды спорта.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28600" y="320040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В легкой атлетике, бег  делится на гладкий,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с препятствиями, эстафетный и по пересечённой местности.</a:t>
            </a:r>
            <a:r>
              <a:rPr b="1" lang="ru-RU" sz="24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23" name="Picture 8" descr="888155-003"/>
          <p:cNvPicPr/>
          <p:nvPr/>
        </p:nvPicPr>
        <p:blipFill>
          <a:blip r:embed="rId1"/>
          <a:stretch/>
        </p:blipFill>
        <p:spPr>
          <a:xfrm>
            <a:off x="6629400" y="2819520"/>
            <a:ext cx="2295360" cy="2590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888155-004"/>
          <p:cNvPicPr/>
          <p:nvPr/>
        </p:nvPicPr>
        <p:blipFill>
          <a:blip r:embed="rId2"/>
          <a:stretch/>
        </p:blipFill>
        <p:spPr>
          <a:xfrm>
            <a:off x="228600" y="457200"/>
            <a:ext cx="26668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7F2E-6428-40B4-88DE-5290B968A4E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urier New"/>
              </a:rPr>
              <a:t>Бег на короткие дистанции (спринт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Для учащихся </a:t>
            </a:r>
            <a:r>
              <a:rPr b="0" lang="en-US" sz="3600" spc="-1" strike="noStrike">
                <a:solidFill>
                  <a:srgbClr val="00ccff"/>
                </a:solidFill>
                <a:latin typeface="Verdana"/>
              </a:rPr>
              <a:t>V</a:t>
            </a: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-</a:t>
            </a:r>
            <a:r>
              <a:rPr b="0" lang="en-US" sz="3600" spc="-1" strike="noStrike">
                <a:solidFill>
                  <a:srgbClr val="00ccff"/>
                </a:solidFill>
                <a:latin typeface="Verdana"/>
              </a:rPr>
              <a:t>VII</a:t>
            </a: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 классов  - 30, 60 метров – условно разделяется на четыре фазы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Старт;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Стартовый разгон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Бег по дистанции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Финиширова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342900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1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F4EC-2937-456A-8194-EE609F78E96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28191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Courier New"/>
              </a:rPr>
              <a:t>Высокий старт</a:t>
            </a:r>
            <a:r>
              <a:rPr b="0" lang="ru-RU" sz="5400" spc="-1" strike="noStrike">
                <a:solidFill>
                  <a:srgbClr val="ffcc00"/>
                </a:solidFill>
                <a:latin typeface="Courier New"/>
              </a:rPr>
              <a:t> </a:t>
            </a:r>
            <a:br>
              <a:rPr sz="5400"/>
            </a:br>
            <a:r>
              <a:rPr b="0" lang="ru-RU" sz="2800" spc="-1" strike="noStrike">
                <a:solidFill>
                  <a:srgbClr val="ffcc00"/>
                </a:solidFill>
                <a:latin typeface="Courier New"/>
              </a:rPr>
              <a:t>Применяется практически на всех дистанциях бега.</a:t>
            </a: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3" name="Picture 9" descr="bd0149-001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3249-3051-4F34-8C76-F4CD990A305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>
            <a:lum contrast="42000"/>
          </a:blip>
          <a:srcRect l="4354" t="0" r="62242" b="-1086"/>
          <a:stretch/>
        </p:blipFill>
        <p:spPr>
          <a:xfrm>
            <a:off x="5638680" y="304920"/>
            <a:ext cx="3065760" cy="38098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533520" y="1676520"/>
            <a:ext cx="495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ученик подходит к стартовой линии и ставит сильнейшую ногу носком к ней.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80880" y="42670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Другую ногу отставляет назад, упираясь в грунт носком. Туловище выпрямлено, руки свободно опущены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04920" y="22860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409760" y="99072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НА СТАРТ!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1E9E-32B2-43DB-A253-CE47BCAFEA0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5562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ученик слегка сгибает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ногу, перенося ве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тела на впереди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стоящую ногу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>
            <a:lum contrast="42000"/>
          </a:blip>
          <a:srcRect l="33414" t="0" r="37430" b="0"/>
          <a:stretch/>
        </p:blipFill>
        <p:spPr>
          <a:xfrm>
            <a:off x="5715000" y="380880"/>
            <a:ext cx="2925720" cy="48769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"/>
          <p:cNvSpPr/>
          <p:nvPr/>
        </p:nvSpPr>
        <p:spPr>
          <a:xfrm>
            <a:off x="380880" y="4724280"/>
            <a:ext cx="84582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Руки чуть согнуты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в локтях. Взгляд направлен вперед</a:t>
            </a:r>
            <a:r>
              <a:rPr b="0" lang="ru-RU" sz="1800" spc="-1" strike="noStrike">
                <a:solidFill>
                  <a:srgbClr val="ffcc00"/>
                </a:solidFill>
                <a:latin typeface="French Script M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304920" y="30492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120680" y="1143000"/>
            <a:ext cx="40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ВНИМАНИЕ!»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9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C6D6-4B2F-440F-957E-6156D46BDD4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5486400" cy="4297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учащийся, энергично отталкиваясь ногами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от земли, начинает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бег, стараясь быстро набрать скорость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>
            <a:lum contrast="42000"/>
          </a:blip>
          <a:srcRect l="60340" t="0" r="1786" b="0"/>
          <a:stretch/>
        </p:blipFill>
        <p:spPr>
          <a:xfrm>
            <a:off x="5486400" y="1371600"/>
            <a:ext cx="3384720" cy="43434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152280" y="1522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1188360" y="838080"/>
            <a:ext cx="26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МАРШ!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5578-7345-474B-92A8-4AD6B07DBF8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92240"/>
            <a:ext cx="8080200" cy="83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French Script MT"/>
              </a:rPr>
              <a:t>СТАРТОВЫЙ РАЗБЕГ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Ученик энергично выполняет беговые движения ногами и работая руками. Туловище наклонено вперед. </a:t>
            </a:r>
            <a:r>
              <a:rPr b="0" lang="ru-RU" sz="3200" spc="-1" strike="noStrike">
                <a:solidFill>
                  <a:srgbClr val="ffcc00"/>
                </a:solidFill>
                <a:latin typeface="French Script MT"/>
              </a:rPr>
              <a:t>С удлинением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12" descr="bd0149-001"/>
          <p:cNvPicPr/>
          <p:nvPr/>
        </p:nvPicPr>
        <p:blipFill>
          <a:blip r:embed="rId1"/>
          <a:stretch/>
        </p:blipFill>
        <p:spPr>
          <a:xfrm>
            <a:off x="5029200" y="1600200"/>
            <a:ext cx="3886200" cy="28494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3"/>
          <p:cNvSpPr/>
          <p:nvPr/>
        </p:nvSpPr>
        <p:spPr>
          <a:xfrm>
            <a:off x="380880" y="5105520"/>
            <a:ext cx="8763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шагов туловище постепенно выпрямляется, и бегун набирает максимальную скорость, которая поддерживается до конца бег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C3F-262A-4C0A-84DD-0735C7DF23E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French Script MT"/>
              </a:rPr>
              <a:t>БЕГ ПО ДИСТАНЦ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6080" cy="25588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304920" y="4038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бег по дистанции должен быть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ритмичным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и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свободным,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с небольшим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наклоном туловища вперед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(взгляд устремлен вперед); нога касается дорожки передней частью стопы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ничева</cp:lastModifiedBy>
  <dcterms:modified xsi:type="dcterms:W3CDTF">2013-04-08T06:03:4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