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9B2-8139-49F2-96F4-853D6739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0F4-F097-42FB-A02E-E6A009B5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293-CB94-4FFA-815B-9F4E2505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04E-6E18-45EE-AF35-91F7D41E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CCA2-D511-4003-B623-4312F2A7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F107-22FE-42AD-9F44-63A51E04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D444-5C15-41F3-8778-79F5EDF8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C808-3DDF-432F-8FD9-E5DFA20F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7013-8A66-4555-91C4-5DC74829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5641-9F36-4E38-A900-FC4B2BBC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CD8F-E42C-4509-89BD-F767AA1A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CD2-397A-49C8-8705-86B934FE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B5E4-C2C3-4737-81BE-A9E9CD5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F2AC-0F7F-4532-A416-D9077408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7FF2-4A0F-46E6-A6E5-A9DB48C7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55B4-2C8D-4E60-912E-7ACA5CF1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A925-0EBB-47A3-8A4D-5202A818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D13C-52F6-4AB7-AA29-C68ECDF0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6F93-3D59-4144-879D-72389D85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64D3-DC93-45C5-8FB4-7DD2C27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C58B-E58E-4E76-97FC-D8C3F45F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8F39-A297-436B-817F-D95C4C6E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D2C-F075-46E7-8B00-BBA4C6B9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299F0-D732-4A88-AC7F-D7F13B26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187D-B40E-465B-9EB9-405DF8F1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7C99-929A-4267-9159-AAF66C1F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9C6D8-9463-4E68-904A-BEE91A84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39F5-3EAA-4F19-91B5-A041FC90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DF5C-1099-41F5-9025-B45DBE60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60BA9-152C-4AD7-8063-4A2ABDCA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A50-4537-4B5E-98E5-C36D3470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21B-F896-4245-A6E9-B54920EC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0CB-93F7-4DE8-BC7D-0951F64F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E30-DCA0-40F2-8DDE-DEA4D57E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144-ABA9-4519-B3B6-EFB1FEE7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98D-2D2A-4A68-9B68-DDFF971A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780000"/>
                </a:gs>
                <a:gs pos="50000">
                  <a:srgbClr val="800000"/>
                </a:gs>
                <a:gs pos="100000">
                  <a:srgbClr val="78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910f0f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9f2e2e"/>
                </a:gs>
                <a:gs pos="100000">
                  <a:srgbClr val="8a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E9BD-475C-43BF-A67F-8DA0661C9123}" type="datetime">
              <a:rPr b="0" lang="ru-RU" sz="1200" spc="-1" strike="noStrike">
                <a:solidFill>
                  <a:srgbClr val="ffffff"/>
                </a:solidFill>
                <a:latin typeface="Garamond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6E23-0138-42D4-B796-78F39F00458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B3B0-C6C4-4C5F-A4A2-00D278E0AA3B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813-CC83-4BA5-956E-1749F352452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8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Franklin Gothic Book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51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Franklin Gothic Book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9639-75D6-45EB-9F79-D661C91F2E2A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36E-5755-4910-9BBC-32F05AFEF09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1"/>
          <p:cNvSpPr/>
          <p:nvPr/>
        </p:nvSpPr>
        <p:spPr>
          <a:xfrm>
            <a:off x="4572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304920" y="762120"/>
            <a:ext cx="85341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ЛЕГКАЯ АТЛЕТИКА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Бег на результат 60 м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5715000"/>
            <a:ext cx="716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Franklin Gothic Book"/>
              </a:rPr>
              <a:t>Методические рекомендации.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00"/>
                </a:solidFill>
                <a:latin typeface="Franklin Gothic Book"/>
              </a:rPr>
              <a:t>Учитель физической культуры: Яничева Виталия Олеговна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70D7-0A32-41B6-9122-41E8BB9AA60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7" name="Picture 5" descr="bd0149-005"/>
          <p:cNvPicPr/>
          <p:nvPr/>
        </p:nvPicPr>
        <p:blipFill>
          <a:blip r:embed="rId1"/>
          <a:stretch/>
        </p:blipFill>
        <p:spPr>
          <a:xfrm>
            <a:off x="304920" y="3276720"/>
            <a:ext cx="3276360" cy="245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bd0149-004"/>
          <p:cNvPicPr/>
          <p:nvPr/>
        </p:nvPicPr>
        <p:blipFill>
          <a:blip r:embed="rId2"/>
          <a:stretch/>
        </p:blipFill>
        <p:spPr>
          <a:xfrm>
            <a:off x="5562720" y="609480"/>
            <a:ext cx="3276360" cy="24577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304920" y="457200"/>
            <a:ext cx="525780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Заключительным усилием для сохранения скорости бега является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r>
              <a:rPr b="1" lang="ru-RU" sz="3800" spc="-1" strike="noStrike">
                <a:solidFill>
                  <a:srgbClr val="00ccff"/>
                </a:solidFill>
                <a:latin typeface="French Script MT"/>
              </a:rPr>
              <a:t>ФИНИШИРОВАНИЕ.</a:t>
            </a:r>
            <a:r>
              <a:rPr b="1" lang="ru-RU" sz="3600" spc="-1" strike="noStrike">
                <a:solidFill>
                  <a:srgbClr val="00ccff"/>
                </a:solidFill>
                <a:latin typeface="French Script M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3886200" y="3505320"/>
            <a:ext cx="525780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c00"/>
                </a:solidFill>
                <a:latin typeface="French Script MT"/>
              </a:rPr>
              <a:t>Финишировать нельзя прыжком. После финиша нужно постепенно, замедляя бег, перейти на ходьбу.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4100-BC9B-4232-A1B3-79E276F629E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8120" y="45720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Бег – естественный способ передвижения, входящий во многие виды спорта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28600" y="32004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В легкой атлетике, бег  делится на гладкий,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Courier New"/>
              </a:rPr>
              <a:t>с препятствиями, эстафетный и по пересечённой местности.</a:t>
            </a:r>
            <a:r>
              <a:rPr b="1" lang="ru-RU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23" name="Picture 8" descr="888155-003"/>
          <p:cNvPicPr/>
          <p:nvPr/>
        </p:nvPicPr>
        <p:blipFill>
          <a:blip r:embed="rId1"/>
          <a:stretch/>
        </p:blipFill>
        <p:spPr>
          <a:xfrm>
            <a:off x="6629400" y="2819520"/>
            <a:ext cx="2295360" cy="2590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888155-004"/>
          <p:cNvPicPr/>
          <p:nvPr/>
        </p:nvPicPr>
        <p:blipFill>
          <a:blip r:embed="rId2"/>
          <a:stretch/>
        </p:blipFill>
        <p:spPr>
          <a:xfrm>
            <a:off x="228600" y="457200"/>
            <a:ext cx="26668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46A3-BD84-49A9-A289-C4F3D3F4485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urier New"/>
              </a:rPr>
              <a:t>Бег на короткие дистанции (спринт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Для учащихся 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-</a:t>
            </a:r>
            <a:r>
              <a:rPr b="0" lang="en-US" sz="3600" spc="-1" strike="noStrike">
                <a:solidFill>
                  <a:srgbClr val="00ccff"/>
                </a:solidFill>
                <a:latin typeface="Verdana"/>
              </a:rPr>
              <a:t>VII</a:t>
            </a:r>
            <a:r>
              <a:rPr b="0" lang="ru-RU" sz="3600" spc="-1" strike="noStrike">
                <a:solidFill>
                  <a:srgbClr val="00ccff"/>
                </a:solidFill>
                <a:latin typeface="Verdana"/>
              </a:rPr>
              <a:t> классов  - 30, 60 метров – условно разделяется на четыре фазы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;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Стартовый разгон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Бег по дистанции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66640" indent="-566640">
              <a:spcBef>
                <a:spcPts val="901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Verdana"/>
              </a:rPr>
              <a:t>Финиширов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5486400" y="3809880"/>
            <a:ext cx="342900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1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4DA2-A055-4C3D-9CF7-AA519879D66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28191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cc00"/>
                </a:solidFill>
                <a:latin typeface="Courier New"/>
              </a:rPr>
              <a:t>Высокий старт</a:t>
            </a:r>
            <a:r>
              <a:rPr b="0" lang="ru-RU" sz="5400" spc="-1" strike="noStrike">
                <a:solidFill>
                  <a:srgbClr val="ffcc00"/>
                </a:solidFill>
                <a:latin typeface="Courier New"/>
              </a:rPr>
              <a:t> </a:t>
            </a:r>
            <a:br>
              <a:rPr sz="5400"/>
            </a:br>
            <a:r>
              <a:rPr b="0" lang="ru-RU" sz="2800" spc="-1" strike="noStrike">
                <a:solidFill>
                  <a:srgbClr val="ffcc00"/>
                </a:solidFill>
                <a:latin typeface="Courier New"/>
              </a:rPr>
              <a:t>Применяется практически на всех дистанциях бега.</a:t>
            </a: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3" name="Picture 9" descr="bd0149-001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53C0-9070-4054-BC57-81C9D5B6136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>
            <a:lum contrast="42000"/>
          </a:blip>
          <a:srcRect l="4354" t="0" r="62242" b="-1086"/>
          <a:stretch/>
        </p:blipFill>
        <p:spPr>
          <a:xfrm>
            <a:off x="5638680" y="304920"/>
            <a:ext cx="3065760" cy="38098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533520" y="1676520"/>
            <a:ext cx="4952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подходит к стартовой линии и ставит сильнейшую ногу носком к ней.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380880" y="4267080"/>
            <a:ext cx="8534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Другую ногу отставляет назад, упираясь в грунт носком. Туловище выпрямлено, руки свободно опущены.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04920" y="22860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409760" y="990720"/>
            <a:ext cx="340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НА СТАРТ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1A8B-969F-43F0-A2AC-4BE71EFFAE5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5562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ученик слегка сгибае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ногу, перенося ве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тела на впереди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стоящую ногу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>
            <a:lum contrast="42000"/>
          </a:blip>
          <a:srcRect l="33414" t="0" r="37430" b="0"/>
          <a:stretch/>
        </p:blipFill>
        <p:spPr>
          <a:xfrm>
            <a:off x="5715000" y="380880"/>
            <a:ext cx="2925720" cy="48769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7"/>
          <p:cNvSpPr/>
          <p:nvPr/>
        </p:nvSpPr>
        <p:spPr>
          <a:xfrm>
            <a:off x="380880" y="4724280"/>
            <a:ext cx="84582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Руки чуть согнуты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в локтях. Взгляд направлен вперед</a:t>
            </a:r>
            <a:r>
              <a:rPr b="0" lang="ru-RU" sz="1800" spc="-1" strike="noStrike">
                <a:solidFill>
                  <a:srgbClr val="ffcc00"/>
                </a:solidFill>
                <a:latin typeface="French Script MT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304920" y="3049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120680" y="1143000"/>
            <a:ext cx="40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ВНИМАНИЕ!»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9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7906-B711-4E9B-8823-BCF58DAEBFA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5486400" cy="4297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учащийся, энергично отталкиваясь ногами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от земли, начинает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French Script MT"/>
              </a:rPr>
              <a:t>бег, стараясь быстро набрать скорость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>
            <a:lum contrast="42000"/>
          </a:blip>
          <a:srcRect l="60340" t="0" r="1786" b="0"/>
          <a:stretch/>
        </p:blipFill>
        <p:spPr>
          <a:xfrm>
            <a:off x="5486400" y="1371600"/>
            <a:ext cx="3384720" cy="43434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152280" y="15228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French Script MT"/>
              </a:rPr>
              <a:t>По команд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1188360" y="838080"/>
            <a:ext cx="26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French Script MT"/>
              </a:rPr>
              <a:t>«МАРШ!»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F3EB-A56E-4962-839D-3BCADCB6E35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92240"/>
            <a:ext cx="8080200" cy="83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ff"/>
                </a:solidFill>
                <a:latin typeface="French Script MT"/>
              </a:rPr>
              <a:t>СТАРТОВЫЙ РАЗБЕГ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Ученик энергично выполняет беговые движения ногами и работая руками. Туловище наклонено вперед. </a:t>
            </a:r>
            <a:r>
              <a:rPr b="0" lang="ru-RU" sz="3200" spc="-1" strike="noStrike">
                <a:solidFill>
                  <a:srgbClr val="ffcc00"/>
                </a:solidFill>
                <a:latin typeface="French Script MT"/>
              </a:rPr>
              <a:t>С удлинением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12" descr="bd0149-001"/>
          <p:cNvPicPr/>
          <p:nvPr/>
        </p:nvPicPr>
        <p:blipFill>
          <a:blip r:embed="rId1"/>
          <a:stretch/>
        </p:blipFill>
        <p:spPr>
          <a:xfrm>
            <a:off x="5029200" y="1600200"/>
            <a:ext cx="3886200" cy="28494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3"/>
          <p:cNvSpPr/>
          <p:nvPr/>
        </p:nvSpPr>
        <p:spPr>
          <a:xfrm>
            <a:off x="380880" y="5105520"/>
            <a:ext cx="8763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French Script MT"/>
              </a:rPr>
              <a:t>шагов туловище постепенно выпрямляется, и бегун набирает максимальную скорость, которая поддерживается до конца бега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Дата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3280-5ED8-4E44-B214-72315CB3C73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ff"/>
                </a:solidFill>
                <a:latin typeface="French Script MT"/>
              </a:rPr>
              <a:t>БЕГ ПО ДИСТАН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63" name="Picture 9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2558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04920" y="4038480"/>
            <a:ext cx="86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бег по дистанции должен быть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ритмичным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и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свободным,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с небольшим </a:t>
            </a:r>
            <a:r>
              <a:rPr b="1" lang="ru-RU" sz="3200" spc="-1" strike="noStrike">
                <a:solidFill>
                  <a:srgbClr val="00ccff"/>
                </a:solidFill>
                <a:latin typeface="French Script MT"/>
              </a:rPr>
              <a:t>наклоном туловища вперед</a:t>
            </a:r>
            <a:r>
              <a:rPr b="1" lang="ru-RU" sz="3200" spc="-1" strike="noStrike">
                <a:solidFill>
                  <a:srgbClr val="ffcc00"/>
                </a:solidFill>
                <a:latin typeface="French Script MT"/>
              </a:rPr>
              <a:t> (взгляд устремлен вперед); нога касается дорожки передней частью стоп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ничева</cp:lastModifiedBy>
  <dcterms:modified xsi:type="dcterms:W3CDTF">2013-04-08T06:03:45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