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2CB09-A1DF-4FA2-AC3C-E7AA1C7E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E1A0D-453D-491F-8719-BEA3DF5D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684AC-189B-4A27-8059-C34FAF03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8E7A4-D7CE-4818-8FD8-41B081E8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5BDB-6002-47FB-8238-FA002E4B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0F6E-8F78-4222-BF2C-EF738825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DBBB-FB75-462B-B41A-B6849155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7AF7-B35E-42A8-B9FC-14F311CA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9C3D-D732-44FF-87FC-F94238A1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AC4E-8144-4083-888E-147BD940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C845-1EFC-4291-849D-C44DF561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81D6-E8C5-4412-8CFA-89492B84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3A1C-2D78-4999-8D46-55246604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35A6-C61D-4241-B2CA-267C1724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4BD8-4787-4439-9B07-02494E9B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1B5B-5758-4E4A-855D-25DF1E7F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9F69-9950-46DF-A5D7-B84B8F8C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DB813-EE45-4B1B-AA38-7E2BA056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25EB7-2FBD-4FDC-A1D3-0BE9938D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85FF6-42E5-4C35-9AF0-1C158A4A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262D-E415-4BF3-BB72-8D89000E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6FB67-0635-4846-9905-3791BB68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2E21D-1403-4D24-873F-6D005E08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DB3EA-B820-4D0A-833E-E1AAEBDD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00C1-FFC0-43EA-834C-14903411082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8462-8BCF-433B-89C7-139DF06115F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Содержимое 5" descr="DSC00902.JPG"/>
          <p:cNvPicPr/>
          <p:nvPr/>
        </p:nvPicPr>
        <p:blipFill>
          <a:blip r:embed="rId1"/>
          <a:stretch/>
        </p:blipFill>
        <p:spPr>
          <a:xfrm>
            <a:off x="642960" y="2714760"/>
            <a:ext cx="4044960" cy="3033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Comic Sans MS"/>
              </a:rPr>
              <a:t>Викторина по сказкам А.С.Пушкина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Прямоугольник 6"/>
          <p:cNvSpPr/>
          <p:nvPr/>
        </p:nvSpPr>
        <p:spPr>
          <a:xfrm>
            <a:off x="5429160" y="5429160"/>
            <a:ext cx="3500640" cy="1143000"/>
          </a:xfrm>
          <a:prstGeom prst="rect">
            <a:avLst/>
          </a:prstGeom>
          <a:gradFill rotWithShape="0">
            <a:gsLst>
              <a:gs pos="0">
                <a:srgbClr val="ff8078"/>
              </a:gs>
              <a:gs pos="100000">
                <a:srgbClr val="ffdad7"/>
              </a:gs>
            </a:gsLst>
            <a:lin ang="16200000"/>
          </a:gradFill>
          <a:ln w="9360">
            <a:solidFill>
              <a:srgbClr val="ff2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e00"/>
                </a:solidFill>
                <a:latin typeface="Tahoma"/>
              </a:rPr>
              <a:t>Составила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e00"/>
                </a:solidFill>
                <a:latin typeface="Tahoma"/>
              </a:rPr>
              <a:t>Учитель начальных класс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e00"/>
                </a:solidFill>
                <a:latin typeface="Tahoma"/>
              </a:rPr>
              <a:t>Сапогина С.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-4883400"/>
            <a:ext cx="22716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640" y="5445000"/>
            <a:ext cx="5688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казка о попе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 работнике его Балд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12" descr="1731"/>
          <p:cNvPicPr/>
          <p:nvPr/>
        </p:nvPicPr>
        <p:blipFill>
          <a:blip r:embed="rId1"/>
          <a:stretch/>
        </p:blipFill>
        <p:spPr>
          <a:xfrm>
            <a:off x="2050920" y="189000"/>
            <a:ext cx="4872240" cy="53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5734080"/>
            <a:ext cx="878544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азка о царе Салт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 сыне его, славном и могучем богатыре князе Гвидоне Салтановиче и о прекрасной царевне Лебед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10" descr="0007"/>
          <p:cNvPicPr/>
          <p:nvPr/>
        </p:nvPicPr>
        <p:blipFill>
          <a:blip r:embed="rId1"/>
          <a:stretch/>
        </p:blipFill>
        <p:spPr>
          <a:xfrm>
            <a:off x="900000" y="189000"/>
            <a:ext cx="7143840" cy="545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казки А.С.Пушкин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рыбаке и рыб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золотом петуш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попе и работнике его Бал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мертвой царевне и семи богатыр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царе Салтане, о сыне его славном и могучем богатыре князе Гвидоне Салтановиче и о прекрасной царевне Лебед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43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л старик со своею старух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самого синего мо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арь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адо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2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тушка подарил Звездочё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 стеречь его границ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3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нязь Гвидо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Царевна Лебед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235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 кого превращался князь Гвидон?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 какой последовательности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ома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мух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шме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9" descr="skaz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692360" y="1484280"/>
          <a:ext cx="4968720" cy="453060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4360"/>
                <a:gridCol w="412560"/>
                <a:gridCol w="414360"/>
                <a:gridCol w="415800"/>
                <a:gridCol w="412920"/>
                <a:gridCol w="414360"/>
                <a:gridCol w="412560"/>
                <a:gridCol w="416160"/>
                <a:gridCol w="412560"/>
                <a:gridCol w="414360"/>
              </a:tblGrid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763640" y="1413000"/>
          <a:ext cx="5004000" cy="4530600"/>
        </p:xfrm>
        <a:graphic>
          <a:graphicData uri="http://schemas.openxmlformats.org/drawingml/2006/table">
            <a:tbl>
              <a:tblPr/>
              <a:tblGrid>
                <a:gridCol w="417600"/>
                <a:gridCol w="415800"/>
                <a:gridCol w="417600"/>
                <a:gridCol w="417600"/>
                <a:gridCol w="415800"/>
                <a:gridCol w="419040"/>
                <a:gridCol w="416160"/>
                <a:gridCol w="415800"/>
                <a:gridCol w="417600"/>
                <a:gridCol w="419040"/>
                <a:gridCol w="414360"/>
                <a:gridCol w="417600"/>
              </a:tblGrid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979640" y="1484280"/>
          <a:ext cx="4680000" cy="4530600"/>
        </p:xfrm>
        <a:graphic>
          <a:graphicData uri="http://schemas.openxmlformats.org/drawingml/2006/table">
            <a:tbl>
              <a:tblPr/>
              <a:tblGrid>
                <a:gridCol w="390600"/>
                <a:gridCol w="388800"/>
                <a:gridCol w="390600"/>
                <a:gridCol w="390600"/>
                <a:gridCol w="388800"/>
                <a:gridCol w="392040"/>
                <a:gridCol w="389160"/>
                <a:gridCol w="388800"/>
                <a:gridCol w="390600"/>
                <a:gridCol w="392040"/>
                <a:gridCol w="387360"/>
                <a:gridCol w="390600"/>
              </a:tblGrid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763640" y="1557360"/>
          <a:ext cx="4753080" cy="4530600"/>
        </p:xfrm>
        <a:graphic>
          <a:graphicData uri="http://schemas.openxmlformats.org/drawingml/2006/table">
            <a:tbl>
              <a:tblPr/>
              <a:tblGrid>
                <a:gridCol w="397080"/>
                <a:gridCol w="395280"/>
                <a:gridCol w="396720"/>
                <a:gridCol w="395280"/>
                <a:gridCol w="397080"/>
                <a:gridCol w="396720"/>
                <a:gridCol w="395280"/>
                <a:gridCol w="395280"/>
                <a:gridCol w="396720"/>
                <a:gridCol w="397080"/>
                <a:gridCol w="395280"/>
                <a:gridCol w="395280"/>
              </a:tblGrid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92360" y="1484280"/>
          <a:ext cx="4897440" cy="4530600"/>
        </p:xfrm>
        <a:graphic>
          <a:graphicData uri="http://schemas.openxmlformats.org/drawingml/2006/table">
            <a:tbl>
              <a:tblPr/>
              <a:tblGrid>
                <a:gridCol w="407880"/>
                <a:gridCol w="407880"/>
                <a:gridCol w="408240"/>
                <a:gridCol w="407880"/>
                <a:gridCol w="407880"/>
                <a:gridCol w="411120"/>
                <a:gridCol w="406440"/>
                <a:gridCol w="408240"/>
                <a:gridCol w="407880"/>
                <a:gridCol w="409680"/>
                <a:gridCol w="406080"/>
                <a:gridCol w="408240"/>
              </a:tblGrid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7240"/>
                <a:gridCol w="68436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5" name="Picture 6" descr="v051_400"/>
          <p:cNvPicPr/>
          <p:nvPr/>
        </p:nvPicPr>
        <p:blipFill>
          <a:blip r:embed="rId1"/>
          <a:stretch/>
        </p:blipFill>
        <p:spPr>
          <a:xfrm>
            <a:off x="755640" y="0"/>
            <a:ext cx="460836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508720" y="1599840"/>
            <a:ext cx="3178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.Вруб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аревна Лебед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…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За морем царевна есть,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что не можно глаз отвесть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8920" y="2204640"/>
            <a:ext cx="72007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циозная              изящная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рупкая                   неж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красная             белоснеж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дая                    неприступ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тная                  царствен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личавая              величествен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Александр Сергеевич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ушкин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799  –  183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7" descr="488197900"/>
          <p:cNvPicPr/>
          <p:nvPr/>
        </p:nvPicPr>
        <p:blipFill>
          <a:blip r:embed="rId1"/>
          <a:stretch/>
        </p:blipFill>
        <p:spPr>
          <a:xfrm>
            <a:off x="623880" y="1125360"/>
            <a:ext cx="4092480" cy="500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95280" y="277560"/>
            <a:ext cx="4691160" cy="4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Царевна Лебедь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0" name="Picture 9" descr="5aa199cede6eeffa159df17b224f60d9"/>
          <p:cNvPicPr/>
          <p:nvPr/>
        </p:nvPicPr>
        <p:blipFill>
          <a:blip r:embed="rId1"/>
          <a:stretch/>
        </p:blipFill>
        <p:spPr>
          <a:xfrm>
            <a:off x="3276720" y="4149720"/>
            <a:ext cx="2997000" cy="1996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lybed"/>
          <p:cNvPicPr/>
          <p:nvPr/>
        </p:nvPicPr>
        <p:blipFill>
          <a:blip r:embed="rId2"/>
          <a:stretch/>
        </p:blipFill>
        <p:spPr>
          <a:xfrm>
            <a:off x="179280" y="3357720"/>
            <a:ext cx="2849760" cy="3500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zdanchuk_03"/>
          <p:cNvPicPr/>
          <p:nvPr/>
        </p:nvPicPr>
        <p:blipFill>
          <a:blip r:embed="rId3"/>
          <a:stretch/>
        </p:blipFill>
        <p:spPr>
          <a:xfrm>
            <a:off x="6516720" y="3357720"/>
            <a:ext cx="2419200" cy="3500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6372"/>
          <p:cNvPicPr/>
          <p:nvPr/>
        </p:nvPicPr>
        <p:blipFill>
          <a:blip r:embed="rId4"/>
          <a:stretch/>
        </p:blipFill>
        <p:spPr>
          <a:xfrm>
            <a:off x="4140360" y="836640"/>
            <a:ext cx="3598560" cy="2379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p47"/>
          <p:cNvPicPr/>
          <p:nvPr/>
        </p:nvPicPr>
        <p:blipFill>
          <a:blip r:embed="rId5"/>
          <a:stretch/>
        </p:blipFill>
        <p:spPr>
          <a:xfrm>
            <a:off x="684360" y="260280"/>
            <a:ext cx="2840040" cy="295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74400" y="-5027040"/>
            <a:ext cx="824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46800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Царь ступил на двор широкой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ам под ёлкою высоко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Белка песенку поёт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Золотой орех грызёт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зумрудец вынимае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в мешочек опускает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засеян двор большо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Золотою скорлупо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Гости дале торопливо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мотрят-что ж? княгиня – диво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д косой луна блестит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 во лбу звезда горит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 сама-то величава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ыступает, будто пава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свекровь свою ведёт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Царь глядит – и узнает…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9280" y="333360"/>
            <a:ext cx="4284720" cy="59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нём взыграло ретивое!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«Что я вижу? что такое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ак!» - и дух в нём занялся…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Царь слезами залился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нимает он царицу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сынка, и молодицу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садятся все за стол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весёлый пир пошёл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 ткачиха с поварихой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 сватьей бабой Бабарихо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азбежались по углам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х нашли насилу там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ут во всем они признались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винились, разрыдались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Царь для радости тако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тпустил всех трёх домо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4960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то  за   прелесть   эти   сказки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15" descr="131"/>
          <p:cNvPicPr/>
          <p:nvPr/>
        </p:nvPicPr>
        <p:blipFill>
          <a:blip r:embed="rId1"/>
          <a:srcRect l="5411" t="2535" r="6223" b="1170"/>
          <a:stretch/>
        </p:blipFill>
        <p:spPr>
          <a:xfrm>
            <a:off x="684360" y="784080"/>
            <a:ext cx="7832520" cy="6073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-4937400"/>
            <a:ext cx="22716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6" descr="28"/>
          <p:cNvPicPr/>
          <p:nvPr/>
        </p:nvPicPr>
        <p:blipFill>
          <a:blip r:embed="rId1"/>
          <a:stretch/>
        </p:blipFill>
        <p:spPr>
          <a:xfrm>
            <a:off x="826920" y="0"/>
            <a:ext cx="7417080" cy="5425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6000" y="5516280"/>
            <a:ext cx="6264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мертвой царевн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семи богатыр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Picture 10" descr="infprc2"/>
          <p:cNvPicPr/>
          <p:nvPr/>
        </p:nvPicPr>
        <p:blipFill>
          <a:blip r:embed="rId1"/>
          <a:stretch/>
        </p:blipFill>
        <p:spPr>
          <a:xfrm>
            <a:off x="2484360" y="260280"/>
            <a:ext cx="4029120" cy="5516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92000" y="5876640"/>
            <a:ext cx="5832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золотом петуш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-4883400"/>
            <a:ext cx="2984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Picture 6" descr="667480673_tonnel"/>
          <p:cNvPicPr/>
          <p:nvPr/>
        </p:nvPicPr>
        <p:blipFill>
          <a:blip r:embed="rId1"/>
          <a:stretch/>
        </p:blipFill>
        <p:spPr>
          <a:xfrm>
            <a:off x="1187280" y="333360"/>
            <a:ext cx="6769440" cy="50547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03280" y="5805000"/>
            <a:ext cx="6121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казка о рыбаке и рыбк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-4918680"/>
            <a:ext cx="824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6" descr="apple"/>
          <p:cNvPicPr/>
          <p:nvPr/>
        </p:nvPicPr>
        <p:blipFill>
          <a:blip r:embed="rId1"/>
          <a:stretch/>
        </p:blipFill>
        <p:spPr>
          <a:xfrm>
            <a:off x="1187280" y="404640"/>
            <a:ext cx="6769440" cy="50752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02920" y="5589720"/>
            <a:ext cx="6264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казка о мёртвой царевне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 семи богатыря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Picture 8" descr="film_2230_09"/>
          <p:cNvPicPr/>
          <p:nvPr/>
        </p:nvPicPr>
        <p:blipFill>
          <a:blip r:embed="rId1"/>
          <a:stretch/>
        </p:blipFill>
        <p:spPr>
          <a:xfrm>
            <a:off x="1042920" y="260280"/>
            <a:ext cx="7274160" cy="54388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47640" y="580500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казка о золотом петушк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7:43:30Z</dcterms:created>
  <dc:creator>я</dc:creator>
  <dc:description/>
  <dc:language>en-US</dc:language>
  <cp:lastModifiedBy>ПАВЕЛ</cp:lastModifiedBy>
  <dcterms:modified xsi:type="dcterms:W3CDTF">2011-09-25T05:38:55Z</dcterms:modified>
  <cp:revision>25</cp:revision>
  <dc:subject/>
  <dc:title>Пушкин Александр Сергеевич</dc:title>
</cp:coreProperties>
</file>