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7661-2317-43BF-B8A1-5A56A224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44903-7F9D-41A2-8871-C38E17AB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A2E5-DDE5-496B-8A39-F42DF6A0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0002E-F94C-4745-AE53-5A03D2D7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E34A-5365-4881-8CEE-B38DCD3D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97B9-D711-4E03-B927-8EEBFC27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D089-26FF-43A2-A8AB-3DFA800D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1DD1-BD34-4506-A467-BF87C8C7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492D-703B-4E4D-94FC-4268FA41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86C3-0757-4074-9634-8D21F178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42F0-EBAE-4419-A30A-15C38ACC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D742-3B36-4E2F-8B71-63F7CB57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A10E-3CBF-4766-B1E5-B7E37FAC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955F-01EB-421B-8918-03EB722E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B776-49CF-4609-BACF-A23B6539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C62B-D944-4DB3-8AE5-24B32F78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B919-1DDA-4B6F-A7C9-61F23527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717A-400D-4679-8FFE-913810C5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80342-6A5A-4AD5-BC2E-1F49B00A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776EC-651C-4DB9-8F1D-5493F26A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4059-1B48-4C1E-B369-0B6A9EB7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EAE0-6035-4850-B53C-8702FF97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7158-8779-4CBC-8E88-2B594B27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DA710-B28C-44F3-BE51-B59738D2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8240-5C3B-43C2-9B53-2FAFA754B55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B806-896D-43C7-A1EB-59EB4896CF4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Содержимое 5" descr="DSC00902.JPG"/>
          <p:cNvPicPr/>
          <p:nvPr/>
        </p:nvPicPr>
        <p:blipFill>
          <a:blip r:embed="rId1"/>
          <a:stretch/>
        </p:blipFill>
        <p:spPr>
          <a:xfrm>
            <a:off x="642960" y="2714760"/>
            <a:ext cx="4044960" cy="3033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Comic Sans MS"/>
              </a:rPr>
              <a:t>Викторина по сказкам А.С.Пушкина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Прямоугольник 6"/>
          <p:cNvSpPr/>
          <p:nvPr/>
        </p:nvSpPr>
        <p:spPr>
          <a:xfrm>
            <a:off x="5429160" y="5429160"/>
            <a:ext cx="3500640" cy="1143000"/>
          </a:xfrm>
          <a:prstGeom prst="rect">
            <a:avLst/>
          </a:prstGeom>
          <a:gradFill rotWithShape="0">
            <a:gsLst>
              <a:gs pos="0">
                <a:srgbClr val="ff8078"/>
              </a:gs>
              <a:gs pos="100000">
                <a:srgbClr val="ffdad7"/>
              </a:gs>
            </a:gsLst>
            <a:lin ang="16200000"/>
          </a:gradFill>
          <a:ln w="9360">
            <a:solidFill>
              <a:srgbClr val="ff2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00"/>
                </a:solidFill>
                <a:latin typeface="Tahoma"/>
              </a:rPr>
              <a:t>Составила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00"/>
                </a:solidFill>
                <a:latin typeface="Tahoma"/>
              </a:rPr>
              <a:t>Учитель начальных класс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e00"/>
                </a:solidFill>
                <a:latin typeface="Tahoma"/>
              </a:rPr>
              <a:t>Сапогина С.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-4883400"/>
            <a:ext cx="22716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640" y="5445000"/>
            <a:ext cx="5688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казка о попе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 работнике его Балд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12" descr="1731"/>
          <p:cNvPicPr/>
          <p:nvPr/>
        </p:nvPicPr>
        <p:blipFill>
          <a:blip r:embed="rId1"/>
          <a:stretch/>
        </p:blipFill>
        <p:spPr>
          <a:xfrm>
            <a:off x="2050920" y="189000"/>
            <a:ext cx="4872240" cy="53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5734080"/>
            <a:ext cx="878544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азка о царе Салт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 сыне его, славном и могучем богатыре князе Гвидоне Салтановиче и о прекрасной царевне Лебед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10" descr="0007"/>
          <p:cNvPicPr/>
          <p:nvPr/>
        </p:nvPicPr>
        <p:blipFill>
          <a:blip r:embed="rId1"/>
          <a:stretch/>
        </p:blipFill>
        <p:spPr>
          <a:xfrm>
            <a:off x="900000" y="189000"/>
            <a:ext cx="7143840" cy="545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Сказки А.С.Пушкин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рыбаке и рыб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золотом петуш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попе и работнике его Бал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мертвой царевне и семи богатыр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царе Салтане, о сыне его славном и могучем богатыре князе Гвидоне Салтановиче и о прекрасной царевне Лебе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43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л старик со своею старух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самого синего мо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арь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адо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2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ушка подарил Звездочё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 стеречь его границ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3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нязь Гвидо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Царевна Лебед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235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 кого превращался князь Гвидон?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 какой последовательности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ома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мух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шм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9" descr="skaz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92360" y="1484280"/>
          <a:ext cx="4968720" cy="453060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4360"/>
                <a:gridCol w="412560"/>
                <a:gridCol w="414360"/>
                <a:gridCol w="415800"/>
                <a:gridCol w="412920"/>
                <a:gridCol w="414360"/>
                <a:gridCol w="412560"/>
                <a:gridCol w="416160"/>
                <a:gridCol w="412560"/>
                <a:gridCol w="41436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763640" y="1413000"/>
          <a:ext cx="5004000" cy="4530600"/>
        </p:xfrm>
        <a:graphic>
          <a:graphicData uri="http://schemas.openxmlformats.org/drawingml/2006/table">
            <a:tbl>
              <a:tblPr/>
              <a:tblGrid>
                <a:gridCol w="417600"/>
                <a:gridCol w="415800"/>
                <a:gridCol w="417600"/>
                <a:gridCol w="417600"/>
                <a:gridCol w="415800"/>
                <a:gridCol w="419040"/>
                <a:gridCol w="416160"/>
                <a:gridCol w="415800"/>
                <a:gridCol w="417600"/>
                <a:gridCol w="419040"/>
                <a:gridCol w="414360"/>
                <a:gridCol w="417600"/>
              </a:tblGrid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979640" y="1484280"/>
          <a:ext cx="4680000" cy="4530600"/>
        </p:xfrm>
        <a:graphic>
          <a:graphicData uri="http://schemas.openxmlformats.org/drawingml/2006/table">
            <a:tbl>
              <a:tblPr/>
              <a:tblGrid>
                <a:gridCol w="390600"/>
                <a:gridCol w="388800"/>
                <a:gridCol w="390600"/>
                <a:gridCol w="390600"/>
                <a:gridCol w="388800"/>
                <a:gridCol w="392040"/>
                <a:gridCol w="389160"/>
                <a:gridCol w="388800"/>
                <a:gridCol w="390600"/>
                <a:gridCol w="392040"/>
                <a:gridCol w="387360"/>
                <a:gridCol w="39060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63640" y="1557360"/>
          <a:ext cx="4753080" cy="4530600"/>
        </p:xfrm>
        <a:graphic>
          <a:graphicData uri="http://schemas.openxmlformats.org/drawingml/2006/table">
            <a:tbl>
              <a:tblPr/>
              <a:tblGrid>
                <a:gridCol w="397080"/>
                <a:gridCol w="395280"/>
                <a:gridCol w="396720"/>
                <a:gridCol w="395280"/>
                <a:gridCol w="397080"/>
                <a:gridCol w="396720"/>
                <a:gridCol w="395280"/>
                <a:gridCol w="395280"/>
                <a:gridCol w="396720"/>
                <a:gridCol w="397080"/>
                <a:gridCol w="395280"/>
                <a:gridCol w="39528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92360" y="1484280"/>
          <a:ext cx="4897440" cy="4530600"/>
        </p:xfrm>
        <a:graphic>
          <a:graphicData uri="http://schemas.openxmlformats.org/drawingml/2006/table">
            <a:tbl>
              <a:tblPr/>
              <a:tblGrid>
                <a:gridCol w="407880"/>
                <a:gridCol w="407880"/>
                <a:gridCol w="408240"/>
                <a:gridCol w="407880"/>
                <a:gridCol w="407880"/>
                <a:gridCol w="411120"/>
                <a:gridCol w="406440"/>
                <a:gridCol w="408240"/>
                <a:gridCol w="407880"/>
                <a:gridCol w="409680"/>
                <a:gridCol w="406080"/>
                <a:gridCol w="408240"/>
              </a:tblGrid>
              <a:tr h="75420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2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Реши кроссворд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7240"/>
                <a:gridCol w="68436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 gridSpan="4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5" name="Picture 6" descr="v051_400"/>
          <p:cNvPicPr/>
          <p:nvPr/>
        </p:nvPicPr>
        <p:blipFill>
          <a:blip r:embed="rId1"/>
          <a:stretch/>
        </p:blipFill>
        <p:spPr>
          <a:xfrm>
            <a:off x="755640" y="0"/>
            <a:ext cx="460836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508720" y="1599840"/>
            <a:ext cx="3178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.Вруб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аревна Лебед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За морем царевна есть,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что не можно глаз отвесть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58920" y="2204640"/>
            <a:ext cx="72007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циозная              изящная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рупкая                   неж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красная             белоснежн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дая                    неприступ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тная                  царстве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личавая              величественн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Александр Сергеевич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Пушкин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799  –  183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7" descr="488197900"/>
          <p:cNvPicPr/>
          <p:nvPr/>
        </p:nvPicPr>
        <p:blipFill>
          <a:blip r:embed="rId1"/>
          <a:stretch/>
        </p:blipFill>
        <p:spPr>
          <a:xfrm>
            <a:off x="623880" y="1125360"/>
            <a:ext cx="4092480" cy="5005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5280" y="277560"/>
            <a:ext cx="469116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Царевна Лебедь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9" descr="5aa199cede6eeffa159df17b224f60d9"/>
          <p:cNvPicPr/>
          <p:nvPr/>
        </p:nvPicPr>
        <p:blipFill>
          <a:blip r:embed="rId1"/>
          <a:stretch/>
        </p:blipFill>
        <p:spPr>
          <a:xfrm>
            <a:off x="3276720" y="4149720"/>
            <a:ext cx="2997000" cy="1996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lybed"/>
          <p:cNvPicPr/>
          <p:nvPr/>
        </p:nvPicPr>
        <p:blipFill>
          <a:blip r:embed="rId2"/>
          <a:stretch/>
        </p:blipFill>
        <p:spPr>
          <a:xfrm>
            <a:off x="179280" y="3357720"/>
            <a:ext cx="2849760" cy="3500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zdanchuk_03"/>
          <p:cNvPicPr/>
          <p:nvPr/>
        </p:nvPicPr>
        <p:blipFill>
          <a:blip r:embed="rId3"/>
          <a:stretch/>
        </p:blipFill>
        <p:spPr>
          <a:xfrm>
            <a:off x="6516720" y="3357720"/>
            <a:ext cx="2419200" cy="3500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6372"/>
          <p:cNvPicPr/>
          <p:nvPr/>
        </p:nvPicPr>
        <p:blipFill>
          <a:blip r:embed="rId4"/>
          <a:stretch/>
        </p:blipFill>
        <p:spPr>
          <a:xfrm>
            <a:off x="4140360" y="836640"/>
            <a:ext cx="3598560" cy="2379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p47"/>
          <p:cNvPicPr/>
          <p:nvPr/>
        </p:nvPicPr>
        <p:blipFill>
          <a:blip r:embed="rId5"/>
          <a:stretch/>
        </p:blipFill>
        <p:spPr>
          <a:xfrm>
            <a:off x="684360" y="260280"/>
            <a:ext cx="2840040" cy="295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74400" y="-5027040"/>
            <a:ext cx="82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46800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ступил на двор широкой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ам под ёлкою высок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Белка песенку поёт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олотой орех грызёт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зумрудец вынимае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в мешочек опускае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засеян двор больш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Золотою скорлупо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Гости дале торопливо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мотрят-что ж? княгиня – диво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д косой луна блестит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 во лбу звезда горит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 сама-то величава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ыступает, будто пава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свекровь свою ведёт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глядит – и узнает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9280" y="333360"/>
            <a:ext cx="428472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 нём взыграло ретивое!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«Что я вижу? что такое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ак!» - и дух в нём занялся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слезами залился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бнимает он царицу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сынка, и молодицу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садятся все за стол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 весёлый пир пошёл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 ткачиха с поварихой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 сватьей бабой Бабарих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Разбежались по углам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Их нашли насилу там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Тут во всем они признались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Повинились, разрыдались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Царь для радости так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тпустил всех трёх домо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4960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 за   прелесть   эти   сказки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15" descr="131"/>
          <p:cNvPicPr/>
          <p:nvPr/>
        </p:nvPicPr>
        <p:blipFill>
          <a:blip r:embed="rId1"/>
          <a:srcRect l="5411" t="2535" r="6223" b="1170"/>
          <a:stretch/>
        </p:blipFill>
        <p:spPr>
          <a:xfrm>
            <a:off x="684360" y="784080"/>
            <a:ext cx="7832520" cy="6073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4937400"/>
            <a:ext cx="22716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6" descr="28"/>
          <p:cNvPicPr/>
          <p:nvPr/>
        </p:nvPicPr>
        <p:blipFill>
          <a:blip r:embed="rId1"/>
          <a:stretch/>
        </p:blipFill>
        <p:spPr>
          <a:xfrm>
            <a:off x="826920" y="0"/>
            <a:ext cx="7417080" cy="5425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6000" y="5516280"/>
            <a:ext cx="6264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мертвой царевн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семи богатыр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10" descr="infprc2"/>
          <p:cNvPicPr/>
          <p:nvPr/>
        </p:nvPicPr>
        <p:blipFill>
          <a:blip r:embed="rId1"/>
          <a:stretch/>
        </p:blipFill>
        <p:spPr>
          <a:xfrm>
            <a:off x="2484360" y="260280"/>
            <a:ext cx="4029120" cy="5516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92000" y="5876640"/>
            <a:ext cx="5832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зка о золотом петуш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-4883400"/>
            <a:ext cx="298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6" descr="667480673_tonnel"/>
          <p:cNvPicPr/>
          <p:nvPr/>
        </p:nvPicPr>
        <p:blipFill>
          <a:blip r:embed="rId1"/>
          <a:stretch/>
        </p:blipFill>
        <p:spPr>
          <a:xfrm>
            <a:off x="1187280" y="333360"/>
            <a:ext cx="6769440" cy="50547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3280" y="5805000"/>
            <a:ext cx="6121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казка о рыбаке и рыб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4918680"/>
            <a:ext cx="82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6" descr="apple"/>
          <p:cNvPicPr/>
          <p:nvPr/>
        </p:nvPicPr>
        <p:blipFill>
          <a:blip r:embed="rId1"/>
          <a:stretch/>
        </p:blipFill>
        <p:spPr>
          <a:xfrm>
            <a:off x="1187280" y="404640"/>
            <a:ext cx="6769440" cy="5075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02920" y="558972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казка о мёртвой царевне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 семи богатыря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Picture 8" descr="film_2230_09"/>
          <p:cNvPicPr/>
          <p:nvPr/>
        </p:nvPicPr>
        <p:blipFill>
          <a:blip r:embed="rId1"/>
          <a:stretch/>
        </p:blipFill>
        <p:spPr>
          <a:xfrm>
            <a:off x="1042920" y="260280"/>
            <a:ext cx="7274160" cy="54388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47640" y="5805000"/>
            <a:ext cx="6337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казка о золотом петушк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7:43:30Z</dcterms:created>
  <dc:creator>я</dc:creator>
  <dc:description/>
  <dc:language>en-US</dc:language>
  <cp:lastModifiedBy>ПАВЕЛ</cp:lastModifiedBy>
  <dcterms:modified xsi:type="dcterms:W3CDTF">2011-09-25T05:38:55Z</dcterms:modified>
  <cp:revision>25</cp:revision>
  <dc:subject/>
  <dc:title>Пушкин Александр Сергеевич</dc:title>
</cp:coreProperties>
</file>