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8C6-611C-4767-B69C-327832D5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70B-3DED-45D2-A9F2-C8ACCC72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CFC-01E8-46B3-B211-B4265455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6ED4-5B1F-4A02-8D05-2A75BA55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15E4-98BD-4A33-A46D-C67946BB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734E-A366-44ED-ABF2-113AE1DD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8589-8ADD-46B7-B503-9ADE9B82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4CBE-D682-465A-AE8B-65864F46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B9C0-4A2D-4717-B96A-FDAD7BE7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FB5C-2AD9-488B-B186-750FB817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A71-95CF-4650-BBCE-0A53ACF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15C-6220-4196-981D-F4462A7C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754B-44ED-4930-96E9-F1BA75CD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6454-B4A7-43F5-BE5D-737B6AFA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9B77-1372-43A9-BDB9-5AEBE565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0031-3477-407C-B348-96C652FE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979D-9771-48D2-BFFB-54BF6B41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E93-2BDF-4893-86B7-D373B2FF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BA7-3A2B-49FB-AECC-349112BF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977-B9C7-4509-AF7D-CAB4956E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74C-8526-4731-A32B-EA201119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B07-4D6D-46C9-8C79-4F5D8CDE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1A3-332C-43EF-808F-5F8B045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AB4-79B4-43F6-925E-F8FBFC52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AD1E-52C6-4A5E-AE0F-E05AB344CC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0476-D45C-4215-B155-C3F86B62B4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РАБОТА С НИТКАМ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рутюнян С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ница 6 клас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назии № 6 г.Тихорецк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Творческий проект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Я решила делать эту работу, потому что хотела сделать подарок моей сестре на день рождение. Я думаю, что подарок сделанный своими руками приятней чем подарок купленный в магазине. Размышление: Купить это можно недорого. Решение: Буду вяз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)Сделать шаблон.                         2)Нанести шаблон на заготовку.                  3)Связать воздушные петли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)Подготовить инструменты.           2)Сделать шаблон работы.              3)Перенести рисунок на ткань( с помощью мела)                 4)Связать воздушные петли.           5)Приклеить воздушные петли на рисунок заготовленный раннее.      6)Оформить работ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сследование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Picture 14" descr="images"/>
          <p:cNvPicPr/>
          <p:nvPr/>
        </p:nvPicPr>
        <p:blipFill>
          <a:blip r:embed="rId1"/>
          <a:stretch/>
        </p:blipFill>
        <p:spPr>
          <a:xfrm>
            <a:off x="533520" y="3962520"/>
            <a:ext cx="3047760" cy="2666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се варианты красивые , но я свой выбор сделал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15" descr="images (1)"/>
          <p:cNvPicPr/>
          <p:nvPr/>
        </p:nvPicPr>
        <p:blipFill>
          <a:blip r:embed="rId3"/>
          <a:stretch/>
        </p:blipFill>
        <p:spPr>
          <a:xfrm>
            <a:off x="533520" y="1295280"/>
            <a:ext cx="3047760" cy="2590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загруженное"/>
          <p:cNvPicPr/>
          <p:nvPr/>
        </p:nvPicPr>
        <p:blipFill>
          <a:blip r:embed="rId4"/>
          <a:stretch/>
        </p:blipFill>
        <p:spPr>
          <a:xfrm>
            <a:off x="5181480" y="3429000"/>
            <a:ext cx="28195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52280" y="0"/>
          <a:ext cx="8534520" cy="6870600"/>
        </p:xfrm>
        <a:graphic>
          <a:graphicData uri="http://schemas.openxmlformats.org/drawingml/2006/table">
            <a:tbl>
              <a:tblPr/>
              <a:tblGrid>
                <a:gridCol w="2845080"/>
                <a:gridCol w="2844720"/>
                <a:gridCol w="2844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аимено-    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ол-во  в сантиметр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оим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Розовая пряж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елая пряж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5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асная пряж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,5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елёная пряж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Жёлтая пряж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иняя пряж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 с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рючо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 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лан изготовления работы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)Выгладить ткань.                         2)Вырезать шаблон и перенести рисунок на ткань.                                   3)Сделать воздушные петли.           4)Приклеить петли на ткань.           5)Сделать рамочку для воздушных петель.                                                6)Я свяжу изделие в соответствии с планом изготовлении изделия, выполню каждую операцию. Проверю качество работы. Окончательное качество работы проверенно по критерия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амооценка и оцен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цениваю свою работу по критериям выбора идеи изделие.    1)Изготовления изделия соответствует программе по технологии для 7 класса.                2)Расход пряжи небольшой.            3)На сборку изделия ушло немного времени. По-моему, я справилась с поставленной задачей. Теперь пусть оценит моё изделие учит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отовая работ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этом этапе моя работа закончена теперь её будет оценивать учител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44" descr="IMG_4558"/>
          <p:cNvPicPr/>
          <p:nvPr/>
        </p:nvPicPr>
        <p:blipFill>
          <a:blip r:embed="rId2"/>
          <a:stretch/>
        </p:blipFill>
        <p:spPr>
          <a:xfrm>
            <a:off x="776160" y="1371600"/>
            <a:ext cx="37195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3-04-20T17:41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