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B13-9498-43DB-9FAA-9C9BF583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4FD-0430-4BE5-8683-25A6E212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0C9-C101-4C0C-BFDF-F03F997A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059-9474-4B89-A685-7DDFB448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313B-DC8F-4A34-89F6-9C6EED62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EC1D-C7EE-4D3E-B6D6-D3A9D8BD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4091-5635-4B17-B709-2A3AFA11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63D-30BB-4871-BD6B-200FB0D2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17EF-8F7F-480F-9B3A-53C1D765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B87B-8CFB-452E-B18B-B368BBC4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EFC0-336E-480B-A9D9-3C6F589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ABF-9471-4D53-A93D-839591B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17C7-F0DC-420B-9F1C-738C0BC2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4A63-1EA5-4E91-BD22-AAB3C89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4808-0466-4BBE-B310-A4373CA8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BA39-B716-4357-B526-24101A26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1813-452E-4CBF-BB9C-457D9622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6E1-69E5-434A-8BED-AD9325B9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685-6A3B-4C1A-B667-30B880D3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B83-5034-43DE-BA0A-AB0AA3F8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9DF-6707-45FD-A92F-35106EE2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4D5-8F7F-4420-A912-6B2CDBD4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825-FA78-4CD9-A3AE-872CF5F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A33-6315-4DDE-A730-2558ADE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EFA6-8276-48B0-BD32-EADD3A1983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611C-1657-4C46-A37D-D1094F3DF0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АБОТА С НИТКАМ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утюнян С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ница 6 кл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азии № 6 г.Тихорец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ворческий проект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Я решила делать эту работу, потому что хотела сделать подарок моей сестре на день рождение. Я думаю, что подарок сделанный своими руками приятней чем подарок купленный в магазине. Размышление: Купить это можно недорого. Решение: Буду вяз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)Сделать шаблон.                         2)Нанести шаблон на заготовку.                  3)Связать воздушные пет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Подготовить инструменты.           2)Сделать шаблон работы.              3)Перенести рисунок на ткань( с помощью мела)                 4)Связать воздушные петли.           5)Приклеить воздушные петли на рисунок заготовленный раннее.      6)Оформить работ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сследование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Picture 14" descr="images"/>
          <p:cNvPicPr/>
          <p:nvPr/>
        </p:nvPicPr>
        <p:blipFill>
          <a:blip r:embed="rId1"/>
          <a:stretch/>
        </p:blipFill>
        <p:spPr>
          <a:xfrm>
            <a:off x="533520" y="3962520"/>
            <a:ext cx="3047760" cy="2666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арианты красивые , но я свой выбор сделал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15" descr="images (1)"/>
          <p:cNvPicPr/>
          <p:nvPr/>
        </p:nvPicPr>
        <p:blipFill>
          <a:blip r:embed="rId3"/>
          <a:stretch/>
        </p:blipFill>
        <p:spPr>
          <a:xfrm>
            <a:off x="533520" y="1295280"/>
            <a:ext cx="3047760" cy="259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загруженное"/>
          <p:cNvPicPr/>
          <p:nvPr/>
        </p:nvPicPr>
        <p:blipFill>
          <a:blip r:embed="rId4"/>
          <a:stretch/>
        </p:blipFill>
        <p:spPr>
          <a:xfrm>
            <a:off x="5181480" y="342900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280" y="0"/>
          <a:ext cx="8534520" cy="6870600"/>
        </p:xfrm>
        <a:graphic>
          <a:graphicData uri="http://schemas.openxmlformats.org/drawingml/2006/table">
            <a:tbl>
              <a:tblPr/>
              <a:tblGrid>
                <a:gridCol w="2845080"/>
                <a:gridCol w="2844720"/>
                <a:gridCol w="2844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имено-    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л-во  в сантиметр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озова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лая пряж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асна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,5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елёна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ёлта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иня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юч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н изготовления работ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Выгладить ткань.                         2)Вырезать шаблон и перенести рисунок на ткань.                                   3)Сделать воздушные петли.           4)Приклеить петли на ткань.           5)Сделать рамочку для воздушных петель.                                                6)Я свяжу изделие в соответствии с планом изготовлении изделия, выполню каждую операцию. Проверю качество работы. Окончательное качество работы проверенно по критерия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амооценка и оце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цениваю свою работу по критериям выбора идеи изделие.    1)Изготовления изделия соответствует программе по технологии для 7 класса.                2)Расход пряжи небольшой.            3)На сборку изделия ушло немного времени. По-моему, я справилась с поставленной задачей. Теперь пусть оценит моё изделие учи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отовая работ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этом этапе моя работа закончена теперь её будет оценивать учител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44" descr="IMG_4558"/>
          <p:cNvPicPr/>
          <p:nvPr/>
        </p:nvPicPr>
        <p:blipFill>
          <a:blip r:embed="rId2"/>
          <a:stretch/>
        </p:blipFill>
        <p:spPr>
          <a:xfrm>
            <a:off x="776160" y="1371600"/>
            <a:ext cx="37195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3-04-20T17:41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