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24720" cy="33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a452a"/>
                </a:solidFill>
                <a:latin typeface="Cassandra"/>
                <a:ea typeface="Arial Unicode MS"/>
              </a:rPr>
              <a:t>Проект на тему «Достопримечательности города Астрахани. Братский сад.»</a:t>
            </a:r>
            <a:endParaRPr b="0" lang="en-US" sz="5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743200" y="3176280"/>
            <a:ext cx="6400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a452a"/>
                </a:solidFill>
                <a:latin typeface="Calibri"/>
              </a:rPr>
              <a:t>Подготовила: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4a452a"/>
                </a:solidFill>
                <a:latin typeface="Calibri"/>
              </a:rPr>
              <a:t>Вострякова Любовь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4a452a"/>
                </a:solidFill>
                <a:latin typeface="Calibri"/>
              </a:rPr>
              <a:t>(2 В класс)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Примерно в то же время рядом с площадью был разбит прекрасный парк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84360" y="5342400"/>
            <a:ext cx="84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воё время в этом месте прогуливалось светское общество Астрахани, по центру размещалась большая круглая клумба и вечерами играл военный оркес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C:\Users\Ламия\Pictures\Рисунок8.jpg"/>
          <p:cNvPicPr/>
          <p:nvPr/>
        </p:nvPicPr>
        <p:blipFill>
          <a:blip r:embed="rId1"/>
          <a:stretch/>
        </p:blipFill>
        <p:spPr>
          <a:xfrm>
            <a:off x="792000" y="944640"/>
            <a:ext cx="7956720" cy="447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392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В западной части </a:t>
            </a: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Братского садика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, ближе к кремлю, по одной линии с этим монументом, установлен обелиск астраханцам, павшим в годы Великой Отечественной войны, и зажжен Вечный огонь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100" name="Picture 4" descr="C:\Users\Ламия\Pictures\Рисунок9.jpg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91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Недавно парк был реконструирован.</a:t>
            </a:r>
            <a:br>
              <a:rPr sz="3200"/>
            </a:b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   А летом 2008 года в </a:t>
            </a: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Братском садике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 была установлена песочница для самых маленьких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102" name="Picture 4" descr="C:\Users\Ламия\Pictures\Рисунок10.jpg"/>
          <p:cNvPicPr/>
          <p:nvPr/>
        </p:nvPicPr>
        <p:blipFill>
          <a:blip r:embed="rId1"/>
          <a:stretch/>
        </p:blipFill>
        <p:spPr>
          <a:xfrm>
            <a:off x="971640" y="1665360"/>
            <a:ext cx="7164360" cy="478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108000" y="0"/>
            <a:ext cx="324000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Братский садик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 пользуется большой популярностью у горожан, днем здесь гуляют семьями, а вечером собирается молодежь - здесь всегда людно.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104" name="Picture 4" descr="C:\Users\Ламия\Pictures\Рисунок11.jpg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4356000" y="218880"/>
            <a:ext cx="478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того что бы вызвать интерес к изучению  истории достопримечательности, мы подготовили следующий продукт-коллаж. На нем мы отобразили самые основные и интересные мом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:\Users\Ламия\Pictures\Рисунок12.jpg"/>
          <p:cNvPicPr/>
          <p:nvPr/>
        </p:nvPicPr>
        <p:blipFill>
          <a:blip r:embed="rId1"/>
          <a:stretch/>
        </p:blipFill>
        <p:spPr>
          <a:xfrm>
            <a:off x="0" y="0"/>
            <a:ext cx="4211640" cy="438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:\Users\Ламия\Pictures\Рисунок13.jpg"/>
          <p:cNvPicPr/>
          <p:nvPr/>
        </p:nvPicPr>
        <p:blipFill>
          <a:blip r:embed="rId2"/>
          <a:stretch/>
        </p:blipFill>
        <p:spPr>
          <a:xfrm>
            <a:off x="0" y="3213000"/>
            <a:ext cx="4500720" cy="3645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C:\Users\Ламия\Pictures\Рисунок14.jpg"/>
          <p:cNvPicPr/>
          <p:nvPr/>
        </p:nvPicPr>
        <p:blipFill>
          <a:blip r:embed="rId3"/>
          <a:stretch/>
        </p:blipFill>
        <p:spPr>
          <a:xfrm>
            <a:off x="4486320" y="3357720"/>
            <a:ext cx="4657680" cy="350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 rot="20053800">
            <a:off x="196560" y="2682720"/>
            <a:ext cx="8567640" cy="10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6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Проблема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799920"/>
            <a:ext cx="9144000" cy="30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4a452a"/>
                </a:solidFill>
                <a:latin typeface="Calibri"/>
              </a:rPr>
              <a:t>Все и взрослые и дети в свободное время любят погулять. Они гуляют в парках , на площадях, но, к сожалению,  не все могут много рассказать о любимых местах отдыха...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80" name="Picture 5" descr="C:\Users\Ламия\Pictures\Рисунок1.jpg"/>
          <p:cNvPicPr/>
          <p:nvPr/>
        </p:nvPicPr>
        <p:blipFill>
          <a:blip r:embed="rId1"/>
          <a:stretch/>
        </p:blipFill>
        <p:spPr>
          <a:xfrm>
            <a:off x="2376360" y="4010040"/>
            <a:ext cx="4267440" cy="2847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1214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Актуальность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35640" y="1062000"/>
            <a:ext cx="475272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Вне всяких сомнений, выбранный нами проект является актуальным, потому что каждый должен знать,  хотя бы немного , об истории достопремечательности своей малой родины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83" name="Picture 5" descr="C:\Users\Ламия\Pictures\Рисунок2.jpg"/>
          <p:cNvPicPr/>
          <p:nvPr/>
        </p:nvPicPr>
        <p:blipFill>
          <a:blip r:embed="rId1"/>
          <a:stretch/>
        </p:blipFill>
        <p:spPr>
          <a:xfrm>
            <a:off x="0" y="1233360"/>
            <a:ext cx="4932360" cy="468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4920" y="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Цели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8532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4a452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Изучить историю достопримичательности  нашей малой Родины -Братский садик;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4a452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Развивать чувства патриотизма и любви к нашей малой Родине.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a452a"/>
                </a:solidFill>
                <a:latin typeface="Cassandra"/>
              </a:rPr>
              <a:t>Прямо перед Кремлем расположен Братский сад (быв. Губернаторский).</a:t>
            </a:r>
            <a:endParaRPr b="0" lang="en-US" sz="54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87" name="Picture 4" descr="C:\Users\Ламия\Pictures\Рисунок3.jpg"/>
          <p:cNvPicPr/>
          <p:nvPr/>
        </p:nvPicPr>
        <p:blipFill>
          <a:blip r:embed="rId1"/>
          <a:stretch/>
        </p:blipFill>
        <p:spPr>
          <a:xfrm>
            <a:off x="0" y="2241720"/>
            <a:ext cx="9144000" cy="4155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Users\Ламия\Pictures\Рисунок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74872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значально на этом месте располагалась главная площадь Белого города – Торговая, затем она стала Плац-парадной.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А позднее с появлением дома Генерал-Губернатора на одном её крае – Губернаторской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91" name="Picture 4" descr="C:\Users\Ламия\Pictures\Рисунок5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645080" cy="63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В 1884 году на площади был поставлен памятник императору Александру-II, на средства города по проекту архитектора А.М. Опекушина, с тех пор площадь называли Александровской.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93" name="Picture 4" descr="C:\Users\Ламия\Pictures\Рисунок6.jpg"/>
          <p:cNvPicPr/>
          <p:nvPr/>
        </p:nvPicPr>
        <p:blipFill>
          <a:blip r:embed="rId1"/>
          <a:stretch/>
        </p:blipFill>
        <p:spPr>
          <a:xfrm>
            <a:off x="4552920" y="530280"/>
            <a:ext cx="4322880" cy="742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478800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Александр II был изображён на гранитном постаменте в ниспадающей порфире, со свитком. На пьедестале золотом были начертаны слова: "Царю-освободителю", у подножия памятника стояли четыре бронзовых орла.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95" name="Picture 4" descr="C:\Users\Ламия\Pictures\Рисунок7.jpg"/>
          <p:cNvPicPr/>
          <p:nvPr/>
        </p:nvPicPr>
        <p:blipFill>
          <a:blip r:embed="rId1"/>
          <a:stretch/>
        </p:blipFill>
        <p:spPr>
          <a:xfrm>
            <a:off x="4613400" y="0"/>
            <a:ext cx="45306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Ламия</cp:lastModifiedBy>
  <dcterms:modified xsi:type="dcterms:W3CDTF">2013-04-20T17:53:40Z</dcterms:modified>
  <cp:revision>40</cp:revision>
  <dc:subject/>
  <dc:title>Слайд 1</dc:title>
</cp:coreProperties>
</file>