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175-DB64-4852-8932-1171DD38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62C-1CD1-4626-94CF-51B8FE5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EA3-3490-4433-899C-E95ABC40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519-D2AE-4B2E-B89E-684B7E7B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486-072B-4599-A9AD-78EE357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E39-FD62-4AC8-8FB2-57C795E6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4F7-70A8-41A6-AD61-FAF186FD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FE9-8044-4160-8776-DD5EBDC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ABF-5458-4D15-BDD5-27A50C8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0F3-A1D5-4CEC-9870-4C7D47C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552-9F82-4B01-98F0-F455BE0B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7B2-887B-4C73-B81A-FE82D23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6C22-D95E-47D0-813A-A3E94626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205462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24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2" name="Text Box 3"/>
          <p:cNvSpPr/>
          <p:nvPr/>
        </p:nvSpPr>
        <p:spPr>
          <a:xfrm>
            <a:off x="3781080" y="1700280"/>
            <a:ext cx="28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ЗАИМОДЕЙСТВИЕ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ЧИТЕЛЯ-ЛОГОПЕДА И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52960" y="558972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санова Татья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33160" y="616572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 2038 ЗелОУО ДО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0" y="1197000"/>
            <a:ext cx="4067280" cy="2087640"/>
          </a:xfrm>
          <a:prstGeom prst="cloudCallout">
            <a:avLst>
              <a:gd name="adj1" fmla="val 41023"/>
              <a:gd name="adj2" fmla="val 3311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643280" y="1197000"/>
            <a:ext cx="4356360" cy="1655640"/>
          </a:xfrm>
          <a:prstGeom prst="cloudCallout">
            <a:avLst>
              <a:gd name="adj1" fmla="val -29555"/>
              <a:gd name="adj2" fmla="val 4827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4788000" y="4005360"/>
            <a:ext cx="4081320" cy="1846080"/>
          </a:xfrm>
          <a:prstGeom prst="cloudCallout">
            <a:avLst>
              <a:gd name="adj1" fmla="val -50425"/>
              <a:gd name="adj2" fmla="val -8112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67840" y="403560"/>
            <a:ext cx="83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астники коррекционно-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0" y="4365720"/>
            <a:ext cx="4681440" cy="1944720"/>
          </a:xfrm>
          <a:prstGeom prst="cloudCallout">
            <a:avLst>
              <a:gd name="adj1" fmla="val 46541"/>
              <a:gd name="adj2" fmla="val -4256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000160"/>
            <a:ext cx="6750000" cy="43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я и школа в хронологическом ряду связаны формой преемственности, что облегчает непрерывность воспитания и обучения детей. Однако ребёнок – не эстафета, которую передаёт семья в руки педагогов. Важнейшим условием преемственности является установление доверительного делового контакта между семьёй и школой, в ходе которого корректируется воспитательная и обучающая  позиция родителей и педагогов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все специалисты признают важность привлечения родителей к участию в работе детского сада, однако в реальных взаимоотношениях педагогов и родителей существует определенная дисгармо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ья – первая социальная общность, которая закладывает основы личностных качеств ребёнка. В семье он приобретает первоначальный опыт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, чтобы партнёрство учителя-логопеда и семьи было наиболее действенным, необходимо четко определить первоочередные задачи, которые специалист должен умело решать в работе с родителями учащихся-логоп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0" y="1214280"/>
            <a:ext cx="4071960" cy="2570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комство с результатами психолого-педагогического, логопедического об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357880" y="785880"/>
            <a:ext cx="3786120" cy="3289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комство с возрастными особенностями нервно-психического развития, этапами становления детск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143080" y="4000680"/>
            <a:ext cx="5214960" cy="285732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комство с методами коррекционно-развивающего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376640" y="286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онное просвеще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0" y="785880"/>
            <a:ext cx="5143680" cy="29988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лечение родителей к активному участию в коррекционном процессе по преодолению речевого дефекта у ребенка или нарушения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5357880" y="785880"/>
            <a:ext cx="3786120" cy="2857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 родителей приемам коррекционно-развивающей работы с ребенком-логоп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71800" y="4000680"/>
            <a:ext cx="5214960" cy="285732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у родителей и детей представления о готовности к обучению в школе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1876320" y="28692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ающее просвеще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0" y="785880"/>
            <a:ext cx="5143680" cy="2714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Трансляция родителям положительного образа ребенка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огопед никогда не жалуется на ребенка. Даже если он что-то натворил. Беседа проходит под девизом: "Ваш ребенок лучше всех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4143240" y="642960"/>
            <a:ext cx="5000760" cy="300024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Трансляция родителям знаний о ребенке, которых они бы не могли получить в семье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огопед сообщает об успехах и развитии ученика, особенностях общения его с другими детьми, результатах учеб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357800" y="3929040"/>
            <a:ext cx="5000400" cy="292896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Ознакомление логопеда с проблем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мьи в воспитании и обучении ребенка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Здесь активная роль принадлежит родителям, логопед только поддерживает диалог. Не давая оценочных су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71680" y="-1803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взаимодействия учителя-логопеда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родителями  (по В.А.Петровск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-357120" y="3571920"/>
            <a:ext cx="5357880" cy="328608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овместное исследование и формирование личности ребенка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олько теперь логопед, завоевавший доверие родителей при успешном проведении предыдущих этапов, может начинать осторожно давать советы родител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0" y="1214280"/>
            <a:ext cx="4071960" cy="2570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седы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719680" y="785880"/>
            <a:ext cx="3424320" cy="3289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мо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ий              Тетрадь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ашних заданий (Д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143080" y="4000680"/>
            <a:ext cx="5214960" cy="285732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иски- рекоменд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нет-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1310400" y="3240"/>
            <a:ext cx="68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влечение родителей в  образовательн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опун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индивидуальные формы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0" y="1214280"/>
            <a:ext cx="4071960" cy="2570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ьские собр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ульт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719680" y="785880"/>
            <a:ext cx="3424320" cy="3289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блиотека иг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жнений Виде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857240" y="3786120"/>
            <a:ext cx="5214960" cy="285768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овые  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309680" y="3240"/>
            <a:ext cx="68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влечение родителей в  образовательное 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опун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ллективные формы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5976720" cy="46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чь - один из наиболее мощных факторов и стимулов развития ребёнка. Это обусловлено исключительной ролью, которую она играет в жизни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тесный контакт и доверительные отношения с родителями обучающихся на логопункте, способствует уменьшению детей-логопатов в начальной школе и дошкольном отде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0" y="1197000"/>
            <a:ext cx="4211640" cy="2303280"/>
          </a:xfrm>
          <a:prstGeom prst="cloudCallout">
            <a:avLst>
              <a:gd name="adj1" fmla="val 37902"/>
              <a:gd name="adj2" fmla="val 253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ИЕНТИРОВОЧНЫЙ ЭТАП – изучение медицинской документации и карт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4643280" y="1197000"/>
            <a:ext cx="4356360" cy="2138400"/>
          </a:xfrm>
          <a:prstGeom prst="cloudCallout">
            <a:avLst>
              <a:gd name="adj1" fmla="val -29555"/>
              <a:gd name="adj2" fmla="val 260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ОБСЛЕДОВАНИЯ  РЕЧЕВОЙ  И   ПОЗНА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908000" y="3573360"/>
            <a:ext cx="5162760" cy="2565360"/>
          </a:xfrm>
          <a:prstGeom prst="cloudCallout">
            <a:avLst>
              <a:gd name="adj1" fmla="val 4060"/>
              <a:gd name="adj2" fmla="val -443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 ДИНАМИЧЕСКОГО НАБЛЮДЕНИЯ ЗА  РЕБЕНКОМ  В   ПРОЦЕССЕ  ОБУЧЕНИЯ  И  УТОЧНЕНИЯ  ЛОГОПЕДИЧЕСКОГО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1983240" y="40356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гопедическое об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1280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 логопедический пункт СОШ зачисляются обучающиеся, имеющие нарушения в развитии устной и письменной реч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дном язы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щее недоразвитие речи разной степени выраженност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етико-фонематическое недоразвитие речи; фонематическое недоразвитие речи, фонетический дефек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ую очередь на логопункт зачисляются обучающиеся, имеющие нарушения в развитии устной и письменной речи, препятствующие их успешному осво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образовательных программ (дети с общим, фонетико-фонематическим и фонематическим недоразвитием реч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4"/>
          <p:cNvSpPr/>
          <p:nvPr/>
        </p:nvSpPr>
        <p:spPr>
          <a:xfrm>
            <a:off x="-396720" y="765000"/>
            <a:ext cx="6048360" cy="5688360"/>
          </a:xfrm>
          <a:prstGeom prst="cloudCallout">
            <a:avLst>
              <a:gd name="adj1" fmla="val 13597"/>
              <a:gd name="adj2" fmla="val -1824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шибки, обусловленные нарушением фонематического восприят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Замены и смеш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лухих – звонки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сильной позиции согласного звука)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деди» (дети), «сима»  (зима), «клупок» (клубок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вёрдых – мягки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ебёнок не различает твёрдые - мягкие согласные и не умеет обозначать их мягкость на письм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конки» (коньки), «пен» (пень), «патка» (пятк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днеязычны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-х, г-х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мохнуть» (мокнуть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истящих – шипящи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-ш, з-ж, с’-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скола» (школа), «нещёт» (несё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ффрикат и их компон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-ч, ч-т’, ч-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веты» (цветы), «тетёт» (течё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норны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-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опата» (лопата), «мороток» (молоток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мешение лабиализованных 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-у, ё-ю);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лудка» (лодка), «тюплый» (тёпл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5867280" y="1052640"/>
            <a:ext cx="3492720" cy="2376360"/>
          </a:xfrm>
          <a:prstGeom prst="cloudCallout">
            <a:avLst>
              <a:gd name="adj1" fmla="val -49226"/>
              <a:gd name="adj2" fmla="val 18472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шибки звукового анализа и синтеза (пропуски, вставки, перестанов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ишёл» (пришёл), «акать» (лакать), «рябна» (ряби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кинга» (книга), «лимана» (малина); «весена» (вес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5076720" y="3933720"/>
            <a:ext cx="4067280" cy="2492640"/>
          </a:xfrm>
          <a:prstGeom prst="cloudCallout">
            <a:avLst>
              <a:gd name="adj1" fmla="val 898"/>
              <a:gd name="adj2" fmla="val -4713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шибки в написании графически сходных бу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о-е, с-е, у-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и-у, п-т, м-л, б-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ркальност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1262520" y="40356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ецифические логопедически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060640"/>
            <a:ext cx="65358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логопедический пункт  Д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числяются  воспитанники,   имеющие нарушения в развитии устной реч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дном язык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фонетико-фонематическое недоразвитие речи; фонематическое недоразвитие речи, фонетические дефекты).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42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658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личество детей - логопатов в начальной школ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0" y="2635200"/>
          <a:ext cx="6408720" cy="42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35200"/>
                    <a:ext cx="64087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6535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 детей – логопатов по логопедическим заключения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79280" y="2637000"/>
          <a:ext cx="6288120" cy="40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37000"/>
                    <a:ext cx="628812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7327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логопе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250920" y="2852640"/>
          <a:ext cx="5543280" cy="36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852640"/>
                    <a:ext cx="554328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0:03:04Z</dcterms:created>
  <dc:creator>13-10</dc:creator>
  <dc:description/>
  <dc:language>en-US</dc:language>
  <cp:lastModifiedBy>Admin</cp:lastModifiedBy>
  <dcterms:modified xsi:type="dcterms:W3CDTF">2013-04-20T10:42:25Z</dcterms:modified>
  <cp:revision>19</cp:revision>
  <dc:subject/>
  <dc:title>ПРОБЛЕМЫ ВЗАИМОДЕЙСТВИЯ  СЕМЬИ И ШКОЛЫ</dc:title>
</cp:coreProperties>
</file>