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3.png" ContentType="image/png"/>
  <Override PartName="/ppt/media/image17.jpeg" ContentType="image/jpeg"/>
  <Override PartName="/ppt/media/image27.jpeg" ContentType="image/jpeg"/>
  <Override PartName="/ppt/media/image6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12.jpeg" ContentType="image/jpeg"/>
  <Override PartName="/ppt/media/image4.png" ContentType="image/png"/>
  <Override PartName="/ppt/media/image13.jpeg" ContentType="image/jpeg"/>
  <Override PartName="/ppt/media/image19.jpeg" ContentType="image/jpeg"/>
  <Override PartName="/ppt/media/image28.jpeg" ContentType="image/jpeg"/>
  <Override PartName="/ppt/media/image30.jpeg" ContentType="image/jpeg"/>
  <Override PartName="/ppt/media/image24.jpeg" ContentType="image/jpeg"/>
  <Override PartName="/ppt/media/image11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9639-5DCD-45F6-BB40-D1940066A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F020-70AA-4BFD-9957-B6EE28A7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9C04-15C3-4159-8110-373CD7F51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C9F3-58AC-460B-B090-C3DFF6371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3B83-8F34-4CC5-B7B8-4D603068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34A6-96A7-4D6B-9024-C621F146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A2F5-2AA8-4BD8-A15E-50F8EB9E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B511-C5F4-4B97-8410-46F3EF1A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57E4-A373-43C4-9B74-05D2B799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F5E7-040D-441D-BBF6-771192E4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5511-ADD6-423C-A01D-EC76A34C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3DA3-2066-4815-930D-916BF3CD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98BE-D41D-4F3D-B0DD-7BA7C79E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328E-D51E-448F-A430-494B5B52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5D30-0156-4B95-B956-924C93FE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6809-AE77-48AB-8198-2447B8D4B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DE88-E832-4129-92B6-257DDC066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C49F-0C9E-4C28-A368-BD54AFE7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FDD7-8A92-47D3-87A8-098D9128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BBAA-FF12-41BF-BF77-C063BA9B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1C31-A563-4385-9835-F41334A6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33B0-7E39-4B4B-8F45-4655BF63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F8BC-1FBC-4D7F-B0E7-161C19EE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3B4A-DD94-4AFC-801B-C6E19CB6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331D-4DF2-495B-B34D-9409E8033C5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28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2880"/>
              <a:ext cx="1203120" cy="685476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2680"/>
                <a:chOff x="8381880" y="360"/>
                <a:chExt cx="762120" cy="227268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0560" y="360"/>
                  <a:ext cx="279360" cy="275400"/>
                  <a:chOff x="871056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0560" y="360"/>
                    <a:ext cx="279360" cy="275400"/>
                    <a:chOff x="871056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944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880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0080" y="1324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384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476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424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0080" y="19440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8600" y="16956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14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06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2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2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2360"/>
                <a:ext cx="828720" cy="4707360"/>
                <a:chOff x="7848720" y="1602360"/>
                <a:chExt cx="828720" cy="470736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2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60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4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7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4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5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7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72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9320"/>
              <a:ext cx="1190520" cy="1938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560"/>
              <a:ext cx="1219320" cy="1999080"/>
            </a:xfrm>
            <a:prstGeom prst="pie">
              <a:avLst/>
            </a:pr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9520"/>
              <a:ext cx="1231920" cy="4034880"/>
            </a:xfrm>
            <a:prstGeom prst="pie">
              <a:avLst/>
            </a:pr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9880"/>
              <a:ext cx="979560" cy="218340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9840"/>
              <a:ext cx="914400" cy="504576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4960"/>
              <a:ext cx="909720" cy="306972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2880"/>
              <a:ext cx="576360" cy="33508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4320"/>
              <a:ext cx="300240" cy="3351240"/>
            </a:xfrm>
            <a:prstGeom prst="pie">
              <a:avLst/>
            </a:pr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4320"/>
              <a:ext cx="88920" cy="68547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5760" y="3317400"/>
              <a:ext cx="6854760" cy="22536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5240-912A-4AD1-A7D8-ABBDFBE0D66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&#1082;&#1083;&#1080;&#1087;%20&#1084;&#1072;&#1084;&#1072;.wmv" TargetMode="External"/><Relationship Id="rId3" Type="http://schemas.openxmlformats.org/officeDocument/2006/relationships/image" Target="../media/image3.png"/><Relationship Id="rId4" Type="http://schemas.openxmlformats.org/officeDocument/2006/relationships/hyperlink" Target="file:///&#1055;&#1088;&#1077;&#1082;&#1088;&#1072;&#1089;&#1085;&#1099;&#1081;%20&#1084;&#1080;&#1088;.wmv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32780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0605a"/>
                </a:solidFill>
                <a:latin typeface="Arial"/>
              </a:rPr>
              <a:t>Урок изобразительного искусства</a:t>
            </a:r>
            <a:endParaRPr b="0" lang="en-US" sz="54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193" name="Picture 5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250920" y="3068640"/>
            <a:ext cx="4249800" cy="2881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Нажмите, чтобы посмотреть в полный размер"/>
          <p:cNvPicPr/>
          <p:nvPr/>
        </p:nvPicPr>
        <p:blipFill>
          <a:blip r:embed="rId2"/>
          <a:stretch/>
        </p:blipFill>
        <p:spPr>
          <a:xfrm>
            <a:off x="4284720" y="3716280"/>
            <a:ext cx="4151160" cy="2781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Нажмите, чтобы посмотреть в полный размер"/>
          <p:cNvPicPr/>
          <p:nvPr/>
        </p:nvPicPr>
        <p:blipFill>
          <a:blip r:embed="rId3"/>
          <a:stretch/>
        </p:blipFill>
        <p:spPr>
          <a:xfrm>
            <a:off x="6227640" y="189000"/>
            <a:ext cx="253224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2491920"/>
            <a:ext cx="680868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1c177"/>
                </a:solidFill>
                <a:uFillTx/>
                <a:latin typeface="Arial"/>
                <a:hlinkClick r:id="rId2"/>
              </a:rPr>
              <a:t>М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1c177"/>
                </a:solidFill>
                <a:uFillTx/>
                <a:latin typeface="Arial"/>
                <a:hlinkClick r:id="rId4"/>
              </a:rPr>
              <a:t>Ми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anastasia 1.jpg"/>
          <p:cNvPicPr/>
          <p:nvPr/>
        </p:nvPicPr>
        <p:blipFill>
          <a:blip r:embed="rId5"/>
          <a:stretch/>
        </p:blipFill>
        <p:spPr>
          <a:xfrm>
            <a:off x="3132000" y="836640"/>
            <a:ext cx="3959280" cy="5430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«Почитай отца твоего и мать твою, чтобы тебе было хорошо, и чтобы продлились дни твои на земле…»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33" name="Рисунок 3" descr="Valaamskaya.jpg"/>
          <p:cNvPicPr/>
          <p:nvPr/>
        </p:nvPicPr>
        <p:blipFill>
          <a:blip r:embed="rId1"/>
          <a:stretch/>
        </p:blipFill>
        <p:spPr>
          <a:xfrm>
            <a:off x="684360" y="2565360"/>
            <a:ext cx="2735280" cy="413064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4" descr="ТСЛ D_i6.jpg"/>
          <p:cNvPicPr/>
          <p:nvPr/>
        </p:nvPicPr>
        <p:blipFill>
          <a:blip r:embed="rId2"/>
          <a:stretch/>
        </p:blipFill>
        <p:spPr>
          <a:xfrm>
            <a:off x="4356000" y="2060640"/>
            <a:ext cx="27511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605a"/>
                </a:solidFill>
                <a:latin typeface="Arial"/>
              </a:rPr>
              <a:t>Используемая литература:</a:t>
            </a:r>
            <a:br>
              <a:rPr sz="2800"/>
            </a:b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тинки и клипы из ресурсов Интерн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елянин Е. Земная жизнь Богомат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одубцев О.В. Церковное искусство  Русской Церкви с крещения до наших д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605a"/>
                </a:solidFill>
                <a:latin typeface="Arial"/>
              </a:rPr>
              <a:t>Тема урока: «Материнство»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197" name="Picture 5" descr="anastasia 1.jpg"/>
          <p:cNvPicPr/>
          <p:nvPr/>
        </p:nvPicPr>
        <p:blipFill>
          <a:blip r:embed="rId1"/>
          <a:stretch/>
        </p:blipFill>
        <p:spPr>
          <a:xfrm>
            <a:off x="1979640" y="1125360"/>
            <a:ext cx="3960720" cy="5430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115920"/>
            <a:ext cx="7650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кона «Владимирская Богоматерь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ІІ ве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img_8_15_1_0"/>
          <p:cNvPicPr/>
          <p:nvPr/>
        </p:nvPicPr>
        <p:blipFill>
          <a:blip r:embed="rId1"/>
          <a:stretch/>
        </p:blipFill>
        <p:spPr>
          <a:xfrm>
            <a:off x="1332000" y="692280"/>
            <a:ext cx="4394160" cy="5905440"/>
          </a:xfrm>
          <a:prstGeom prst="rect">
            <a:avLst/>
          </a:prstGeom>
          <a:ln w="0">
            <a:noFill/>
          </a:ln>
        </p:spPr>
      </p:pic>
      <p:pic>
        <p:nvPicPr>
          <p:cNvPr id="200" name="3 Богородице Дево.mp3" descr=""/>
          <p:cNvPicPr/>
          <p:nvPr/>
        </p:nvPicPr>
        <p:blipFill>
          <a:blip r:embed="rId2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77975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140000" y="1125360"/>
            <a:ext cx="36716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обращается каждая мама к Царице Небесной, Пресвятой Богородице, Матери Бога нашего Иисуса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JoomlaWorks Simple Image Rotator"/>
          <p:cNvPicPr/>
          <p:nvPr/>
        </p:nvPicPr>
        <p:blipFill>
          <a:blip r:embed="rId1"/>
          <a:stretch/>
        </p:blipFill>
        <p:spPr>
          <a:xfrm>
            <a:off x="468360" y="1844640"/>
            <a:ext cx="3727440" cy="4680000"/>
          </a:xfrm>
          <a:prstGeom prst="rect">
            <a:avLst/>
          </a:prstGeom>
          <a:ln w="0">
            <a:noFill/>
          </a:ln>
        </p:spPr>
      </p:pic>
      <p:sp>
        <p:nvSpPr>
          <p:cNvPr id="203" name="TextBox 5"/>
          <p:cNvSpPr/>
          <p:nvPr/>
        </p:nvSpPr>
        <p:spPr>
          <a:xfrm>
            <a:off x="468360" y="115920"/>
            <a:ext cx="68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Пресвятая, Богородица, защити моего ребёнка, помоги ему, молю Тебя!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5157720"/>
            <a:ext cx="788508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ществует великое множество икон Пресвятой Богородицы, через которые Она и раньше, и поныне являла и являет великие чудеса и милости. Церковь чтит около 800 образов Пресвятой Девы Марии.</a:t>
            </a:r>
            <a:endParaRPr b="0" lang="en-US" sz="20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05" name="Picture 22" descr="Икона Иверская Божья Матерь"/>
          <p:cNvPicPr/>
          <p:nvPr/>
        </p:nvPicPr>
        <p:blipFill>
          <a:blip r:embed="rId1"/>
          <a:stretch/>
        </p:blipFill>
        <p:spPr>
          <a:xfrm>
            <a:off x="1908000" y="0"/>
            <a:ext cx="2448000" cy="3068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4" descr="Икона Донская Божья Матерь"/>
          <p:cNvPicPr/>
          <p:nvPr/>
        </p:nvPicPr>
        <p:blipFill>
          <a:blip r:embed="rId2"/>
          <a:stretch/>
        </p:blipFill>
        <p:spPr>
          <a:xfrm>
            <a:off x="4067280" y="0"/>
            <a:ext cx="2232000" cy="2881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0" descr="Икона Смоленская Божья Матерь"/>
          <p:cNvPicPr/>
          <p:nvPr/>
        </p:nvPicPr>
        <p:blipFill>
          <a:blip r:embed="rId3"/>
          <a:stretch/>
        </p:blipFill>
        <p:spPr>
          <a:xfrm>
            <a:off x="0" y="2565360"/>
            <a:ext cx="2484360" cy="2808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2" descr="Икона Черниговская Божья Матерь"/>
          <p:cNvPicPr/>
          <p:nvPr/>
        </p:nvPicPr>
        <p:blipFill>
          <a:blip r:embed="rId4"/>
          <a:stretch/>
        </p:blipFill>
        <p:spPr>
          <a:xfrm>
            <a:off x="2268360" y="2565360"/>
            <a:ext cx="2303640" cy="2736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4" descr="Икона Утоли моя печали"/>
          <p:cNvPicPr/>
          <p:nvPr/>
        </p:nvPicPr>
        <p:blipFill>
          <a:blip r:embed="rId5"/>
          <a:stretch/>
        </p:blipFill>
        <p:spPr>
          <a:xfrm>
            <a:off x="0" y="0"/>
            <a:ext cx="2124000" cy="2781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6" descr="Икона Ватопедская Божья Матерь (Отрада и Утешение)"/>
          <p:cNvPicPr/>
          <p:nvPr/>
        </p:nvPicPr>
        <p:blipFill>
          <a:blip r:embed="rId6"/>
          <a:stretch/>
        </p:blipFill>
        <p:spPr>
          <a:xfrm>
            <a:off x="4427640" y="2637000"/>
            <a:ext cx="1944720" cy="25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0" descr="Икона Достойно есть"/>
          <p:cNvPicPr/>
          <p:nvPr/>
        </p:nvPicPr>
        <p:blipFill>
          <a:blip r:embed="rId7"/>
          <a:stretch/>
        </p:blipFill>
        <p:spPr>
          <a:xfrm>
            <a:off x="6156360" y="0"/>
            <a:ext cx="2160720" cy="2808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2" descr="Икона Нечаянная радость"/>
          <p:cNvPicPr/>
          <p:nvPr/>
        </p:nvPicPr>
        <p:blipFill>
          <a:blip r:embed="rId8"/>
          <a:stretch/>
        </p:blipFill>
        <p:spPr>
          <a:xfrm>
            <a:off x="6300720" y="2565360"/>
            <a:ext cx="2016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Какие бывают типы портретов?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грудный портр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Ляховецкая Светлана. Счастье"/>
          <p:cNvPicPr/>
          <p:nvPr/>
        </p:nvPicPr>
        <p:blipFill>
          <a:blip r:embed="rId2"/>
          <a:stretch/>
        </p:blipFill>
        <p:spPr>
          <a:xfrm>
            <a:off x="250920" y="2201760"/>
            <a:ext cx="3529080" cy="43243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Сидоренко Жанна. портрет малышки"/>
          <p:cNvPicPr/>
          <p:nvPr/>
        </p:nvPicPr>
        <p:blipFill>
          <a:blip r:embed="rId3"/>
          <a:stretch/>
        </p:blipFill>
        <p:spPr>
          <a:xfrm>
            <a:off x="3995640" y="2187720"/>
            <a:ext cx="3527640" cy="4336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768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768" fill="hold"/>
                                        <p:tgtEl>
                                          <p:spTgt spid="2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" dur="768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768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998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Какие бывают типы портретов?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реты во весь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Панина Кира. Устал..."/>
          <p:cNvPicPr/>
          <p:nvPr/>
        </p:nvPicPr>
        <p:blipFill>
          <a:blip r:embed="rId2"/>
          <a:stretch/>
        </p:blipFill>
        <p:spPr>
          <a:xfrm>
            <a:off x="395280" y="1968480"/>
            <a:ext cx="3456000" cy="46292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Долгополова Елена. Снежинка. этюд. (эскиз)"/>
          <p:cNvPicPr/>
          <p:nvPr/>
        </p:nvPicPr>
        <p:blipFill>
          <a:blip r:embed="rId3"/>
          <a:stretch/>
        </p:blipFill>
        <p:spPr>
          <a:xfrm>
            <a:off x="4067280" y="1989000"/>
            <a:ext cx="3386160" cy="460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68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68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68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68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998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Какие бывают типы портретов?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реты голо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" descr="Песчаная Ольга. Сережа"/>
          <p:cNvPicPr/>
          <p:nvPr/>
        </p:nvPicPr>
        <p:blipFill>
          <a:blip r:embed="rId2"/>
          <a:stretch/>
        </p:blipFill>
        <p:spPr>
          <a:xfrm>
            <a:off x="4140360" y="2276640"/>
            <a:ext cx="3528720" cy="4321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Навродская-Грюнвальд Мила. &quot;Цветочек&quot;"/>
          <p:cNvPicPr/>
          <p:nvPr/>
        </p:nvPicPr>
        <p:blipFill>
          <a:blip r:embed="rId3"/>
          <a:stretch/>
        </p:blipFill>
        <p:spPr>
          <a:xfrm>
            <a:off x="250920" y="2276640"/>
            <a:ext cx="3744720" cy="4294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68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768" fill="hold"/>
                                        <p:tgtEl>
                                          <p:spTgt spid="2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" dur="768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" dur="768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998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Какие бывают типы портретов?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реты по поя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Лесохина Любовь. И поёт мне в землянке гармонь про улыбку твою и глаза..."/>
          <p:cNvPicPr/>
          <p:nvPr/>
        </p:nvPicPr>
        <p:blipFill>
          <a:blip r:embed="rId2"/>
          <a:stretch/>
        </p:blipFill>
        <p:spPr>
          <a:xfrm>
            <a:off x="250920" y="1844640"/>
            <a:ext cx="3424320" cy="4749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Макаров Антон. Петербурженки"/>
          <p:cNvPicPr/>
          <p:nvPr/>
        </p:nvPicPr>
        <p:blipFill>
          <a:blip r:embed="rId3"/>
          <a:stretch/>
        </p:blipFill>
        <p:spPr>
          <a:xfrm>
            <a:off x="3851280" y="1844640"/>
            <a:ext cx="3720960" cy="4753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998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11:19:19Z</dcterms:created>
  <dc:creator>Елена</dc:creator>
  <dc:description/>
  <dc:language>en-US</dc:language>
  <cp:lastModifiedBy>User</cp:lastModifiedBy>
  <dcterms:modified xsi:type="dcterms:W3CDTF">2013-03-15T03:28:13Z</dcterms:modified>
  <cp:revision>15</cp:revision>
  <dc:subject/>
  <dc:title>Тема урока: «Материнство»</dc:title>
</cp:coreProperties>
</file>