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CA41-4EB3-436A-9A6E-A1A6F84D0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EDE9-EB24-4C6B-8EDA-9ED20FD5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FEBA-823F-430F-BC0F-7077A17B3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008C-7A6D-4D4D-90EE-A52F7B780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6414-FB2E-47EC-A670-23242452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4123-BB25-466F-88A8-D34D49A4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8BDB-867F-4BCF-9A4C-EC5E4C8C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7EBD-D956-4D2C-959B-7EE04279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4FA4-187B-452A-891A-8A3DED85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8072-8DFC-4632-BBDA-509A2119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6CC8-F69D-45DD-A8A3-950AA320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9B27-A787-4F50-B40B-315B782B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0095-6E88-4BE7-A652-C9910235E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hyperlink" Target="http://barguzinskiy.ru/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barguzinskiy.ru/" TargetMode="External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3.jpeg"/><Relationship Id="rId11" Type="http://schemas.openxmlformats.org/officeDocument/2006/relationships/image" Target="../media/image34.jpeg"/><Relationship Id="rId12" Type="http://schemas.openxmlformats.org/officeDocument/2006/relationships/hyperlink" Target="http://barguzinskiy.ru/" TargetMode="External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barguzinskiy.ru/var/custom/Image/map2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5640" y="22521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Monotype Corsiva"/>
              </a:rPr>
              <a:t>Государственный природный биосферный заповедник </a:t>
            </a:r>
            <a:r>
              <a:rPr b="1" lang="ru-RU" sz="5400" spc="-1" strike="noStrike">
                <a:solidFill>
                  <a:srgbClr val="3333cc"/>
                </a:solidFill>
                <a:latin typeface="Monotype Corsiva"/>
              </a:rPr>
              <a:t>«Баргузинский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421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4292640"/>
            <a:ext cx="9144000" cy="2565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0" t="3615" r="85098" b="3862"/>
          <a:stretch/>
        </p:blipFill>
        <p:spPr>
          <a:xfrm>
            <a:off x="0" y="2421000"/>
            <a:ext cx="1835280" cy="1871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211640" y="0"/>
            <a:ext cx="424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Автор: Козловский Роман, 12 л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ученик 6В класса МБО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«СОШ №32» г. Брат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Руководитель: Козловская В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00"/>
                </a:solidFill>
                <a:latin typeface="Monotype Corsiva"/>
              </a:rPr>
              <a:t>Фло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6000" y="6105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илия кудрева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Цветет лилия кудреватая. Водопад на р. Бударман. (Фото Е.А. Дарижапова)"/>
          <p:cNvPicPr/>
          <p:nvPr/>
        </p:nvPicPr>
        <p:blipFill>
          <a:blip r:embed="rId2"/>
          <a:stretch/>
        </p:blipFill>
        <p:spPr>
          <a:xfrm>
            <a:off x="611280" y="1052640"/>
            <a:ext cx="7921440" cy="5155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Горечавка холодная на перевале из р. Кудалкан в р. Кудалды. (Фото Е.А. Дарижапова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1052640"/>
            <a:ext cx="7921440" cy="5640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39640" y="6060960"/>
            <a:ext cx="822960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Горечавка холод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Золотистый рододендрон на перевале из р. Давша в р. Правый Таркулик. (Фото Е.А. Дарижапова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8360" y="1081080"/>
            <a:ext cx="8532720" cy="5587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39640" y="6105600"/>
            <a:ext cx="82296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Золотистый рододендр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250920" y="987480"/>
            <a:ext cx="8820000" cy="5610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050920" y="6021360"/>
            <a:ext cx="561672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Башмачок известняко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179280" y="981000"/>
            <a:ext cx="8856720" cy="5803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8360" y="6176880"/>
            <a:ext cx="82296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брус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108000" y="981000"/>
            <a:ext cx="8964720" cy="5756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340000" y="6105600"/>
            <a:ext cx="525636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Кувшинка чисто-бел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Меандр на р. Большая (Фото Х. Махгута)"/>
          <p:cNvPicPr/>
          <p:nvPr/>
        </p:nvPicPr>
        <p:blipFill>
          <a:blip r:embed="rId10"/>
          <a:stretch/>
        </p:blipFill>
        <p:spPr>
          <a:xfrm>
            <a:off x="179280" y="928800"/>
            <a:ext cx="8893440" cy="5929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84360" y="6021360"/>
            <a:ext cx="82296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Меандр на реке Большая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(речная излучин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0920" y="333360"/>
            <a:ext cx="73454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Источник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фициальный сайт Баргузинского заповедника: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barguzinskiy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кипедиЯ. Свободная энциклопед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500"/>
                            </p:stCondLst>
                            <p:childTnLst>
                              <p:par>
                                <p:cTn id="17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000"/>
                            </p:stCondLst>
                            <p:childTnLst>
                              <p:par>
                                <p:cTn id="182" nodeType="afterEffect" fill="hold" presetClass="entr" presetID="21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0" nodeType="afterEffect" fill="hold" presetClass="entr" presetID="21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500"/>
                            </p:stCondLst>
                            <p:childTnLst>
                              <p:par>
                                <p:cTn id="19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8" nodeType="afterEffect" fill="hold" presetClass="entr" presetID="21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0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9500"/>
                            </p:stCondLst>
                            <p:childTnLst>
                              <p:par>
                                <p:cTn id="202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6" nodeType="afterEffect" fill="hold" presetClass="entr" presetID="21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0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5000"/>
                            </p:stCondLst>
                            <p:childTnLst>
                              <p:par>
                                <p:cTn id="210" nodeType="after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9000"/>
                            </p:stCondLst>
                            <p:childTnLst>
                              <p:par>
                                <p:cTn id="2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9500"/>
                            </p:stCondLst>
                            <p:childTnLst>
                              <p:par>
                                <p:cTn id="221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2500"/>
                            </p:stCondLst>
                            <p:childTnLst>
                              <p:par>
                                <p:cTn id="225" nodeType="after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6500"/>
                            </p:stCondLst>
                            <p:childTnLst>
                              <p:par>
                                <p:cTn id="2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7000"/>
                            </p:stCondLst>
                            <p:childTnLst>
                              <p:par>
                                <p:cTn id="2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3280" y="0"/>
            <a:ext cx="414036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Comic Sans MS"/>
              </a:rPr>
              <a:t>Баргузинский заповед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Баргузинский заповедник. Снимок из космоса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404640"/>
            <a:ext cx="4956120" cy="5545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148360" y="1989000"/>
            <a:ext cx="399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ощадь заповедника — 374 322 гектаров, в том числе 15 000 гектаров составляет заповедная аквато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omic Sans MS"/>
              </a:rPr>
              <a:t>Баргузинский заповедник</a:t>
            </a:r>
            <a:br>
              <a:rPr sz="3200"/>
            </a:br>
            <a:r>
              <a:rPr b="1" lang="ru-RU" sz="3200" spc="-1" strike="noStrike">
                <a:solidFill>
                  <a:srgbClr val="3333cc"/>
                </a:solidFill>
                <a:latin typeface="Comic Sans MS"/>
              </a:rPr>
              <a:t>В краю кристальных вод, тайги и соболей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верное, вряд ли найдётся в России человек, который бы ничего не слышал о Байкале. Самое древнее на планете озеро, самое глубокое, самое чистое, самое прозрачное и, на наш взгляд, самое красиво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северо-восточном берегу этой "сибирской жемчужины« раскинул свои владения Баргузинский заповедни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-3636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omic Sans MS"/>
              </a:rPr>
              <a:t>Баргузинский заповедник</a:t>
            </a:r>
            <a:br>
              <a:rPr sz="3200"/>
            </a:br>
            <a:r>
              <a:rPr b="1" lang="ru-RU" sz="3200" spc="-1" strike="noStrike">
                <a:solidFill>
                  <a:srgbClr val="3333cc"/>
                </a:solidFill>
                <a:latin typeface="Comic Sans MS"/>
              </a:rPr>
              <a:t>В краю кристальных вод, тайги и соболей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ргузинский заповедник является старейшим заповедником Росс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оведник учреждён 29 декабря 1916 года (11 января 1917 год по новому стилю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иная с 1997 года день образования Баргузинского заповедника отмечают в России как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День заповедников и национальных парк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859280" y="404640"/>
            <a:ext cx="4302360" cy="6453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87280" y="5661000"/>
            <a:ext cx="820908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енон Францевич Сватош (1886-1949) участник Байкальской экспедиции, один из основателей Баргузинского заповедника.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Comic Sans MS"/>
              </a:rPr>
              <a:t>Задача заповедни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9647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хранение от хищнического истребления ценнейшего пушного зверя - баргузинского соб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момент основания на всей территории нынешнего заповедника насчитывалось всего около 20-30 особей соб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годня численность соболя полностью восстановлена и насчитывает 1-2 особи на 1 км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Баргузинский соболь (фото Л.Д. Ременюк)"/>
          <p:cNvPicPr/>
          <p:nvPr/>
        </p:nvPicPr>
        <p:blipFill>
          <a:blip r:embed="rId2"/>
          <a:stretch/>
        </p:blipFill>
        <p:spPr>
          <a:xfrm>
            <a:off x="3851280" y="3328920"/>
            <a:ext cx="5292720" cy="3529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851280" y="3328920"/>
            <a:ext cx="5292720" cy="3529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3068640"/>
            <a:ext cx="849636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0920" y="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оболь – типичный представитель Тайги из отряда кунь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Альпийский луг. Верховья р. Кудалкан (фото Е.А. Дарижапова)"/>
          <p:cNvPicPr/>
          <p:nvPr/>
        </p:nvPicPr>
        <p:blipFill>
          <a:blip r:embed="rId1">
            <a:lum bright="48000"/>
          </a:blip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419640" y="0"/>
            <a:ext cx="572436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08000" y="33336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ина тела соболя — до 56 см, хвоста — до 20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8000" y="1628640"/>
            <a:ext cx="3311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ховой покров соболя густой, мягкий, пушистый. Зимой он очень пышный, светлее летнего. Окраска меха на туловище соболя летом темно-бурая, хвост и лапы черно-бур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0" y="304920"/>
            <a:ext cx="9144000" cy="6364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924360" y="4869000"/>
            <a:ext cx="52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имой мех соболя окрашен в целом светлее, от песчано-желтого до буровато-черного, голова светлее туловищ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rcRect l="0" t="19044" r="0" b="0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31">
                                  <p:stCondLst>
                                    <p:cond delay="30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Альпийский луг. Верховья р. Кудалкан (фото Е.А. Дарижапова)"/>
          <p:cNvPicPr/>
          <p:nvPr/>
        </p:nvPicPr>
        <p:blipFill>
          <a:blip r:embed="rId1">
            <a:lum bright="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80024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животный ми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132000" y="1989000"/>
            <a:ext cx="2880000" cy="2881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3429000"/>
            <a:ext cx="3059280" cy="936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62 вида пт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84720" y="3500280"/>
            <a:ext cx="3059280" cy="703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1 ви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млекопитающ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941720"/>
            <a:ext cx="2700360" cy="863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0 видов ры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87640" y="5157720"/>
            <a:ext cx="3168720" cy="1511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015 ви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секо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00720" y="4941720"/>
            <a:ext cx="2843280" cy="1224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06 вид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паукообраз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79280" y="620640"/>
            <a:ext cx="2808360" cy="2664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084720" y="620640"/>
            <a:ext cx="2880000" cy="2643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Животны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19280" y="6165720"/>
            <a:ext cx="2881080" cy="3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едр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26920" y="907920"/>
            <a:ext cx="7380360" cy="4919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55640" y="743040"/>
            <a:ext cx="7704000" cy="6114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79640" y="6093000"/>
            <a:ext cx="58323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Соловей-красношей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79280" y="836640"/>
            <a:ext cx="8785440" cy="5815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771640" y="6165720"/>
            <a:ext cx="4175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Ушастая с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39640" y="765000"/>
            <a:ext cx="8209080" cy="5894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71640" y="6093000"/>
            <a:ext cx="65023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Каменный глуха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179280" y="880920"/>
            <a:ext cx="8964720" cy="5977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124000" y="6134040"/>
            <a:ext cx="482436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Бурундук азиат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144360" y="2994120"/>
            <a:ext cx="5796000" cy="3863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3924360" y="0"/>
            <a:ext cx="5219640" cy="3684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1197000"/>
            <a:ext cx="38275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Медведь бу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9"/>
          <a:stretch/>
        </p:blipFill>
        <p:spPr>
          <a:xfrm>
            <a:off x="142920" y="115920"/>
            <a:ext cx="8893080" cy="6657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132000" y="6093000"/>
            <a:ext cx="3673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бар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500"/>
                            </p:stCondLst>
                            <p:childTnLst>
                              <p:par>
                                <p:cTn id="9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0"/>
                            </p:stCondLst>
                            <p:childTnLst>
                              <p:par>
                                <p:cTn id="9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9000"/>
                            </p:stCondLst>
                            <p:childTnLst>
                              <p:par>
                                <p:cTn id="1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9500"/>
                            </p:stCondLst>
                            <p:childTnLst>
                              <p:par>
                                <p:cTn id="10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0" nodeType="afterEffect" fill="hold" presetClass="entr" presetID="1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3500"/>
                            </p:stCondLst>
                            <p:childTnLst>
                              <p:par>
                                <p:cTn id="14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3:48:43Z</dcterms:created>
  <dc:creator>Admin</dc:creator>
  <dc:description/>
  <dc:language>en-US</dc:language>
  <cp:lastModifiedBy>т</cp:lastModifiedBy>
  <dcterms:modified xsi:type="dcterms:W3CDTF">2013-04-20T10:39:44Z</dcterms:modified>
  <cp:revision>11</cp:revision>
  <dc:subject/>
  <dc:title>Слайд 1</dc:title>
</cp:coreProperties>
</file>