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BD13-0EC4-4D77-8B0A-382BDFDBE2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DA55-5AA1-4096-A39C-12513F0D79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5C1C-9E20-4C88-8284-2001F73278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DDA-432D-4ABB-A9D8-29761D65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C038-314C-4324-A171-A27D81E2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93A9-EEC8-4078-8127-3637AF3D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6D3-951B-4700-A09F-58EF2DDA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D094-30D0-4B75-A2A0-7EF3B113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B6D8-3B96-4C74-B66E-B4FC98BE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2D1F-C84E-4430-A119-5F56C783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AFCB-D698-42ED-9686-E19CF41D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FA97-7AAB-4DC4-88D6-AB8EFEDF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3338-9425-4D6C-BA57-273BF008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D2F5-8DD0-4363-8DE2-92D49A22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99B6-FE92-4E6B-BD43-64C78D2F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580C-75B0-4AF4-A1CA-9CC52E21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116C-5C98-4B6B-A317-2AFC2186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9AAB-77A0-4C5E-9830-23E76C4F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4FD7-24FE-4B3E-B355-B477BE2D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292E-6067-4EFC-A643-B4192819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4BFE8-46AC-4F5E-A555-B0714706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2A601-56A0-48D5-8279-97E8EBCB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9161C-82C6-409A-930D-13B943E2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47D77-4524-4544-A5BC-AF7A81B8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A5F58-30B1-44AF-B534-8A0F85F5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43CA-A160-489E-9AD5-1B33F58A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41E9C-8A00-49AE-9E42-E1854BBD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BB3D4-11EC-46EB-B28B-297B467C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319B8-D27D-4446-A549-C2C3FB8C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11B4C-5915-4693-B745-8C707E40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643C4-BA46-49E8-A5D7-892D8377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EDF4E-D57C-4CB4-A681-3EC1D637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914D8-B10D-4272-A982-66D1929A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74B58C-64C5-4861-A677-A9DD21BD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4D2C7-85C1-47DC-A170-782D8BCD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312FF5-6359-4B68-B584-68A0B239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482-D392-44A3-A434-9DC65AC0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5FD95E-3870-4C1D-8A65-9764FECB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E7DFB3-BC16-4E94-844F-2AF54BE0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7F70F-682F-4713-9C29-E8574AB7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CBB03B-CB91-43DE-B2BA-F6780773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F76282-4AC3-417C-A0EC-EF63AF29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C1C11C-5C8B-4968-8F6A-566F577B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318E11-D9DF-4532-9388-38BCAAA4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1997CB-606F-473F-B577-6BD1AA04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F6A9CB-9503-49DA-8FD9-0AB65E77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A51-92A9-418B-85BB-93CB1F3C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EA9-4B24-4E7E-9610-30D64D03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1FE8-1036-4AB1-8286-5A68E550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9640-A9EC-4939-8D7A-C1B798C9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E8A5-2F5B-41EE-A02E-2D1E5943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9006-306B-45ED-9F19-1ED413E78EA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F83F-EEFA-4B4C-9D2C-FF1B32A3545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1CCB-A6CF-4545-8E85-0B1E27AB8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5913-43E0-458C-B560-7B307526D6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зентация на тем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оциальная работа с детьм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сиро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547280" y="1341000"/>
            <a:ext cx="727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 :Перепелица О. 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к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ур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 – 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обучения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чн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ециальность: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0401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Социальная работ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ководитель: Косова 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ладивосто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df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Задачи социальных работников заключаются в следующе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5280" y="1628280"/>
            <a:ext cx="84297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·   подобрать семью, готовую стать патронатной (через тестирование, собеседование, сбор информаци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·   подготовить ее к патронату (через систему обучени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·   провести социальную, педагогическую, психологическую, медицинскую диагностику детей при поступлении в патронатную семью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·   обеспечить условия для реабилитации, адаптации ребенка  через его пребывание в патронатной семь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·   обеспечить социальную защиту прав ребенка при его дальнейшем устройстве после ухода из патронатной семьи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4067280" y="1413000"/>
            <a:ext cx="37195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dff9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оциально-бытовая адаптации детей-сирот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78920" y="1989000"/>
            <a:ext cx="857268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рриториальный центр помощи семье и детям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Центр планирования семь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Комитет по делам молодеж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Комитет по распределению и содержанию жилого фонд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Комитет по защите населения и чрезвычайным ситуация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ункциональная адаптация воспитанников учреждений интернатного типа обеспечивается следующими организация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Центр занятости насе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Отделы кадров предприят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Профессиональные училища и лицеи гор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Различные кружки, секции, центры дополнительного образования и досуга де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сследование эффективности социальной работы в интерна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2920" y="857160"/>
            <a:ext cx="8858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ятельность, осуществляемая в школе-интернате вне гуманистической воспитательной системы, не обеспечивает целенаправленного продвижения к достижению высокого уровня социальной адаптированности воспитанников, не выступает, как система на всех своих участках. Именно этим объясняется то, что эффективность учебно-воспитательного процесса школы-интерната в аспекте социальной адаптации детей-сирот недостаточн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ЫВО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4392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щущение сиротства сопровождает человека на протяжении всей жизни, как бы она не сложилась. От того, насколько благополучно или неблагополучно сложилась жизнь, зависит частота воспоминаний о детстве и отождествление себя с референтной группой сирот. Все свои проблемы сироты заслужено или незаслуженно видят как результат одиночества, воспитания в детском доме или предвзятого отношения окружающи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чень часто сироты не отождествляют себя с обществом, окружающими людьми, а противопоставлять себя им. Получая образование, специальность, создавая семью, рожая детей и воспитывая внуков, они продолжают называть себя сиротами, подтверждая теорию о том, что принадлежность к группе – это судьб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6" descr="ТТТТТТТТ"/>
          <p:cNvPicPr/>
          <p:nvPr/>
        </p:nvPicPr>
        <p:blipFill>
          <a:blip r:embed="rId1"/>
          <a:stretch/>
        </p:blipFill>
        <p:spPr>
          <a:xfrm>
            <a:off x="5076720" y="1916280"/>
            <a:ext cx="33116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58560" y="1484280"/>
            <a:ext cx="651348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БЛАГОДАРЮ ЗА ВНИМАНИЕ!!!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6043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еоретические основы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оциальной работы с детьми-сиротам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137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ение феномена сиротства позволит, во-первых, обосновать значимость профессиональной подготовки специалистов к работе с данной категорией детей и выявить факторы, определяющие специфику данной подготовки, во-вторых, выявить факторы, определяющие эффективность социальной работы с детьми-сиротами в условиях учреждений интернатного тип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ходя к изучению сиротства как социального феномена, необходимо заметить, что в любом обществе всегда были, есть и будут дети, которые по различным причинам остаются без родителей, и процесс их развития происходит либо в другой семье, либо в специально созданных для этого учреждения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иротств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социальное явление, обусловленное наличием в обществе детей, родители которых умерли, а также детей, оставшихся без попечения родителей вследствие лишения родительских прав, признание в установленном порядке родителей недееспособными, безвестно отсутствующими и т.д. Сюда также относят детей, родители которых не лишены родительских прав, но фактически не осуществляют какой-либо заботы  о своих детя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0" descr="ффф"/>
          <p:cNvPicPr/>
          <p:nvPr/>
        </p:nvPicPr>
        <p:blipFill>
          <a:blip r:embed="rId1"/>
          <a:stretch/>
        </p:blipFill>
        <p:spPr>
          <a:xfrm>
            <a:off x="4932360" y="1773360"/>
            <a:ext cx="345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облема сиротства в Росси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14200" y="1989000"/>
            <a:ext cx="8786880" cy="46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doni MT Poster Compressed"/>
              </a:rPr>
              <a:t>Проблема сиротства в России имеет давние корни, и практически всегда была актуальна для Руси. Связано это было с нескончаемыми войнами и массовыми болезнями, косившими иногда города и губернии. Но тогдашнее общество старалось само оказать помощь оставшимся без родительской опеки детям, распределяя детей в собственные родственные семь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doni MT Poster Compressed"/>
              </a:rPr>
              <a:t>Если никто не мог принять в семью ребенка, тогда его отдавали в монастырь, на попечении монашеской братии. Позже, начиная с конца 17 века, в России начали появляться, так называемые сиротопитательные прию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403280" y="1052640"/>
            <a:ext cx="6400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Социальная работа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это специфический вид профессиональной деятельности, оказание государственного и негосударственного содействия человеку с целью обеспечения культурного, социального и материального уровня его жизни, предоставление индивидуальной помощи человеку, семье или группе лиц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современном обществе особенно остро встала проблема социальной адаптации и успешной интеграции в общество детей-сирот и детей, оставшихся без попечения родителей. Стержнем адаптации и интеграции в общество этих детей является воспитание у них чувства дружбы и любви, а на их основе готовности к взаимопомощ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9" descr="i"/>
          <p:cNvPicPr/>
          <p:nvPr/>
        </p:nvPicPr>
        <p:blipFill>
          <a:blip r:embed="rId1"/>
          <a:stretch/>
        </p:blipFill>
        <p:spPr>
          <a:xfrm>
            <a:off x="5183280" y="1773360"/>
            <a:ext cx="396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5056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mic"/>
              </a:rPr>
              <a:t>Одним из направлений деятельности социального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ботника</a:t>
            </a:r>
            <a:r>
              <a:rPr b="0" lang="en-US" sz="1600" spc="-1" strike="noStrike">
                <a:solidFill>
                  <a:srgbClr val="000000"/>
                </a:solidFill>
                <a:latin typeface="comic"/>
              </a:rPr>
              <a:t> в интернате должна быть и помощь в оптимизации отношений ребенка с его кровными и другими родственниками, а также с родителями, которые, как известно, даже будучи лишенными родительских прав или находясь в заключении, больнице, поддерживают определенные отношения с ребенком: через переписку, редкие встречи и т. п. Часто такие письма и особенно встречи оказывают на ребенка травмирующее влияние, надолго выбивая его из колеи. Вместе с тем, несмотря ни на что, дети часто испытывают потребность в общении с родителями и другими родственник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8" descr="оооо"/>
          <p:cNvPicPr/>
          <p:nvPr/>
        </p:nvPicPr>
        <p:blipFill>
          <a:blip r:embed="rId1"/>
          <a:stretch/>
        </p:blipFill>
        <p:spPr>
          <a:xfrm>
            <a:off x="5759280" y="1700280"/>
            <a:ext cx="3384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циальный работник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полняет следующие функ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94920" y="1071360"/>
            <a:ext cx="8605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Образовательно-воспитательная, т.е. обеспечение целенаправленного педагогического влияния на поведение и деятельность де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Диагностическая, т.е. постановка «социального диагноза», для чего проводится изучение личностных особенностей и социально-бытовых условий жизни детей, семьи, социального окружения; выявление позитивных и негативных влияний  и различного рода пробле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Организаторская, т.е. организация общественно-ценной деятельности детей, педагогов и волонтеров в решении задач социально-педагогической помощи, поддержки воспитания и развития реализации планов и програм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Прогностическая и экспертная, т.е. участие в программировании, прогнозировании, проектировании процесса социального развития конкретного микросоциу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Организационно-коммуникативная, т.е. включение добровольных помощников, населения микрорайона в социально-педагогическую работу. Организация совместного труда и отдыха, налаживание взаимодействия между различными институтами в их работе с детьми, с семья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 Охранно-защитная, т.е. использование имеющегося арсенала правовых норм для защиты прав и интересов личности каждого ребенка. Содействие применению мер государственного принуждения и реализации юридической ответственности в отношении лиц, допускающих прямые или косвенные противоправные воздействия на подопечных социального педагог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. Посредническая, т.е. осуществление связи в интересах ребенка между семьей, учреждением, в котором находится ребенок, и ближайшим окружением ребенка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 основным целям социальной работы с детьми-сиротами и детьми, оставшимися без попечения родителей, можно отнест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55640" y="1988640"/>
            <a:ext cx="7848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·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величение степени самостоятельности воспитанников, их способности контролировать свою жизнь и более эффективно разрешать возникающие проблемы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·   создание условий, в которых воспитанники могут в максимальной мере проявить свои возможности и получить все, что им положено по закону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·   адаптация или реадаптация воспитанников в обществе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·   создание условий, при которых каждый воспитанник интерната, несмотря на физическое увечье, душевный срыв или жизненный кризис, может жить, сохраняя чувство собственного достоинства и уважение к себе со стороны окружающ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12:30:12Z</dcterms:created>
  <dc:creator>Орлова Марина Ивановна</dc:creator>
  <dc:description/>
  <dc:language>en-US</dc:language>
  <cp:lastModifiedBy>ДВГГТК</cp:lastModifiedBy>
  <dcterms:modified xsi:type="dcterms:W3CDTF">2013-04-20T01:17:10Z</dcterms:modified>
  <cp:revision>77</cp:revision>
  <dc:subject/>
  <dc:title>Метод проектов</dc:title>
</cp:coreProperties>
</file>