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6853-C6A2-4921-BE3F-EDE5D71FC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6ED5-E2FD-457B-B273-9E5748103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2862-6F57-416F-8D26-CA238B0CD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8AF-2093-4A4F-AD54-E867CB2A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3DE-C43F-4F9F-B93C-E983DB80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274-8F7F-4E9D-AFD7-D30F5849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84D-CC19-44FF-9650-AE971094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8800-F67E-469E-8D8E-3C532AF9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0397-1AF0-4234-BB64-DAA5F32B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40CF-2EC3-48BB-BCB8-1B6E1AEA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AA86-0DF2-46D4-97F2-69D9BF02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9409-2CE9-4A7C-80EF-A54E3B49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A81C-10D8-459A-8A72-B662E012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3BC9-87D2-4EE4-B87E-58C3040B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CD4-9978-446E-B819-641D1409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8041-8978-44C3-9DC5-BC4025E1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7836-BE11-4710-B3DB-85AE650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C3B9-61A7-4C25-A919-8B389C0B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736F-9091-47CE-86D6-C2142598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626E-352D-4A81-A8D5-1D63A1A3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6E22-EA57-4097-B776-FF49BF4F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8FB6-56AD-4885-850E-8C9A2027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D413A-2944-4B5F-88CC-6BC9D3B3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C989-B8B9-40EE-AF21-4FB1DEB8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5681-42E6-4861-AD31-8BE6BDB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752-FA42-436F-9C4B-D57BFD26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4B780-52C9-4196-BC9D-10FBC347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C882-78EC-4AD3-96D0-B377828C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184B-3ECD-4A0E-9675-B5C9EF1B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7C75-E1B6-4114-82D0-A5DFC02A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1042-69A0-49E8-BA1C-0E476DB1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9DB1-E4E5-4EF9-9959-DD3F3978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DA6A5-063F-47FE-990B-6D8B6D08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009BD-E15E-44E5-952A-97066523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23EB5-A526-4F0D-9F96-ED40EE5D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354A4-DF25-4FB8-AEB7-7555D203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8FE-9F7D-447C-9CF5-C1885C8C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0F7C3-4DA8-4C6D-92D5-14763D10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3179D-3B2E-41BD-8885-CFD23D69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93D5A-11E7-489B-9098-8B323C49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86B21-93A3-43E4-A501-4EF5C63F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9C244-911A-4106-B56C-B48738BA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84231-95A9-4313-B031-DEF3C322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B9597-C424-461B-BAC9-96B2BE9B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F0F5A-8906-408D-82FE-3E9DDA88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2848E-D5EA-44F2-8813-818887F9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D19-AF32-4749-9372-7649D179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3B2-1C25-401A-B9E2-C8C23B38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914-F714-4088-8D6B-1502771E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2F3-490A-41BB-A811-AE7A87B9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C3C-D63F-4EF5-941E-EF452B5A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A6A0-28F9-4D44-A6E0-5DD677A795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BEF2-6E61-4A8A-A86A-01A6D39CDA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B2E1-5D36-4365-8253-66AE943EA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F0E8-C9D5-4150-A4BA-03409B2051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зентация на тем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циальная работа с деть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сиро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547280" y="1341000"/>
            <a:ext cx="72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:Перепелица О. 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р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 – 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обуче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ч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ециальность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0401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Социальная рабо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 Косов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ладивос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и социальных работников заключаются в следующе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5280" y="1628280"/>
            <a:ext cx="84297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·   подобрать семью, готовую стать патронатной (через тестирование, собеседование, сбор информац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·   подготовить ее к патронату (через систему обуче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·   провести социальную, педагогическую, психологическую, медицинскую диагностику детей при поступлении в патронатную семью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·   обеспечить условия для реабилитации, адаптации ребенка  через его пребывание в патронатной семь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·   обеспечить социальную защиту прав ребенка при его дальнейшем устройстве после ухода из патронатной семьи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067280" y="1413000"/>
            <a:ext cx="37195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оциально-бытовая адаптации детей-сирот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8920" y="1989000"/>
            <a:ext cx="857268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рриториальный центр помощи семье и детя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Центр планирования семь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Комитет по делам молодеж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Комитет по распределению и содержанию жилого фонд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Комитет по защите населения и чрезвычайным ситуация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ональная адаптация воспитанников учреждений интернатного типа обеспечивается следующими организация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Центр занятости нас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Отделы кадров предприя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Профессиональные училища и лицеи гор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Различные кружки, секции, центры дополнительного образования и досуга де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следование эффективности социальной работы в интерна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2920" y="85716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ятельность, осуществляемая в школе-интернате вне гуманистической воспитательной системы, не обеспечивает целенаправленного продвижения к достижению высокого уровня социальной адаптированности воспитанников, не выступает, как система на всех своих участках. Именно этим объясняется то, что эффективность учебно-воспитательного процесса школы-интерната в аспекте социальной адаптации детей-сирот недостаточн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4392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щущение сиротства сопровождает человека на протяжении всей жизни, как бы она не сложилась. От того, насколько благополучно или неблагополучно сложилась жизнь, зависит частота воспоминаний о детстве и отождествление себя с референтной группой сирот. Все свои проблемы сироты заслужено или незаслуженно видят как результат одиночества, воспитания в детском доме или предвзятого отношения окружающ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чень часто сироты не отождествляют себя с обществом, окружающими людьми, а противопоставлять себя им. Получая образование, специальность, создавая семью, рожая детей и воспитывая внуков, они продолжают называть себя сиротами, подтверждая теорию о том, что принадлежность к группе – это судьб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6" descr="ТТТТТТТТ"/>
          <p:cNvPicPr/>
          <p:nvPr/>
        </p:nvPicPr>
        <p:blipFill>
          <a:blip r:embed="rId1"/>
          <a:stretch/>
        </p:blipFill>
        <p:spPr>
          <a:xfrm>
            <a:off x="5076720" y="1916280"/>
            <a:ext cx="33116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8560" y="1484280"/>
            <a:ext cx="65134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БЛАГОДАРЮ ЗА ВНИМАНИЕ!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6043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еоретические основы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оциальной работы с детьми-сирота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37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ение феномена сиротства позволит, во-первых, обосновать значимость профессиональной подготовки специалистов к работе с данной категорией детей и выявить факторы, определяющие специфику данной подготовки, во-вторых, выявить факторы, определяющие эффективность социальной работы с детьми-сиротами в условиях учреждений интернатного ти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ходя к изучению сиротства как социального феномена, необходимо заметить, что в любом обществе всегда были, есть и будут дети, которые по различным причинам остаются без родителей, и процесс их развития происходит либо в другой семье, либо в специально созданных для этого учреждения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ротств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социальное явление, обусловленное наличием в обществе детей, родители которых умерли, а также детей, оставшихся без попечения родителей вследствие лишения родительских прав, признание в установленном порядке родителей недееспособными, безвестно отсутствующими и т.д. Сюда также относят детей, родители которых не лишены родительских прав, но фактически не осуществляют какой-либо заботы  о своих детя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0" descr="ффф"/>
          <p:cNvPicPr/>
          <p:nvPr/>
        </p:nvPicPr>
        <p:blipFill>
          <a:blip r:embed="rId1"/>
          <a:stretch/>
        </p:blipFill>
        <p:spPr>
          <a:xfrm>
            <a:off x="4932360" y="1773360"/>
            <a:ext cx="345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облема сиротства в Росси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14200" y="1989000"/>
            <a:ext cx="878688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 Poster Compressed"/>
              </a:rPr>
              <a:t>Проблема сиротства в России имеет давние корни, и практически всегда была актуальна для Руси. Связано это было с нескончаемыми войнами и массовыми болезнями, косившими иногда города и губернии. Но тогдашнее общество старалось само оказать помощь оставшимся без родительской опеки детям, распределяя детей в собственные родственные семь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 Poster Compressed"/>
              </a:rPr>
              <a:t>Если никто не мог принять в семью ребенка, тогда его отдавали в монастырь, на попечении монашеской братии. Позже, начиная с конца 17 века, в России начали появляться, так называемые сиротопитательные прию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403280" y="1052640"/>
            <a:ext cx="6400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оциальная работа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это специфический вид профессиональной деятельности, оказание государственного и негосударственного содействия человеку с целью обеспечения культурного, социального и материального уровня его жизни, предоставление индивидуальной помощи человеку, семье или группе ли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овременном обществе особенно остро встала проблема социальной адаптации и успешной интеграции в общество детей-сирот и детей, оставшихся без попечения родителей. Стержнем адаптации и интеграции в общество этих детей является воспитание у них чувства дружбы и любви, а на их основе готовности к взаимопомощ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9" descr="i"/>
          <p:cNvPicPr/>
          <p:nvPr/>
        </p:nvPicPr>
        <p:blipFill>
          <a:blip r:embed="rId1"/>
          <a:stretch/>
        </p:blipFill>
        <p:spPr>
          <a:xfrm>
            <a:off x="5183280" y="1773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5056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"/>
              </a:rPr>
              <a:t>Одним из направлений деятельности социальног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ботника</a:t>
            </a:r>
            <a:r>
              <a:rPr b="0" lang="en-US" sz="1600" spc="-1" strike="noStrike">
                <a:solidFill>
                  <a:srgbClr val="000000"/>
                </a:solidFill>
                <a:latin typeface="comic"/>
              </a:rPr>
              <a:t> в интернате должна быть и помощь в оптимизации отношений ребенка с его кровными и другими родственниками, а также с родителями, которые, как известно, даже будучи лишенными родительских прав или находясь в заключении, больнице, поддерживают определенные отношения с ребенком: через переписку, редкие встречи и т. п. Часто такие письма и особенно встречи оказывают на ребенка травмирующее влияние, надолго выбивая его из колеи. Вместе с тем, несмотря ни на что, дети часто испытывают потребность в общении с родителями и другими родственник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8" descr="оооо"/>
          <p:cNvPicPr/>
          <p:nvPr/>
        </p:nvPicPr>
        <p:blipFill>
          <a:blip r:embed="rId1"/>
          <a:stretch/>
        </p:blipFill>
        <p:spPr>
          <a:xfrm>
            <a:off x="5759280" y="1700280"/>
            <a:ext cx="338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циальный работни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полняет следующие фун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4920" y="1071360"/>
            <a:ext cx="8605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Образовательно-воспитательная, т.е. обеспечение целенаправленного педагогического влияния на поведение и деятельность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Диагностическая, т.е. постановка «социального диагноза», для чего проводится изучение личностных особенностей и социально-бытовых условий жизни детей, семьи, социального окружения; выявление позитивных и негативных влияний  и различного рода пробл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Организаторская, т.е. организация общественно-ценной деятельности детей, педагогов и волонтеров в решении задач социально-педагогической помощи, поддержки воспитания и развития реализации планов и програм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Прогностическая и экспертная, т.е. участие в программировании, прогнозировании, проектировании процесса социального развития конкретного микросоциу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Организационно-коммуникативная, т.е. включение добровольных помощников, населения микрорайона в социально-педагогическую работу. Организация совместного труда и отдыха, налаживание взаимодействия между различными институтами в их работе с детьми, с семь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Охранно-защитная, т.е. использование имеющегося арсенала правовых норм для защиты прав и интересов личности каждого ребенка. Содействие применению мер государственного принуждения и реализации юридической ответственности в отношении лиц, допускающих прямые или косвенные противоправные воздействия на подопечных социального педагог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Посредническая, т.е. осуществление связи в интересах ребенка между семьей, учреждением, в котором находится ребенок, и ближайшим окружением ребенка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 основным целям социальной работы с детьми-сиротами и детьми, оставшимися без попечения родителей, можно отнест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55640" y="1988640"/>
            <a:ext cx="7848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·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еличение степени самостоятельности воспитанников, их способности контролировать свою жизнь и более эффективно разрешать возникающие проблемы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·   создание условий, в которых воспитанники могут в максимальной мере проявить свои возможности и получить все, что им положено по закону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·   адаптация или реадаптация воспитанников в обществ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·   создание условий, при которых каждый воспитанник интерната, несмотря на физическое увечье, душевный срыв или жизненный кризис, может жить, сохраняя чувство собственного достоинства и уважение к себе со стороны окружающ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2:30:12Z</dcterms:created>
  <dc:creator>Орлова Марина Ивановна</dc:creator>
  <dc:description/>
  <dc:language>en-US</dc:language>
  <cp:lastModifiedBy>ДВГГТК</cp:lastModifiedBy>
  <dcterms:modified xsi:type="dcterms:W3CDTF">2013-04-20T01:17:10Z</dcterms:modified>
  <cp:revision>77</cp:revision>
  <dc:subject/>
  <dc:title>Метод проектов</dc:title>
</cp:coreProperties>
</file>