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535-F61D-4C84-B37E-B9AE5288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A73-C472-4033-8E16-43E13C85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C93-5082-45C9-A0EC-B8048132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BDF-58D9-4B25-9447-CC79DCD4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2331-AFC4-4E62-A8A1-0D2CF493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E0A9-BF16-465F-AEF0-1D0D7178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8384-B0D6-4E1B-AC5C-BE6F162F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78F8-829E-4A43-B9DD-D38D76E2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985-4FD7-439D-9711-60FDF223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0885-838C-4E98-9868-5B267FD3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3417-FF52-4161-BA86-5E75E56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933-1A4E-4315-9261-9B7F3042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5BB4-AA0D-4E6D-B461-9A9A3120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6B52-F85E-42C0-940C-C40A9174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2F3A-4AE3-4876-BF76-306818A8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A37F-6836-4680-B8D7-AEF9F7C3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A807-2083-4CD4-8C68-38BBCA74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25B15-BBAD-4528-907F-3B24200F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97E2-7828-4DA2-9602-49F3EDC4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6680-A703-4A9C-A400-5BAEFB1A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C0061-D008-4B1B-BDB8-7CDC2A81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564E-CBF2-4FE5-AB87-89CF6B85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99E-1373-4594-AB46-273F416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C5D0-1F0C-4D13-B1E7-D3876C65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20B6-DD5F-4F38-98FC-2721EFBF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BF44-CDF4-4D4A-9FAF-5D134B0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90F3-B29D-4EA8-9755-5F8B72D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4ED2-1823-4B92-9CB7-C9A8952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E884-F6B1-4E11-BF25-8C2CCAE4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2828B-561A-4846-B688-B02D7A88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DFA21-B376-4ABD-A008-1FE48731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9A24-FC79-4FFB-AB07-02DED218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B1C39-84AC-4B3E-9535-72281D7B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B25-7659-4648-8A5D-14CD6738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5B000-25A2-4D6A-9C7B-07B0C975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C5278-57FE-41E7-A732-F210416B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40845-266C-45D8-B952-B3B3E6B3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861F-3225-4665-9DA9-B64A323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640ED-83CA-4780-9387-1BDA3213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8CD9-9F05-4E9A-856A-D506BB93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8F272-CC8F-4BC4-8192-A15E3ACC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21D3-D955-468E-B800-FC703B9C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13C8-200A-4137-ABEE-C1F42E40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FA780-996D-4306-B1A0-01AA7B7E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143-DD68-4C7D-8107-1F2CF2B1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5DB3B-C81C-408A-ADD7-AC5E0CDC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00652-4FEE-4847-A565-2F6379DF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56D1E-D0D2-4172-A82C-57CFB236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5988F-0746-4E71-A397-A3B0C79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6B6A2-5BD4-4C2D-BB31-546F699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F286-851D-4FC4-BE85-37633B9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AAEB-2A4D-45D6-BE7D-B0CCB1BD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C95E-C418-46CA-890E-802D8FC4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229D6-5BEE-408E-8DD1-C064EFA3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A57D-007E-4F22-BE8E-E72642E1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920-D2C9-4B76-B115-AD0C5159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CB394-495B-498C-9FC7-698F11B3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C1E-5D79-4241-85E2-B246AE26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B23-F2FC-489F-B243-3EECADE7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C65-70D2-4C17-936C-21A6622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0C89A7-941E-4FA2-A482-A7C5D5C9A64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9E5D67-8C71-497F-AA61-DBB1996F093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4D6302-1575-4104-B094-50234C7FC77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52924C-1A38-4724-8722-182E2081A80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A15A11-9428-4963-8361-D506708DABE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539640" y="1052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852f74"/>
                </a:solidFill>
                <a:latin typeface="Times New Roman"/>
              </a:rPr>
              <a:t>Урок литературного чтен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4500720" y="4437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МК «Гармо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2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читель: Гудина Г. 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C:\Documents and Settings\User\Рабочий стол\9.jpeg"/>
          <p:cNvPicPr/>
          <p:nvPr/>
        </p:nvPicPr>
        <p:blipFill>
          <a:blip r:embed="rId1"/>
          <a:stretch/>
        </p:blipFill>
        <p:spPr>
          <a:xfrm>
            <a:off x="468360" y="2714760"/>
            <a:ext cx="3240000" cy="35226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560680" y="33336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МБОУ Вахтанская СО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250920" y="189000"/>
            <a:ext cx="786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852f74"/>
                </a:solidFill>
                <a:latin typeface="Times New Roman"/>
                <a:ea typeface="Microsoft YaHei"/>
              </a:rPr>
              <a:t>скороговорка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250920" y="1989000"/>
            <a:ext cx="75610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560680" indent="-503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1.Что это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560680" indent="-503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2.Для чего сочинил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560680" indent="-503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3.Какие признак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4" descr="C:\Documents and Settings\User\Рабочий стол\5.jpeg"/>
          <p:cNvPicPr/>
          <p:nvPr/>
        </p:nvPicPr>
        <p:blipFill>
          <a:blip r:embed="rId1"/>
          <a:stretch/>
        </p:blipFill>
        <p:spPr>
          <a:xfrm>
            <a:off x="250920" y="4508640"/>
            <a:ext cx="2089080" cy="1728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User\Рабочий стол\6.jpeg"/>
          <p:cNvPicPr/>
          <p:nvPr/>
        </p:nvPicPr>
        <p:blipFill>
          <a:blip r:embed="rId2"/>
          <a:stretch/>
        </p:blipFill>
        <p:spPr>
          <a:xfrm>
            <a:off x="6084720" y="1557360"/>
            <a:ext cx="2016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2286000" y="333360"/>
            <a:ext cx="574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СКОРОГОВОРКА </a:t>
            </a: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1. Быстрая реч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2.Искусственно придуманная фра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с труднопроизносим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подбором звуков, которую нужно произнести быстро, не запиная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2484360" y="3141720"/>
            <a:ext cx="55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СКОРОГОВОРКА </a:t>
            </a: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1. Быстрая, торопливая  реч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2. Шуточный жанр народного творчества – фраза, построенная на сочетании звуков, которые затрудняют быстрое произнесение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01636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:\Documents and Settings\User\Рабочий стол\7.jpeg"/>
          <p:cNvPicPr/>
          <p:nvPr/>
        </p:nvPicPr>
        <p:blipFill>
          <a:blip r:embed="rId2"/>
          <a:stretch/>
        </p:blipFill>
        <p:spPr>
          <a:xfrm>
            <a:off x="179280" y="3500280"/>
            <a:ext cx="2089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95280" y="258480"/>
            <a:ext cx="7416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КОРОГОВОРКА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-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жанр устного народного творчества. Это специально подобранная фраза с трудно выговариваемым подбором звуков, быстро произносимая шуточная поговорка или прибаут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КОРОГОВОРКА –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ратк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изведение уст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ародного твор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остоит из подбора слов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трудно произносимых п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ыстром и многократн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овторении всей фр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одержание скороговор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осит юмористиче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3" descr="C:\Documents and Settings\User\Рабочий стол\4.jpeg"/>
          <p:cNvPicPr/>
          <p:nvPr/>
        </p:nvPicPr>
        <p:blipFill>
          <a:blip r:embed="rId1"/>
          <a:stretch/>
        </p:blipFill>
        <p:spPr>
          <a:xfrm>
            <a:off x="5076720" y="2276640"/>
            <a:ext cx="288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395280" y="333360"/>
            <a:ext cx="64627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Читай скороговорк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3 раз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468360" y="1700280"/>
            <a:ext cx="7488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медлен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с обычной скорость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ак можно быстр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Три сороки тараторки тараторили на горк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C:\Documents and Settings\User\Рабочий стол\10.jpeg"/>
          <p:cNvPicPr/>
          <p:nvPr/>
        </p:nvPicPr>
        <p:blipFill>
          <a:blip r:embed="rId1"/>
          <a:stretch/>
        </p:blipFill>
        <p:spPr>
          <a:xfrm>
            <a:off x="4859280" y="1052640"/>
            <a:ext cx="2881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2"/>
          <p:cNvSpPr/>
          <p:nvPr/>
        </p:nvSpPr>
        <p:spPr>
          <a:xfrm>
            <a:off x="250920" y="404640"/>
            <a:ext cx="80992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Признаки жанр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ратк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трудность произнош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сочетание звуков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оторые трудно произноси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2060640" y="260280"/>
            <a:ext cx="50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852f74"/>
                </a:solidFill>
                <a:uFillTx/>
                <a:latin typeface="Arial Black"/>
                <a:ea typeface="Microsoft YaHei"/>
              </a:rPr>
              <a:t>Домашнее задание: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324000" y="1268280"/>
            <a:ext cx="7632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Microsoft YaHei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Microsoft YaHei"/>
              </a:rPr>
              <a:t>1 Стр. 145-146 учебника, поработать над    скороговорк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Microsoft YaHei"/>
              </a:rPr>
              <a:t>2. Читать книги со скороговорками и выбрать самую интересную на конкурс к следующему урок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4" descr="C:\Documents and Settings\User\Рабочий стол\2.jpeg"/>
          <p:cNvPicPr/>
          <p:nvPr/>
        </p:nvPicPr>
        <p:blipFill>
          <a:blip r:embed="rId1"/>
          <a:stretch/>
        </p:blipFill>
        <p:spPr>
          <a:xfrm>
            <a:off x="2843280" y="357336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2"/>
          <p:cNvSpPr/>
          <p:nvPr/>
        </p:nvSpPr>
        <p:spPr>
          <a:xfrm>
            <a:off x="1835280" y="1916280"/>
            <a:ext cx="375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852f74"/>
                </a:solidFill>
                <a:latin typeface="Arial Black"/>
              </a:rPr>
              <a:t>Спасиб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852f74"/>
                </a:solidFill>
                <a:latin typeface="Arial Black"/>
              </a:rPr>
              <a:t>з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852f74"/>
                </a:solidFill>
                <a:latin typeface="Arial Black"/>
              </a:rPr>
              <a:t>урок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3" descr="C:\Documents and Settings\User\Рабочий стол\embl.png"/>
          <p:cNvPicPr/>
          <p:nvPr/>
        </p:nvPicPr>
        <p:blipFill>
          <a:blip r:embed="rId1"/>
          <a:stretch/>
        </p:blipFill>
        <p:spPr>
          <a:xfrm>
            <a:off x="755640" y="1143000"/>
            <a:ext cx="599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468360" y="69228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С маленькой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начинаются больш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успех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3" descr="C:\Documents and Settings\User\Рабочий стол\1.jpeg"/>
          <p:cNvPicPr/>
          <p:nvPr/>
        </p:nvPicPr>
        <p:blipFill>
          <a:blip r:embed="rId1"/>
          <a:stretch/>
        </p:blipFill>
        <p:spPr>
          <a:xfrm>
            <a:off x="1547640" y="2714760"/>
            <a:ext cx="43196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C:\Documents and Settings\User\Рабочий стол\3.jpeg"/>
          <p:cNvPicPr/>
          <p:nvPr/>
        </p:nvPicPr>
        <p:blipFill>
          <a:blip r:embed="rId1"/>
          <a:stretch/>
        </p:blipFill>
        <p:spPr>
          <a:xfrm>
            <a:off x="2484360" y="2714760"/>
            <a:ext cx="5112000" cy="30178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533600" y="549360"/>
            <a:ext cx="47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Работа в группа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916360" y="907920"/>
            <a:ext cx="496872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Между небом и землей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Поросёнок рылся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И нечаянно хвостом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 небу прицепил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НЕБЫЛИЦ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3" descr="C:\Documents and Settings\User\Рабочий стол\5.jpeg"/>
          <p:cNvPicPr/>
          <p:nvPr/>
        </p:nvPicPr>
        <p:blipFill>
          <a:blip r:embed="rId1"/>
          <a:stretch/>
        </p:blipFill>
        <p:spPr>
          <a:xfrm>
            <a:off x="250920" y="3500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835280" y="476280"/>
            <a:ext cx="604980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3264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Ходит, ходит Попрошайка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Просит, просит: дай-ка, дай-ка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Дай кусочек пирога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Дай глоточек моло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3264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3264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ДРАЗНИ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3" descr="C:\Documents and Settings\User\Рабочий стол\6.jpeg"/>
          <p:cNvPicPr/>
          <p:nvPr/>
        </p:nvPicPr>
        <p:blipFill>
          <a:blip r:embed="rId1"/>
          <a:stretch/>
        </p:blipFill>
        <p:spPr>
          <a:xfrm>
            <a:off x="395280" y="3645000"/>
            <a:ext cx="302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286000" y="260280"/>
            <a:ext cx="5310360" cy="60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Вышли мыши как-то раз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Посмотреть, который час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Раз, два, три, четыре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Мыши дернули за гири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Тут раздался страшный звон -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Разбежались мыши в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            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СЧИТ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3" descr="C:\Documents and Settings\User\Рабочий стол\5.jpeg"/>
          <p:cNvPicPr/>
          <p:nvPr/>
        </p:nvPicPr>
        <p:blipFill>
          <a:blip r:embed="rId1"/>
          <a:stretch/>
        </p:blipFill>
        <p:spPr>
          <a:xfrm>
            <a:off x="324000" y="836640"/>
            <a:ext cx="1871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2286000" y="549360"/>
            <a:ext cx="53103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Не зверь, не птиц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Носик  как спиц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Летит – жужжи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Сядет – молч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             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ЗАГАД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3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250920" y="3500280"/>
            <a:ext cx="3744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468360" y="333360"/>
            <a:ext cx="7199280" cy="65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небыл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дразнил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считал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загад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ЖАНРЫ ФОЛЬКЛО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(устное народное творчество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3" descr="C:\Documents and Settings\User\Рабочий стол\1.jpeg"/>
          <p:cNvPicPr/>
          <p:nvPr/>
        </p:nvPicPr>
        <p:blipFill>
          <a:blip r:embed="rId1"/>
          <a:stretch/>
        </p:blipFill>
        <p:spPr>
          <a:xfrm>
            <a:off x="250920" y="907920"/>
            <a:ext cx="2089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250920" y="404640"/>
            <a:ext cx="7705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ВСЕХ СКОРОГОВОРО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Е ПЕРЕГОВОРИШ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И НЕ ПЕРЕВЫГОВОРИШ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Bookman Old Style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3" descr="C:\Documents and Settings\User\Рабочий стол\10.jpeg"/>
          <p:cNvPicPr/>
          <p:nvPr/>
        </p:nvPicPr>
        <p:blipFill>
          <a:blip r:embed="rId1"/>
          <a:stretch/>
        </p:blipFill>
        <p:spPr>
          <a:xfrm>
            <a:off x="2340000" y="4076640"/>
            <a:ext cx="410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7:47:48Z</dcterms:created>
  <dc:creator>user</dc:creator>
  <dc:description/>
  <dc:language>en-US</dc:language>
  <cp:lastModifiedBy>User</cp:lastModifiedBy>
  <cp:lastPrinted>2012-11-13T07:02:54Z</cp:lastPrinted>
  <dcterms:modified xsi:type="dcterms:W3CDTF">2013-04-14T05:15:11Z</dcterms:modified>
  <cp:revision>92</cp:revision>
  <dc:subject/>
  <dc:title>Урок литературного чтения</dc:title>
</cp:coreProperties>
</file>