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F0D-6305-438A-B40E-738A2C09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E24-E9B7-4213-94E8-BA8CADA7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859-5A67-44EE-8A50-C7DB60AA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A97-C923-494C-8862-F88D2696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0A5C-9FC1-4F2C-928C-9BDAF39D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8EDA-D93D-47E6-AAB9-17D72BC1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03C1-826E-45BD-A7AA-37DAE638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A718-BF5B-4F14-A29A-FD374ED8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D37A-4A63-48F7-BF92-E8F235ED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7EA1-BFB5-484C-8387-5BDB6509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F04E-0C06-45E6-B024-F8C16F9D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331-3526-405E-96E4-D616083C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21EC-5369-44FE-A877-11077773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9726-3917-4198-B93D-EF89E465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1DB1-D143-46C4-BC1E-50BC7BB5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DA4D-496A-4EBF-A329-F48D3F60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6985-6720-48FE-B314-847CD99F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5DA60-37AC-4A6F-99A9-421F6942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ED145-9303-459C-961E-80011F49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0ED2F-E4D6-4B45-9A9D-2FD6DBAE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7518-8AF7-4E6F-9FF5-F4D9D2C1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46DAB-27F9-44C9-966C-1B926244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C27-48B5-4E4B-A521-7319B9C5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BAFC-DC38-4EEF-A21D-52B49124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90AA2-5422-4350-AE29-0567A82F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79979-5719-42B2-B25F-6555385C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D72B0-A949-40B2-BF05-E10A1CE0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FA338-BF98-461E-99A2-5A926453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F3F7-0A0D-4D99-89B4-D0420DDF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D69AE-942D-4E2E-B2ED-44987800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CADD-385A-4B63-968F-5206120D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7281E-5D0B-453D-8B94-D4ED984E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A372-CAC9-49A7-94E3-C9557E50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0AB-6C92-4782-B1AF-5ACAD793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43F4D-1B2C-4FB6-8B06-35A43ACD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BB9A-F888-40D2-A5B7-16E229FC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DC408-3A16-483D-A80A-16D169B2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D0D86-32AD-45FA-88C9-18CEBEDF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7FCB4-A09F-4594-A044-F8B2636B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400B-D78F-4756-BE05-B4B54BDE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C2362-FFE2-4620-A5EB-38B4B24D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D737E-9E60-4D91-B19A-9F736D05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35057-104C-419D-8121-D93C723B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D87FC-E63D-443D-878E-23817796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7E5-B766-4DE9-9780-48947DF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A3ED6-FFB7-4DD6-9B69-BF09A060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C7B3A-B70C-4467-9763-841C8139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522A-81B9-42D6-B157-87CFAA3C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DE04D-7DAA-496D-89BE-15735D29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76A5E-27E6-45C5-A16D-D8BACDC3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1031B-7BB9-4521-869D-F5452C55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C5006-0551-426F-B332-C924BAB5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01DC8-DE6F-4172-89DA-C51CFDC0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FC98F-44F1-4E12-A95A-659F9227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B3E62-550E-47B8-831B-94130535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5A0-E001-4CFD-9DB9-5CAA2E70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26A62-70CE-4090-8925-996FC5E0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D30-9185-460A-97CD-C1CF0196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858-FB0D-4684-BA5A-029D1D8A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B31-5A22-44B5-A82E-AB65FC18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9543DA-AB84-4CD8-A675-93E11E251383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8AD4E8-8BEC-4597-A3EF-A906AEF5628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BAB502-03F9-45A4-8E2F-EF556264DDDB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902CDC-C9DC-4D78-AE85-8B6B66E62EB3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A61B0F-6454-439C-8491-0F63F07CCDC8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539640" y="105264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852f74"/>
                </a:solidFill>
                <a:latin typeface="Times New Roman"/>
              </a:rPr>
              <a:t>Урок литературного чтени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4500720" y="443700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МК «Гармо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2 клас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Учитель: Гудина Г. 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4" descr="C:\Documents and Settings\User\Рабочий стол\9.jpeg"/>
          <p:cNvPicPr/>
          <p:nvPr/>
        </p:nvPicPr>
        <p:blipFill>
          <a:blip r:embed="rId1"/>
          <a:stretch/>
        </p:blipFill>
        <p:spPr>
          <a:xfrm>
            <a:off x="468360" y="2714760"/>
            <a:ext cx="3240000" cy="35226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2560680" y="33336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МБОУ Вахтанская СО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250920" y="189000"/>
            <a:ext cx="786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852f74"/>
                </a:solidFill>
                <a:latin typeface="Times New Roman"/>
                <a:ea typeface="Microsoft YaHei"/>
              </a:rPr>
              <a:t>скороговорка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250920" y="1989000"/>
            <a:ext cx="75610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560680" indent="-503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1.Что это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560680" indent="-503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2.Для чего сочинили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4" marL="2560680" indent="-503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503280"/>
                <a:tab algn="l" pos="950760"/>
                <a:tab algn="l" pos="1400040"/>
                <a:tab algn="l" pos="1849320"/>
                <a:tab algn="l" pos="2298600"/>
                <a:tab algn="l" pos="2747880"/>
                <a:tab algn="l" pos="3197160"/>
                <a:tab algn="l" pos="3646440"/>
                <a:tab algn="l" pos="4095720"/>
                <a:tab algn="l" pos="4545000"/>
                <a:tab algn="l" pos="4994280"/>
                <a:tab algn="l" pos="5443560"/>
                <a:tab algn="l" pos="5892840"/>
                <a:tab algn="l" pos="6342120"/>
                <a:tab algn="l" pos="6791400"/>
                <a:tab algn="l" pos="7240680"/>
                <a:tab algn="l" pos="7689960"/>
                <a:tab algn="l" pos="8139240"/>
                <a:tab algn="l" pos="8588520"/>
                <a:tab algn="l" pos="903780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3.Какие признаки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4" descr="C:\Documents and Settings\User\Рабочий стол\5.jpeg"/>
          <p:cNvPicPr/>
          <p:nvPr/>
        </p:nvPicPr>
        <p:blipFill>
          <a:blip r:embed="rId1"/>
          <a:stretch/>
        </p:blipFill>
        <p:spPr>
          <a:xfrm>
            <a:off x="250920" y="4508640"/>
            <a:ext cx="2089080" cy="1728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User\Рабочий стол\6.jpeg"/>
          <p:cNvPicPr/>
          <p:nvPr/>
        </p:nvPicPr>
        <p:blipFill>
          <a:blip r:embed="rId2"/>
          <a:stretch/>
        </p:blipFill>
        <p:spPr>
          <a:xfrm>
            <a:off x="6084720" y="1557360"/>
            <a:ext cx="2016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2286000" y="333360"/>
            <a:ext cx="574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СКОРОГОВОРКА </a:t>
            </a:r>
            <a:r>
              <a:rPr b="0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1. Быстрая реч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2.Искусственно придуманная фра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с труднопроизносимы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подбором звуков, которую нужно произнести быстро, не запинаяс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2484360" y="3141720"/>
            <a:ext cx="55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СКОРОГОВОРКА </a:t>
            </a:r>
            <a:r>
              <a:rPr b="0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1. Быстрая, торопливая  реч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Arial"/>
                <a:ea typeface="Microsoft YaHei"/>
              </a:rPr>
              <a:t>2. Шуточный жанр народного творчества – фраза, построенная на сочетании звуков, которые затрудняют быстрое произнесение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016360" cy="2897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:\Documents and Settings\User\Рабочий стол\7.jpeg"/>
          <p:cNvPicPr/>
          <p:nvPr/>
        </p:nvPicPr>
        <p:blipFill>
          <a:blip r:embed="rId2"/>
          <a:stretch/>
        </p:blipFill>
        <p:spPr>
          <a:xfrm>
            <a:off x="179280" y="3500280"/>
            <a:ext cx="2089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95280" y="258480"/>
            <a:ext cx="7416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КОРОГОВОРКА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-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жанр устного народного творчества. Это специально подобранная фраза с трудно выговариваемым подбором звуков, быстро произносимая шуточная поговорка или прибаут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КОРОГОВОРКА –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ратко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изведение уст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народного твор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остоит из подбора слов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трудно произносимых пр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ыстром и многократн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овторении всей фраз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одержание скороговор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носит юмористиче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характе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Picture 3" descr="C:\Documents and Settings\User\Рабочий стол\4.jpeg"/>
          <p:cNvPicPr/>
          <p:nvPr/>
        </p:nvPicPr>
        <p:blipFill>
          <a:blip r:embed="rId1"/>
          <a:stretch/>
        </p:blipFill>
        <p:spPr>
          <a:xfrm>
            <a:off x="5076720" y="2276640"/>
            <a:ext cx="2880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395280" y="333360"/>
            <a:ext cx="646272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Читай скороговорку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3 раз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Прямоугольник 2"/>
          <p:cNvSpPr/>
          <p:nvPr/>
        </p:nvSpPr>
        <p:spPr>
          <a:xfrm>
            <a:off x="468360" y="1700280"/>
            <a:ext cx="74883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медлен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с обычной скорость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Microsoft Ya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– 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как можно быстре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Три сороки тараторки тараторили на горк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Picture 4" descr="C:\Documents and Settings\User\Рабочий стол\10.jpeg"/>
          <p:cNvPicPr/>
          <p:nvPr/>
        </p:nvPicPr>
        <p:blipFill>
          <a:blip r:embed="rId1"/>
          <a:stretch/>
        </p:blipFill>
        <p:spPr>
          <a:xfrm>
            <a:off x="4859280" y="1052640"/>
            <a:ext cx="2881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2"/>
          <p:cNvSpPr/>
          <p:nvPr/>
        </p:nvSpPr>
        <p:spPr>
          <a:xfrm>
            <a:off x="250920" y="404640"/>
            <a:ext cx="80992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Признаки жанр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краткос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трудность произнош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сочетание звуков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которые трудно произносит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2060640" y="260280"/>
            <a:ext cx="50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852f74"/>
                </a:solidFill>
                <a:uFillTx/>
                <a:latin typeface="Arial Black"/>
                <a:ea typeface="Microsoft YaHei"/>
              </a:rPr>
              <a:t>Домашнее задание:</a:t>
            </a:r>
            <a:r>
              <a:rPr b="1" lang="ru-RU" sz="32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324000" y="1268280"/>
            <a:ext cx="7632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Microsoft YaHei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Microsoft YaHei"/>
              </a:rPr>
              <a:t>1 Стр. 145-146 учебника, поработать над    скороговорка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6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  <a:ea typeface="Microsoft YaHei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Microsoft YaHei"/>
              </a:rPr>
              <a:t>2. Читать книги со скороговорками и выбрать самую интересную на конкурс к следующему урок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4" descr="C:\Documents and Settings\User\Рабочий стол\2.jpeg"/>
          <p:cNvPicPr/>
          <p:nvPr/>
        </p:nvPicPr>
        <p:blipFill>
          <a:blip r:embed="rId1"/>
          <a:stretch/>
        </p:blipFill>
        <p:spPr>
          <a:xfrm>
            <a:off x="2843280" y="3573360"/>
            <a:ext cx="4176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2"/>
          <p:cNvSpPr/>
          <p:nvPr/>
        </p:nvSpPr>
        <p:spPr>
          <a:xfrm>
            <a:off x="1835280" y="1916280"/>
            <a:ext cx="375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852f74"/>
                </a:solidFill>
                <a:latin typeface="Arial Black"/>
              </a:rPr>
              <a:t>Спасибо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852f74"/>
                </a:solidFill>
                <a:latin typeface="Arial Black"/>
              </a:rPr>
              <a:t>з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852f74"/>
                </a:solidFill>
                <a:latin typeface="Arial Black"/>
              </a:rPr>
              <a:t>урок 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3" descr="C:\Documents and Settings\User\Рабочий стол\embl.png"/>
          <p:cNvPicPr/>
          <p:nvPr/>
        </p:nvPicPr>
        <p:blipFill>
          <a:blip r:embed="rId1"/>
          <a:stretch/>
        </p:blipFill>
        <p:spPr>
          <a:xfrm>
            <a:off x="755640" y="1143000"/>
            <a:ext cx="599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468360" y="69228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</a:rPr>
              <a:t>С маленькой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852f74"/>
                </a:solidFill>
                <a:latin typeface="Arial Black"/>
              </a:rPr>
              <a:t>начинаются больш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</a:rPr>
              <a:t>успех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3" descr="C:\Documents and Settings\User\Рабочий стол\1.jpeg"/>
          <p:cNvPicPr/>
          <p:nvPr/>
        </p:nvPicPr>
        <p:blipFill>
          <a:blip r:embed="rId1"/>
          <a:stretch/>
        </p:blipFill>
        <p:spPr>
          <a:xfrm>
            <a:off x="1547640" y="2714760"/>
            <a:ext cx="431964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C:\Documents and Settings\User\Рабочий стол\3.jpeg"/>
          <p:cNvPicPr/>
          <p:nvPr/>
        </p:nvPicPr>
        <p:blipFill>
          <a:blip r:embed="rId1"/>
          <a:stretch/>
        </p:blipFill>
        <p:spPr>
          <a:xfrm>
            <a:off x="2484360" y="2714760"/>
            <a:ext cx="5112000" cy="30178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1533600" y="549360"/>
            <a:ext cx="47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</a:rPr>
              <a:t>Работа в группа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2916360" y="907920"/>
            <a:ext cx="496872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Между небом и землей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Поросёнок рылся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И нечаянно хвостом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К небу прицепил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НЕБЫЛИЦ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3" descr="C:\Documents and Settings\User\Рабочий стол\5.jpeg"/>
          <p:cNvPicPr/>
          <p:nvPr/>
        </p:nvPicPr>
        <p:blipFill>
          <a:blip r:embed="rId1"/>
          <a:stretch/>
        </p:blipFill>
        <p:spPr>
          <a:xfrm>
            <a:off x="250920" y="35002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1835280" y="476280"/>
            <a:ext cx="604980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1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3264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  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Ходит, ходит Попрошайка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Просит, просит: дай-ка, дай-ка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Дай кусочек пирога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Дай глоточек моло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3264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3264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28040"/>
                <a:tab algn="l" pos="9877320"/>
                <a:tab algn="l" pos="1032660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ДРАЗНИ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3" descr="C:\Documents and Settings\User\Рабочий стол\6.jpeg"/>
          <p:cNvPicPr/>
          <p:nvPr/>
        </p:nvPicPr>
        <p:blipFill>
          <a:blip r:embed="rId1"/>
          <a:stretch/>
        </p:blipFill>
        <p:spPr>
          <a:xfrm>
            <a:off x="395280" y="3645000"/>
            <a:ext cx="302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2286000" y="260280"/>
            <a:ext cx="5310360" cy="60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Вышли мыши как-то раз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Посмотреть, который час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Раз, два, три, четыре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Мыши дернули за гири.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Тут раздался страшный звон -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Разбежались мыши в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            </a:t>
            </a:r>
            <a:r>
              <a:rPr b="1" lang="ru-RU" sz="32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СЧИТ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3" descr="C:\Documents and Settings\User\Рабочий стол\5.jpeg"/>
          <p:cNvPicPr/>
          <p:nvPr/>
        </p:nvPicPr>
        <p:blipFill>
          <a:blip r:embed="rId1"/>
          <a:stretch/>
        </p:blipFill>
        <p:spPr>
          <a:xfrm>
            <a:off x="324000" y="836640"/>
            <a:ext cx="1871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2286000" y="549360"/>
            <a:ext cx="53103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Не зверь, не птиц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Носик  как спиц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Летит – жужжи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Сядет – молчи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             </a:t>
            </a:r>
            <a:r>
              <a:rPr b="1" lang="ru-RU" sz="32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ЗАГАД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3" descr="C:\Documents and Settings\User\Рабочий стол\i.jpeg"/>
          <p:cNvPicPr/>
          <p:nvPr/>
        </p:nvPicPr>
        <p:blipFill>
          <a:blip r:embed="rId1"/>
          <a:stretch/>
        </p:blipFill>
        <p:spPr>
          <a:xfrm>
            <a:off x="250920" y="3500280"/>
            <a:ext cx="3744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468360" y="333360"/>
            <a:ext cx="7199280" cy="65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1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небылиц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дразнил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считал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Microsoft YaHei"/>
              </a:rPr>
              <a:t>загад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ЖАНРЫ ФОЛЬКЛОР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852f74"/>
                </a:solidFill>
                <a:latin typeface="Arial Black"/>
                <a:ea typeface="Microsoft YaHei"/>
              </a:rPr>
              <a:t>(устное народное творчество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19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3" descr="C:\Documents and Settings\User\Рабочий стол\1.jpeg"/>
          <p:cNvPicPr/>
          <p:nvPr/>
        </p:nvPicPr>
        <p:blipFill>
          <a:blip r:embed="rId1"/>
          <a:stretch/>
        </p:blipFill>
        <p:spPr>
          <a:xfrm>
            <a:off x="250920" y="907920"/>
            <a:ext cx="2089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250920" y="404640"/>
            <a:ext cx="7705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ВСЕХ СКОРОГОВОРО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НЕ ПЕРЕГОВОРИШ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 Black"/>
                <a:ea typeface="Times New Roman"/>
              </a:rPr>
              <a:t>И НЕ ПЕРЕВЫГОВОРИШ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Bookman Old Style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3" descr="C:\Documents and Settings\User\Рабочий стол\10.jpeg"/>
          <p:cNvPicPr/>
          <p:nvPr/>
        </p:nvPicPr>
        <p:blipFill>
          <a:blip r:embed="rId1"/>
          <a:stretch/>
        </p:blipFill>
        <p:spPr>
          <a:xfrm>
            <a:off x="2340000" y="4076640"/>
            <a:ext cx="410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17:47:48Z</dcterms:created>
  <dc:creator>user</dc:creator>
  <dc:description/>
  <dc:language>en-US</dc:language>
  <cp:lastModifiedBy>User</cp:lastModifiedBy>
  <cp:lastPrinted>2012-11-13T07:02:54Z</cp:lastPrinted>
  <dcterms:modified xsi:type="dcterms:W3CDTF">2013-04-14T05:15:11Z</dcterms:modified>
  <cp:revision>92</cp:revision>
  <dc:subject/>
  <dc:title>Урок литературного чтения</dc:title>
</cp:coreProperties>
</file>