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2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2027-245D-4811-89BA-D19C86F8EC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AF8E-536D-4B81-82EE-490D479678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E81-FBC3-4CE9-BD83-84A772D5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454C-DA4C-4463-936A-226096C1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F26-E4B9-4C93-BD9C-A9F18CEB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9423-DE01-49CD-AA49-E788BC0E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C63F-1E01-43CB-A45F-63043627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8E7F-545F-4377-99C8-1D207FC3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3DB4-CB4E-4AC3-850F-4B11D876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0DFF-1C15-478A-9882-589D62FD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22D4-8795-4D6E-8556-3FA8D775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BBCE-7B66-4F8E-B19D-F3FB07E0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16AA-7F53-4882-804F-F7F39C52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C6A3-5898-4A81-984A-BCE350C8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5120-CA6E-4AE3-AB97-475C1118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5582-6CE7-4D79-BA5E-65B3A43B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E3FB-3610-4C6D-AF2D-E5DCC98E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8645-E500-4633-8AF1-CE5F745C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D14C-642D-4420-B2DF-66AB2EA5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039EC-C3A4-408E-9641-44343AC0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67EE3-FA2F-4114-9157-F35C3179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5B00B-0F0F-43B7-A37F-423A6CEC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F3380-FFCA-445D-B48B-92C4F6BA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69964-7863-48E7-B978-88E5E3DF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941-555B-4D1E-93D9-10CAC0A0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69224-E46F-488D-A513-B8DE9B12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7199A-1FF8-414F-A781-B96069C0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6C531-EAE9-4EAE-A78A-17F2C667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5EB9C-D1EA-4793-85F1-E2DA662F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55724-86FA-4670-84FB-E22E83BD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69469-E4B7-4FFB-B4C2-3ECE8DF5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BA576-EA6C-4D93-B427-D6176C3C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80C63-5EA5-4E33-8733-44A2C3B4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FCA3B-95CC-4D37-B12F-0942894C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8C0E4-F830-4698-9B35-D9A88A13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FD8-BEB1-45ED-8426-3FB382EC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B5BF3-8D32-40E6-B714-29DC50B5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8F7B6-1AC6-4EB2-9935-39931269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EB96F-14E6-4935-8D24-625499A6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5B921-29EF-481E-92CC-F3F0D83E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261F9-EC6E-487D-9A60-897D2F32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007DE-04FB-4D61-91DA-3F909E5D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A9689-41AA-4419-97D4-3A189E4D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2F1D0-ACA3-467C-8530-B197F38D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73033-6B22-4669-BE54-D22940E9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8DF-8689-4F80-BE76-7B400D2D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160-A14C-443D-9998-0CBF6CEA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37ED-8136-4A3C-AAD9-C290737F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1279-7608-4B5B-9D4D-984E5A95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D76-BDD2-48D9-B736-3B747B5B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42A8-428F-498D-9B96-388EB1E3B98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AF43-0038-4828-A303-C8CFCF7B940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CD6D-6354-4C83-9879-C22392FF54B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03FD-76DF-41C3-87D7-32C4E93E014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-219240" y="-6480"/>
            <a:ext cx="9313920" cy="19144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142800" y="3428640"/>
            <a:ext cx="5753160" cy="302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к 145-летию</a:t>
            </a: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выдающейся женщины-ученого, дважды Лауреата Нобелевской преми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Марии  Склодовской - Кюри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7" descr="172814"/>
          <p:cNvPicPr/>
          <p:nvPr/>
        </p:nvPicPr>
        <p:blipFill>
          <a:blip r:embed="rId2"/>
          <a:stretch/>
        </p:blipFill>
        <p:spPr>
          <a:xfrm>
            <a:off x="0" y="1785960"/>
            <a:ext cx="3160800" cy="4665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sklodovskaya-kury_849352975_tonnel"/>
          <p:cNvPicPr/>
          <p:nvPr/>
        </p:nvPicPr>
        <p:blipFill>
          <a:blip r:embed="rId1"/>
          <a:stretch/>
        </p:blipFill>
        <p:spPr>
          <a:xfrm>
            <a:off x="714240" y="928800"/>
            <a:ext cx="3348000" cy="4465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-1"/>
          <p:cNvPicPr/>
          <p:nvPr/>
        </p:nvPicPr>
        <p:blipFill>
          <a:blip r:embed="rId2"/>
          <a:stretch/>
        </p:blipFill>
        <p:spPr>
          <a:xfrm>
            <a:off x="5357880" y="1000080"/>
            <a:ext cx="3452760" cy="43578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3"/>
          <p:cNvSpPr/>
          <p:nvPr/>
        </p:nvSpPr>
        <p:spPr>
          <a:xfrm>
            <a:off x="357120" y="5572080"/>
            <a:ext cx="85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1906 года Мария Кюри является заведующей кафедры физики Сорбонны. Она стала первой женщиной преподавателем этого универс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926982132_tonnel"/>
          <p:cNvPicPr/>
          <p:nvPr/>
        </p:nvPicPr>
        <p:blipFill>
          <a:blip r:embed="rId1"/>
          <a:stretch/>
        </p:blipFill>
        <p:spPr>
          <a:xfrm>
            <a:off x="395280" y="14130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3857760" y="414324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ия член французской академии наук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PH03336"/>
          <p:cNvPicPr/>
          <p:nvPr/>
        </p:nvPicPr>
        <p:blipFill>
          <a:blip r:embed="rId1"/>
          <a:stretch/>
        </p:blipFill>
        <p:spPr>
          <a:xfrm>
            <a:off x="5003640" y="1484280"/>
            <a:ext cx="3603960" cy="45036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4928760"/>
            <a:ext cx="485784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ный подвиг Марии Кюри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6" descr="116"/>
          <p:cNvPicPr/>
          <p:nvPr/>
        </p:nvPicPr>
        <p:blipFill>
          <a:blip r:embed="rId1"/>
          <a:stretch/>
        </p:blipFill>
        <p:spPr>
          <a:xfrm>
            <a:off x="539640" y="1203480"/>
            <a:ext cx="2440080" cy="3958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200px-Curie-nobel-portrait-2-600"/>
          <p:cNvPicPr/>
          <p:nvPr/>
        </p:nvPicPr>
        <p:blipFill>
          <a:blip r:embed="rId2"/>
          <a:stretch/>
        </p:blipFill>
        <p:spPr>
          <a:xfrm>
            <a:off x="4929120" y="1143000"/>
            <a:ext cx="285264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1"/>
          <p:cNvSpPr/>
          <p:nvPr/>
        </p:nvSpPr>
        <p:spPr>
          <a:xfrm>
            <a:off x="1785960" y="5286240"/>
            <a:ext cx="538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ховные, гуманные качества Марии Кюри помогают ей стать вдохновительницей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14546"/>
          <p:cNvPicPr/>
          <p:nvPr/>
        </p:nvPicPr>
        <p:blipFill>
          <a:blip r:embed="rId1"/>
          <a:stretch/>
        </p:blipFill>
        <p:spPr>
          <a:xfrm>
            <a:off x="2143080" y="857160"/>
            <a:ext cx="4521240" cy="34768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1"/>
          <p:cNvSpPr/>
          <p:nvPr/>
        </p:nvSpPr>
        <p:spPr>
          <a:xfrm>
            <a:off x="571680" y="46432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и одна женщина-ученый не пользовалась такой популярностью, как Мария Кюри. Ей было присуждено десять премий и шестнадцать медалей. М.Кюри была избрана почетным членом 106 научных учреждений, академий и научных об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16163"/>
          <p:cNvPicPr/>
          <p:nvPr/>
        </p:nvPicPr>
        <p:blipFill>
          <a:blip r:embed="rId1"/>
          <a:stretch/>
        </p:blipFill>
        <p:spPr>
          <a:xfrm>
            <a:off x="6143760" y="3143160"/>
            <a:ext cx="2286000" cy="3443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mariya_kyuri_rose_marie_curie"/>
          <p:cNvPicPr/>
          <p:nvPr/>
        </p:nvPicPr>
        <p:blipFill>
          <a:blip r:embed="rId2"/>
          <a:stretch/>
        </p:blipFill>
        <p:spPr>
          <a:xfrm>
            <a:off x="500040" y="3857760"/>
            <a:ext cx="3292560" cy="2468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Дом(музей)_Варшава"/>
          <p:cNvPicPr/>
          <p:nvPr/>
        </p:nvPicPr>
        <p:blipFill>
          <a:blip r:embed="rId3"/>
          <a:stretch/>
        </p:blipFill>
        <p:spPr>
          <a:xfrm>
            <a:off x="714240" y="928800"/>
            <a:ext cx="3060720" cy="2038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R20_04_04"/>
          <p:cNvPicPr/>
          <p:nvPr/>
        </p:nvPicPr>
        <p:blipFill>
          <a:blip r:embed="rId4"/>
          <a:stretch/>
        </p:blipFill>
        <p:spPr>
          <a:xfrm>
            <a:off x="5429160" y="857160"/>
            <a:ext cx="3143520" cy="20844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1"/>
          <p:cNvSpPr/>
          <p:nvPr/>
        </p:nvSpPr>
        <p:spPr>
          <a:xfrm>
            <a:off x="357120" y="3357720"/>
            <a:ext cx="33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-музей в Варш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571680" y="639612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за «Мария Кюр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sklodovskaya-kury_8"/>
          <p:cNvPicPr/>
          <p:nvPr/>
        </p:nvPicPr>
        <p:blipFill>
          <a:blip r:embed="rId1"/>
          <a:stretch/>
        </p:blipFill>
        <p:spPr>
          <a:xfrm>
            <a:off x="3214800" y="928800"/>
            <a:ext cx="3000240" cy="428616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1"/>
          <p:cNvSpPr/>
          <p:nvPr/>
        </p:nvSpPr>
        <p:spPr>
          <a:xfrm>
            <a:off x="1643040" y="5572080"/>
            <a:ext cx="5929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ия Склодовская родилась 7 ноября 1867 года в Варшаве, в семье преподава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marie_sklodowska_curie_180"/>
          <p:cNvPicPr/>
          <p:nvPr/>
        </p:nvPicPr>
        <p:blipFill>
          <a:blip r:embed="rId1"/>
          <a:stretch/>
        </p:blipFill>
        <p:spPr>
          <a:xfrm>
            <a:off x="1000080" y="928800"/>
            <a:ext cx="3319560" cy="523548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2"/>
          <p:cNvSpPr/>
          <p:nvPr/>
        </p:nvSpPr>
        <p:spPr>
          <a:xfrm>
            <a:off x="2104920" y="5229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"/>
          <p:cNvSpPr/>
          <p:nvPr/>
        </p:nvSpPr>
        <p:spPr>
          <a:xfrm>
            <a:off x="4581360" y="442908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 1891 год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Мария в возрасте 24 лет смогла уехать в Париж учится, в 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орбонну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curie_4"/>
          <p:cNvPicPr/>
          <p:nvPr/>
        </p:nvPicPr>
        <p:blipFill>
          <a:blip r:embed="rId1"/>
          <a:stretch/>
        </p:blipFill>
        <p:spPr>
          <a:xfrm>
            <a:off x="4857840" y="1214280"/>
            <a:ext cx="3714840" cy="4143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sklodovskaya-kury_7"/>
          <p:cNvPicPr/>
          <p:nvPr/>
        </p:nvPicPr>
        <p:blipFill>
          <a:blip r:embed="rId2"/>
          <a:stretch/>
        </p:blipFill>
        <p:spPr>
          <a:xfrm>
            <a:off x="500040" y="1214280"/>
            <a:ext cx="3714840" cy="428652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2"/>
          <p:cNvSpPr/>
          <p:nvPr/>
        </p:nvSpPr>
        <p:spPr>
          <a:xfrm>
            <a:off x="1835280" y="501336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"/>
          <p:cNvSpPr/>
          <p:nvPr/>
        </p:nvSpPr>
        <p:spPr>
          <a:xfrm>
            <a:off x="1643040" y="5572080"/>
            <a:ext cx="52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ия и Пьер Кюри на прогулке на велосипе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image007"/>
          <p:cNvPicPr/>
          <p:nvPr/>
        </p:nvPicPr>
        <p:blipFill>
          <a:blip r:embed="rId1"/>
          <a:srcRect l="7115" t="2167" r="7754" b="16720"/>
          <a:stretch/>
        </p:blipFill>
        <p:spPr>
          <a:xfrm>
            <a:off x="857160" y="857160"/>
            <a:ext cx="2786040" cy="4411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-1374482304"/>
          <p:cNvPicPr/>
          <p:nvPr/>
        </p:nvPicPr>
        <p:blipFill>
          <a:blip r:embed="rId2"/>
          <a:stretch/>
        </p:blipFill>
        <p:spPr>
          <a:xfrm>
            <a:off x="4186080" y="1262160"/>
            <a:ext cx="4705560" cy="352404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"/>
          <p:cNvSpPr/>
          <p:nvPr/>
        </p:nvSpPr>
        <p:spPr>
          <a:xfrm>
            <a:off x="285840" y="5786280"/>
            <a:ext cx="370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ия с дочерями Евой и Ир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"/>
          <p:cNvSpPr/>
          <p:nvPr/>
        </p:nvSpPr>
        <p:spPr>
          <a:xfrm>
            <a:off x="4500720" y="5786280"/>
            <a:ext cx="41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ия и Пьер Кю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4" descr="curiem"/>
          <p:cNvPicPr/>
          <p:nvPr/>
        </p:nvPicPr>
        <p:blipFill>
          <a:blip r:embed="rId1"/>
          <a:stretch/>
        </p:blipFill>
        <p:spPr>
          <a:xfrm>
            <a:off x="68400" y="1268280"/>
            <a:ext cx="2779560" cy="3089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thumb_pierre_curie_"/>
          <p:cNvPicPr/>
          <p:nvPr/>
        </p:nvPicPr>
        <p:blipFill>
          <a:blip r:embed="rId2"/>
          <a:stretch/>
        </p:blipFill>
        <p:spPr>
          <a:xfrm>
            <a:off x="6429240" y="1285920"/>
            <a:ext cx="2513160" cy="3429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curie-2"/>
          <p:cNvPicPr/>
          <p:nvPr/>
        </p:nvPicPr>
        <p:blipFill>
          <a:blip r:embed="rId3"/>
          <a:stretch/>
        </p:blipFill>
        <p:spPr>
          <a:xfrm>
            <a:off x="3059280" y="1268280"/>
            <a:ext cx="3243240" cy="42483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"/>
          <p:cNvSpPr/>
          <p:nvPr/>
        </p:nvSpPr>
        <p:spPr>
          <a:xfrm>
            <a:off x="961920" y="595008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ия и Пьер Кюри в личной лаборатор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pierre_curie_180"/>
          <p:cNvPicPr/>
          <p:nvPr/>
        </p:nvPicPr>
        <p:blipFill>
          <a:blip r:embed="rId1"/>
          <a:stretch/>
        </p:blipFill>
        <p:spPr>
          <a:xfrm>
            <a:off x="5715000" y="1000080"/>
            <a:ext cx="2276640" cy="3429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mcuri"/>
          <p:cNvPicPr/>
          <p:nvPr/>
        </p:nvPicPr>
        <p:blipFill>
          <a:blip r:embed="rId2"/>
          <a:stretch/>
        </p:blipFill>
        <p:spPr>
          <a:xfrm>
            <a:off x="928800" y="1071720"/>
            <a:ext cx="2892240" cy="3429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"/>
          <p:cNvSpPr/>
          <p:nvPr/>
        </p:nvSpPr>
        <p:spPr>
          <a:xfrm>
            <a:off x="1187280" y="4581360"/>
            <a:ext cx="62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 июля 1898 года Пьер и Мария Кюри на заседании Парижской Академии наук выступили с сообщением «О новом радиоактивном веществе, содержащемся в смоляной обманк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Po"/>
          <p:cNvPicPr/>
          <p:nvPr/>
        </p:nvPicPr>
        <p:blipFill>
          <a:blip r:embed="rId1"/>
          <a:stretch/>
        </p:blipFill>
        <p:spPr>
          <a:xfrm>
            <a:off x="1214280" y="2143080"/>
            <a:ext cx="2237040" cy="1986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sklodovskaya-kury_5"/>
          <p:cNvPicPr/>
          <p:nvPr/>
        </p:nvPicPr>
        <p:blipFill>
          <a:blip r:embed="rId2"/>
          <a:srcRect l="0" t="0" r="0" b="9939"/>
          <a:stretch/>
        </p:blipFill>
        <p:spPr>
          <a:xfrm>
            <a:off x="4782960" y="1357200"/>
            <a:ext cx="4048200" cy="49294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4"/>
          <p:cNvSpPr/>
          <p:nvPr/>
        </p:nvSpPr>
        <p:spPr>
          <a:xfrm>
            <a:off x="1098720" y="4757760"/>
            <a:ext cx="35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юле 1898г. Мария и Пьер Кюри объявили об открытии поло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28400" y="5000760"/>
            <a:ext cx="7848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5 июня 1903 г. Мария Кюри защитила докторскую диссертацию "Исследование радиоактивных веществ"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4" descr="18451_20060301170538"/>
          <p:cNvPicPr/>
          <p:nvPr/>
        </p:nvPicPr>
        <p:blipFill>
          <a:blip r:embed="rId1"/>
          <a:stretch/>
        </p:blipFill>
        <p:spPr>
          <a:xfrm>
            <a:off x="4691160" y="857160"/>
            <a:ext cx="4452840" cy="3340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urie_law_520"/>
          <p:cNvPicPr/>
          <p:nvPr/>
        </p:nvPicPr>
        <p:blipFill>
          <a:blip r:embed="rId2"/>
          <a:stretch/>
        </p:blipFill>
        <p:spPr>
          <a:xfrm>
            <a:off x="0" y="857160"/>
            <a:ext cx="4618080" cy="332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0:33:02Z</dcterms:created>
  <dc:creator>лабфизмет231-1</dc:creator>
  <dc:description/>
  <dc:language>en-US</dc:language>
  <cp:lastModifiedBy>User</cp:lastModifiedBy>
  <dcterms:modified xsi:type="dcterms:W3CDTF">2013-04-10T10:55:20Z</dcterms:modified>
  <cp:revision>47</cp:revision>
  <dc:subject/>
  <dc:title>Человек - легенда</dc:title>
</cp:coreProperties>
</file>