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F004-4050-4D05-BEFE-7153EA1D79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B191-A5EF-419A-AFDC-914E5EECF6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738-A0EA-4473-A5BE-C110ECFE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05EC-51B3-4A63-B029-1B322FBC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5E8-BEA8-4421-977D-4301793F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5C2-4FB9-45F7-A5D4-784DFA9E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2872-56E3-42A9-9994-6A7B1B2E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2928-AD55-4DF2-A054-2A2D07FB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5451-3597-4EE6-BB56-94E51ED9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A515-E106-42AE-BF62-081C5B3C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AAA4-CE28-4B03-BAD0-25935BAC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DB43-1161-4FAE-B2C0-67DC13EE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CAF8-3623-4B18-AD93-AC8566AE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57E-DF46-4675-B7FB-D435D9EC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59EF-4EC7-40D8-AE0F-4AE779D5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9461-74D7-4A75-8410-3D1CCC4F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F3B3-7621-4DCD-830C-50C37941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6419-84FC-418E-B5E2-53B1FB1F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89AB-2D59-412A-A2CE-ADA04B2B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4B16-F76D-4899-9951-0ED8FD2D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35664-FEDB-4A83-BD68-5E4A42ED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1DDD-14DA-47A1-A047-B52FC050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05937-4D29-43DB-BDC6-7DBD2E1B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D021-1C98-4CD5-8CC9-19F986F1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E80-E502-4550-B713-E6239B01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4C309-A952-461F-8A98-69768A71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9E6A8-41EA-425F-ADAC-A1614842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CA53F-AE04-480B-83E6-71C73670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CEF18-278D-467D-B150-F739560A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6F109-1F5E-4310-A446-039060F7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EB2E1-5490-4688-B2AF-67BDCB4E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54E0-294F-47FF-816C-C66E9E70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B6A8C-2958-4BC6-BA47-0B64FB58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78463-4F4A-48D3-9529-53744372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75787-7ABF-454C-8CE1-90C6833F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245-2185-4D0D-83DA-89545A95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7D71-E578-4B52-885E-63DC206B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3FAC-5097-4995-8115-2172DB77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B04E4-4B60-4A91-AB8B-521487D5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346D9-0A86-4BB7-B562-DD3681A0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0AE68-56B8-4076-8819-84354C61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056F3-08E4-4C71-A522-961D78E4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609A3-12E2-4B2E-BF06-3C692637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AA67C-2EA5-40BD-9767-A194A9F1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E899E-98C0-4D33-BF4A-C97A7AD1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BE6-FE63-4878-8CB7-AB558248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FA5-17F6-4E95-9114-74F457CD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DD1-ED2D-4B82-B364-F9C1A013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A41-CCC1-4CAC-BBCB-68CAE64A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ECC-7248-4590-87FF-6B4AC3C0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4FB0-E084-4A6E-896A-F6344B3704A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5AF7-12EF-4958-B922-72FA220BE9A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964E-B1D5-4F7A-9C0E-50609E95683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1C20-64BB-4B6F-918A-4344C1E841A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219240" y="-6480"/>
            <a:ext cx="9313920" cy="1914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142800" y="3428640"/>
            <a:ext cx="5753160" cy="302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к 145-летию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выдающейся женщины-ученого, дважды Лауреата Нобелевской преми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Марии  Склодовской - Кюри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7" descr="172814"/>
          <p:cNvPicPr/>
          <p:nvPr/>
        </p:nvPicPr>
        <p:blipFill>
          <a:blip r:embed="rId2"/>
          <a:stretch/>
        </p:blipFill>
        <p:spPr>
          <a:xfrm>
            <a:off x="0" y="1785960"/>
            <a:ext cx="3160800" cy="4665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sklodovskaya-kury_849352975_tonnel"/>
          <p:cNvPicPr/>
          <p:nvPr/>
        </p:nvPicPr>
        <p:blipFill>
          <a:blip r:embed="rId1"/>
          <a:stretch/>
        </p:blipFill>
        <p:spPr>
          <a:xfrm>
            <a:off x="714240" y="928800"/>
            <a:ext cx="3348000" cy="4465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-1"/>
          <p:cNvPicPr/>
          <p:nvPr/>
        </p:nvPicPr>
        <p:blipFill>
          <a:blip r:embed="rId2"/>
          <a:stretch/>
        </p:blipFill>
        <p:spPr>
          <a:xfrm>
            <a:off x="5357880" y="1000080"/>
            <a:ext cx="3452760" cy="43578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357120" y="557208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906 года Мария Кюри является заведующей кафедры физики Сорбонны. Она стала первой женщиной преподавателем этого универс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926982132_tonnel"/>
          <p:cNvPicPr/>
          <p:nvPr/>
        </p:nvPicPr>
        <p:blipFill>
          <a:blip r:embed="rId1"/>
          <a:stretch/>
        </p:blipFill>
        <p:spPr>
          <a:xfrm>
            <a:off x="395280" y="14130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3857760" y="414324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ия член французской академии нау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PH03336"/>
          <p:cNvPicPr/>
          <p:nvPr/>
        </p:nvPicPr>
        <p:blipFill>
          <a:blip r:embed="rId1"/>
          <a:stretch/>
        </p:blipFill>
        <p:spPr>
          <a:xfrm>
            <a:off x="5003640" y="1484280"/>
            <a:ext cx="3603960" cy="45036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4928760"/>
            <a:ext cx="485784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ный подвиг Марии Кюри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116"/>
          <p:cNvPicPr/>
          <p:nvPr/>
        </p:nvPicPr>
        <p:blipFill>
          <a:blip r:embed="rId1"/>
          <a:stretch/>
        </p:blipFill>
        <p:spPr>
          <a:xfrm>
            <a:off x="539640" y="1203480"/>
            <a:ext cx="2440080" cy="3958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200px-Curie-nobel-portrait-2-600"/>
          <p:cNvPicPr/>
          <p:nvPr/>
        </p:nvPicPr>
        <p:blipFill>
          <a:blip r:embed="rId2"/>
          <a:stretch/>
        </p:blipFill>
        <p:spPr>
          <a:xfrm>
            <a:off x="4929120" y="1143000"/>
            <a:ext cx="285264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"/>
          <p:cNvSpPr/>
          <p:nvPr/>
        </p:nvSpPr>
        <p:spPr>
          <a:xfrm>
            <a:off x="1785960" y="5286240"/>
            <a:ext cx="53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ховные, гуманные качества Марии Кюри помогают ей стать вдохновительницей друг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14546"/>
          <p:cNvPicPr/>
          <p:nvPr/>
        </p:nvPicPr>
        <p:blipFill>
          <a:blip r:embed="rId1"/>
          <a:stretch/>
        </p:blipFill>
        <p:spPr>
          <a:xfrm>
            <a:off x="2143080" y="857160"/>
            <a:ext cx="4521240" cy="34768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"/>
          <p:cNvSpPr/>
          <p:nvPr/>
        </p:nvSpPr>
        <p:spPr>
          <a:xfrm>
            <a:off x="571680" y="46432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и одна женщина-ученый не пользовалась такой популярностью, как Мария Кюри. Ей было присуждено десять премий и шестнадцать медалей. М.Кюри была избрана почетным членом 106 научных учреждений, академий и научных об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16163"/>
          <p:cNvPicPr/>
          <p:nvPr/>
        </p:nvPicPr>
        <p:blipFill>
          <a:blip r:embed="rId1"/>
          <a:stretch/>
        </p:blipFill>
        <p:spPr>
          <a:xfrm>
            <a:off x="6143760" y="3143160"/>
            <a:ext cx="2286000" cy="3443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mariya_kyuri_rose_marie_curie"/>
          <p:cNvPicPr/>
          <p:nvPr/>
        </p:nvPicPr>
        <p:blipFill>
          <a:blip r:embed="rId2"/>
          <a:stretch/>
        </p:blipFill>
        <p:spPr>
          <a:xfrm>
            <a:off x="500040" y="3857760"/>
            <a:ext cx="3292560" cy="2468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Дом(музей)_Варшава"/>
          <p:cNvPicPr/>
          <p:nvPr/>
        </p:nvPicPr>
        <p:blipFill>
          <a:blip r:embed="rId3"/>
          <a:stretch/>
        </p:blipFill>
        <p:spPr>
          <a:xfrm>
            <a:off x="714240" y="928800"/>
            <a:ext cx="3060720" cy="2038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R20_04_04"/>
          <p:cNvPicPr/>
          <p:nvPr/>
        </p:nvPicPr>
        <p:blipFill>
          <a:blip r:embed="rId4"/>
          <a:stretch/>
        </p:blipFill>
        <p:spPr>
          <a:xfrm>
            <a:off x="5429160" y="857160"/>
            <a:ext cx="3143520" cy="20844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1"/>
          <p:cNvSpPr/>
          <p:nvPr/>
        </p:nvSpPr>
        <p:spPr>
          <a:xfrm>
            <a:off x="357120" y="3357720"/>
            <a:ext cx="33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-музей в Варш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571680" y="639612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а «Мария Кю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sklodovskaya-kury_8"/>
          <p:cNvPicPr/>
          <p:nvPr/>
        </p:nvPicPr>
        <p:blipFill>
          <a:blip r:embed="rId1"/>
          <a:stretch/>
        </p:blipFill>
        <p:spPr>
          <a:xfrm>
            <a:off x="3214800" y="928800"/>
            <a:ext cx="3000240" cy="428616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1"/>
          <p:cNvSpPr/>
          <p:nvPr/>
        </p:nvSpPr>
        <p:spPr>
          <a:xfrm>
            <a:off x="1643040" y="5572080"/>
            <a:ext cx="5929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ия Склодовская родилась 7 ноября 1867 года в Варшаве, в семье преподава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marie_sklodowska_curie_180"/>
          <p:cNvPicPr/>
          <p:nvPr/>
        </p:nvPicPr>
        <p:blipFill>
          <a:blip r:embed="rId1"/>
          <a:stretch/>
        </p:blipFill>
        <p:spPr>
          <a:xfrm>
            <a:off x="1000080" y="928800"/>
            <a:ext cx="3319560" cy="52354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2104920" y="5229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"/>
          <p:cNvSpPr/>
          <p:nvPr/>
        </p:nvSpPr>
        <p:spPr>
          <a:xfrm>
            <a:off x="4581360" y="442908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 1891 год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Мария в возрасте 24 лет смогла уехать в Париж учится, в 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орбонну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curie_4"/>
          <p:cNvPicPr/>
          <p:nvPr/>
        </p:nvPicPr>
        <p:blipFill>
          <a:blip r:embed="rId1"/>
          <a:stretch/>
        </p:blipFill>
        <p:spPr>
          <a:xfrm>
            <a:off x="4857840" y="1214280"/>
            <a:ext cx="3714840" cy="4143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sklodovskaya-kury_7"/>
          <p:cNvPicPr/>
          <p:nvPr/>
        </p:nvPicPr>
        <p:blipFill>
          <a:blip r:embed="rId2"/>
          <a:stretch/>
        </p:blipFill>
        <p:spPr>
          <a:xfrm>
            <a:off x="500040" y="1214280"/>
            <a:ext cx="3714840" cy="428652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2"/>
          <p:cNvSpPr/>
          <p:nvPr/>
        </p:nvSpPr>
        <p:spPr>
          <a:xfrm>
            <a:off x="1835280" y="50133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1643040" y="557208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ия и Пьер Кюри на прогулке на велосипе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image007"/>
          <p:cNvPicPr/>
          <p:nvPr/>
        </p:nvPicPr>
        <p:blipFill>
          <a:blip r:embed="rId1"/>
          <a:srcRect l="7115" t="2167" r="7754" b="16720"/>
          <a:stretch/>
        </p:blipFill>
        <p:spPr>
          <a:xfrm>
            <a:off x="857160" y="857160"/>
            <a:ext cx="2786040" cy="441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-1374482304"/>
          <p:cNvPicPr/>
          <p:nvPr/>
        </p:nvPicPr>
        <p:blipFill>
          <a:blip r:embed="rId2"/>
          <a:stretch/>
        </p:blipFill>
        <p:spPr>
          <a:xfrm>
            <a:off x="4186080" y="1262160"/>
            <a:ext cx="4705560" cy="35240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"/>
          <p:cNvSpPr/>
          <p:nvPr/>
        </p:nvSpPr>
        <p:spPr>
          <a:xfrm>
            <a:off x="285840" y="5786280"/>
            <a:ext cx="370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ия с дочерями Евой и Ир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4500720" y="578628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ия и Пьер Кю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4" descr="curiem"/>
          <p:cNvPicPr/>
          <p:nvPr/>
        </p:nvPicPr>
        <p:blipFill>
          <a:blip r:embed="rId1"/>
          <a:stretch/>
        </p:blipFill>
        <p:spPr>
          <a:xfrm>
            <a:off x="68400" y="1268280"/>
            <a:ext cx="2779560" cy="3089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thumb_pierre_curie_"/>
          <p:cNvPicPr/>
          <p:nvPr/>
        </p:nvPicPr>
        <p:blipFill>
          <a:blip r:embed="rId2"/>
          <a:stretch/>
        </p:blipFill>
        <p:spPr>
          <a:xfrm>
            <a:off x="6429240" y="1285920"/>
            <a:ext cx="2513160" cy="3429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curie-2"/>
          <p:cNvPicPr/>
          <p:nvPr/>
        </p:nvPicPr>
        <p:blipFill>
          <a:blip r:embed="rId3"/>
          <a:stretch/>
        </p:blipFill>
        <p:spPr>
          <a:xfrm>
            <a:off x="3059280" y="1268280"/>
            <a:ext cx="3243240" cy="42483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"/>
          <p:cNvSpPr/>
          <p:nvPr/>
        </p:nvSpPr>
        <p:spPr>
          <a:xfrm>
            <a:off x="961920" y="595008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ия и Пьер Кюри в личной лаборатор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pierre_curie_180"/>
          <p:cNvPicPr/>
          <p:nvPr/>
        </p:nvPicPr>
        <p:blipFill>
          <a:blip r:embed="rId1"/>
          <a:stretch/>
        </p:blipFill>
        <p:spPr>
          <a:xfrm>
            <a:off x="5715000" y="1000080"/>
            <a:ext cx="2276640" cy="3429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mcuri"/>
          <p:cNvPicPr/>
          <p:nvPr/>
        </p:nvPicPr>
        <p:blipFill>
          <a:blip r:embed="rId2"/>
          <a:stretch/>
        </p:blipFill>
        <p:spPr>
          <a:xfrm>
            <a:off x="928800" y="1071720"/>
            <a:ext cx="2892240" cy="3429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"/>
          <p:cNvSpPr/>
          <p:nvPr/>
        </p:nvSpPr>
        <p:spPr>
          <a:xfrm>
            <a:off x="1187280" y="458136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 июля 1898 года Пьер и Мария Кюри на заседании Парижской Академии наук выступили с сообщением «О новом радиоактивном веществе, содержащемся в смоляной обманк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Po"/>
          <p:cNvPicPr/>
          <p:nvPr/>
        </p:nvPicPr>
        <p:blipFill>
          <a:blip r:embed="rId1"/>
          <a:stretch/>
        </p:blipFill>
        <p:spPr>
          <a:xfrm>
            <a:off x="1214280" y="2143080"/>
            <a:ext cx="2237040" cy="1986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sklodovskaya-kury_5"/>
          <p:cNvPicPr/>
          <p:nvPr/>
        </p:nvPicPr>
        <p:blipFill>
          <a:blip r:embed="rId2"/>
          <a:srcRect l="0" t="0" r="0" b="9939"/>
          <a:stretch/>
        </p:blipFill>
        <p:spPr>
          <a:xfrm>
            <a:off x="4782960" y="1357200"/>
            <a:ext cx="4048200" cy="49294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4"/>
          <p:cNvSpPr/>
          <p:nvPr/>
        </p:nvSpPr>
        <p:spPr>
          <a:xfrm>
            <a:off x="1098720" y="475776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юле 1898г. Мария и Пьер Кюри объявили об открытии поло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28400" y="5000760"/>
            <a:ext cx="7848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5 июня 1903 г. Мария Кюри защитила докторскую диссертацию "Исследование радиоактивных веществ"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4" descr="18451_20060301170538"/>
          <p:cNvPicPr/>
          <p:nvPr/>
        </p:nvPicPr>
        <p:blipFill>
          <a:blip r:embed="rId1"/>
          <a:stretch/>
        </p:blipFill>
        <p:spPr>
          <a:xfrm>
            <a:off x="4691160" y="857160"/>
            <a:ext cx="4452840" cy="3340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urie_law_520"/>
          <p:cNvPicPr/>
          <p:nvPr/>
        </p:nvPicPr>
        <p:blipFill>
          <a:blip r:embed="rId2"/>
          <a:stretch/>
        </p:blipFill>
        <p:spPr>
          <a:xfrm>
            <a:off x="0" y="857160"/>
            <a:ext cx="4618080" cy="3321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0:33:02Z</dcterms:created>
  <dc:creator>лабфизмет231-1</dc:creator>
  <dc:description/>
  <dc:language>en-US</dc:language>
  <cp:lastModifiedBy>User</cp:lastModifiedBy>
  <dcterms:modified xsi:type="dcterms:W3CDTF">2013-04-10T10:55:20Z</dcterms:modified>
  <cp:revision>47</cp:revision>
  <dc:subject/>
  <dc:title>Человек - легенда</dc:title>
</cp:coreProperties>
</file>