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1523-A619-4B2A-9BF3-F3DE4CEF55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    Свойства воды-растворимость разных веществ/пищевых,непищевых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ябрь      Вода разной температуры.Чайник,паро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ябрь     Воды атмосферы и явления/туман,роса,радуга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  Вода в твердом состоянии  /снег,лед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.  Водоемы суши /озера,реки,болото,пруд,мор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враль   переход воды из одного состояния в другое /узоры на окнах,оттепель,сосульки,иней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т Свойства воды-плавучесть,удержание предметов на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  Опасная вода и приспособление к ней живых организмов.способы очистки/фильтрация,кипячение,природные механизмы защиты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     Вода в жизни людей.Климатические зоны.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3177-8F93-4C14-AB9A-CE2F2190ED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    Вода в быту.Бытовые приборы.водопро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ябрь   Микробы в воде. Различная фильтрация и способы очис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ябрь     Мировой океан. Значение дл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  Агрегатные состояния воды/твердое,жидкое,газообразное/расширение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Воды атмосферы.Связь с воздухом./водяной пар,облака,тучи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враль  подземные воды.виды,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т  состав воды.минерализация.вода и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 сила воды /наводнения,цунами/  защита человека.вода как средство пре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  жизнь в водо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4D1C-7F4F-41FB-A2C5-1F2F4429C0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  Вода-наша помощница./мельницы,гидростанции,оросительные системы,пожаротушение и проч./ Водный и подводный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ябрь Виды воды—речная,морская,пресная,талая,родникова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ябрь   осадки-полезные и вредные.климатические зоны/тропические ливни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  чудесные превращения воды.Лед,кристаллизация.выращивание крис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 Ледники и горные ре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враль жизнь во льдах и подо льдом.Ледо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т  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  животные и растения водоемов.экологическая защ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     Вода-сок земли.Вода-это жизнь. Зависимость человечества от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CF81-F4B7-4B19-BAE8-D7D186C95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ашивание снего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A57D-ACF7-4AD0-8A05-778B720C61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ашивание жителей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02B-B020-4719-893A-DC3437D87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«Фильтрация в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CF12-3BA1-4CB9-980B-19B2FC954F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4027-FBF2-4B89-8484-FCAFAD22FA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тели морей и оке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9A72-A174-4949-8550-0C7702156F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ьеры экологической лабора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7A89-1006-4A13-AC9F-84D65EFEFD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творческих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5882-C85E-46DA-B5F3-584802ED22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3D7-9DF4-4D0F-85AC-9FE5008A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7D8-07FB-4982-94DB-C5B89406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B12-EA77-4E24-AE57-E353CA0F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730-5FA9-431D-ABD2-3318CD91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79D-4E9B-4072-8E9C-B05EE2C7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3AB9-D646-4F47-A35B-62D0F61C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ECD9-20FA-477B-B29E-13696A2E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63BD-C840-41FB-AFF2-B918C67A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A378-324D-427D-BFA2-8F35D35E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D9D9-006B-42F2-ACA1-BDF383E6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6010-8B48-4306-8A38-E7AE497A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C5F-4B6B-4812-A96C-47959345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5E69-973C-46FA-8785-2D89CB63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C22A-25B1-497B-A3DF-4BF443CC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263E-ABC5-4C07-B476-2D5BCA24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90B4-1ED3-4B36-AF0E-C2055027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8B9D-00BD-45AF-BA9F-DCA777EA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023AD-55F8-4126-B2C7-3673EDD2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44E9-201D-4BBF-A7F5-868D6D22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E0F2-893C-4A46-8D56-9E184C5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38D3-A4FF-4A17-831F-0C80EE0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9F98-931A-4042-9896-D5273867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3E7-6396-47B9-ACE3-509FCB61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6F0A-7C4F-4665-921D-5F589E3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ED9CA-5E10-462D-A73A-C53916F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9CD2-E65B-4096-93EF-F9B585FC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A298-6A08-4287-AE29-BC84D18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3B89-0F9D-45CA-9923-E5EA79ED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80758-0F28-402E-9C16-DFB28039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1A5D-280C-4292-8161-9D3556EA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6170-8D6E-4C4A-BE1A-EAB03BE9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B1E4-3B11-4B28-8E7F-18A9047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275A-7DA1-44A7-8691-F43CF07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E30-86C3-4BB8-B58F-76BC4E75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0777-A3A9-4698-9809-1D84CAC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2CDA-7E02-42A5-BF11-F852F2D5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BD9D-3737-4064-8FBC-E2FF10A3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A9C3-D92C-40E3-B7C2-30778BB3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BC8B-D84E-4FA0-82B5-BD3AF839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6371-E907-49F8-B275-7C67249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31CB6-79EE-46AC-B8D2-0C7C8C25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CC7B-08D9-45E4-8EC3-0B02DA1B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AF39-29D0-414F-AC80-A5C0C0FA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C9657-73F8-4A40-99C5-6F1640FE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DE0-1EF9-4062-908C-5CA127BB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8D04-9070-44F0-83F5-1FF183CB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C92F5-715A-495F-B416-E8027581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EAE1D-7CF3-4BF1-9392-D58D0FE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EF270-0229-44BC-9A7D-9AAAC65E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B664D-16D7-4332-B654-0525CF9A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73F9-BFD5-45A4-B6DF-5ACADC41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A91E-E7A0-424A-9D55-18C290C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3270A-9BF6-4658-B4BB-31A91E56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1B96-CFC7-4577-BDFF-D0149283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5F24-D13C-4974-BECD-9D9C4B0C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62E-3476-4E5B-9056-7EF69D6D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59472-E5DB-4CAB-A09D-ADCD9E58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487-13A1-4E36-BE9B-6EA3448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D86-79E8-4CFE-8D0E-1AB04FB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7CF-505E-49EC-91E0-13CEA0C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9FF6-A0D2-49E9-A401-2C646FD5BB1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28C3-D3D3-432A-8F5A-C6821B5668F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008-BF55-4450-9FBE-92F466848B1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EDA9-0A33-4DBE-81B9-F2937142AA2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A413-EC4B-4658-B475-B365C73769D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ndetsady.ru/upload/news/orig_fe53420d89a5714fd40069ed9fba099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Государственное бюджетное дошкольное 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детский сад № 55 комбинированного вида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Колпинского района Санкт-Петербурга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7500960" cy="40003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766f"/>
                </a:solidFill>
                <a:latin typeface="Verdana"/>
              </a:rPr>
              <a:t>Опытно-экспериментальная деятельность в разных возрастных групп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9766f"/>
                </a:solidFill>
                <a:latin typeface="Verdana"/>
              </a:rPr>
              <a:t>«Вода-символ жизни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79766f"/>
                </a:solidFill>
                <a:latin typeface="Verdana"/>
              </a:rPr>
              <a:t>Опыты с водой.»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9766f"/>
                </a:solidFill>
                <a:latin typeface="Verdana"/>
              </a:rPr>
              <a:t>                                       </a:t>
            </a: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воспитатель </a:t>
            </a:r>
            <a:r>
              <a:rPr b="1" lang="en-US" sz="1900" spc="-1" strike="noStrike">
                <a:solidFill>
                  <a:srgbClr val="79766f"/>
                </a:solidFill>
                <a:latin typeface="Verdana"/>
              </a:rPr>
              <a:t>I </a:t>
            </a: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кв. к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                                        </a:t>
            </a: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Рослякова М.Г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СПб, 201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мерно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лексно-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Рисунок 3" descr="эксперименты и опыты в детском саду"/>
          <p:cNvPicPr/>
          <p:nvPr/>
        </p:nvPicPr>
        <p:blipFill>
          <a:blip r:embed="rId1"/>
          <a:stretch/>
        </p:blipFill>
        <p:spPr>
          <a:xfrm>
            <a:off x="4286160" y="5143680"/>
            <a:ext cx="70956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Младший возраст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7120" y="1213920"/>
            <a:ext cx="5143680" cy="535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нтябрь    Вода.какая она? КГН.Вод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дом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тябрь      Вода на улице. Лужа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ленький водоем./грязная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ая вода/опыты с водой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ском/плотность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оябрь       Свойства воды/цвет,  запах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рма/ опыты в групп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екабрь     Агрегатные состояния вод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/дождь, снег,град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нварь       Свойства снега /плотность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янье, вес-следы на снегу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евраль     Кристаллизация/снежинка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ед/ цветной лед в формочках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рт           Свойства воды- плавучесть,ве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иды малых водоемов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ужа,руче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прель      Вода в жизни растений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животных./полив,утолени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жажды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й            вода в жизни людей.бережно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ношение к вод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Содержимое 4" descr="http://tmndetsady.ru/upload/news/thumb_2c631d8456d0db0e912ff2149575eac6.jpg"/>
          <p:cNvPicPr/>
          <p:nvPr/>
        </p:nvPicPr>
        <p:blipFill>
          <a:blip r:embed="rId1"/>
          <a:stretch/>
        </p:blipFill>
        <p:spPr>
          <a:xfrm>
            <a:off x="5572080" y="1285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Средний возраст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571680" y="1357200"/>
            <a:ext cx="8143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ентябрь    Свойства воды – раствор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зных веществ/пищев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пищевых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ктябрь      Вода разной температ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айник, парообраз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ябрь       Воды атмосферы и 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/туман, роса, радуга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кабрь      Вода в твердом состоя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/снег, лед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нварь.      Водоемы суши /озера, ре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олото, пруд, моря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враль    переход воды из одного состояния в другое /уз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окнах, оттепель, сосульки, иней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рт           Свойства воды - плавучесть, удержание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поверх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прель       Опасная вода и приспособление к ней жи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рганизмов. способы очис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/фильтрация, кипячение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родные механизмы защиты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й            Вода в жизни людей. Климатические зоны. Жаж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4" descr="http://tmndetsady.ru/upload/news/thumb_80690ebf9818a2857caf0286efc31598.jpg"/>
          <p:cNvPicPr/>
          <p:nvPr/>
        </p:nvPicPr>
        <p:blipFill>
          <a:blip r:embed="rId1"/>
          <a:stretch/>
        </p:blipFill>
        <p:spPr>
          <a:xfrm>
            <a:off x="5857920" y="928800"/>
            <a:ext cx="2786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Старший возраст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571680" y="1643040"/>
            <a:ext cx="80722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ентябрь     Вода в быту. Быт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боры. водопро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ктябрь      Микробы в в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зличная фильтр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способы очис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ябрь       Мировой океан.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ля план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кабрь     Агрегатные состоя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ы/твердое,  жидк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ообразное/расширение по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нварь       Воды атмосферы. Связь с воздухом./водя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ар, облака, тучи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враль     подземные воды. виды, зна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рт           состав воды .минерализация. вода и лек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прель      сила воды /наводнения, цунами/  защи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ловека. вода как средство пере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й            жизнь в водое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3" descr="http://tmndetsady.ru/upload/news/thumb_5f54be7be042086623589765bf83e0ea.jpg"/>
          <p:cNvPicPr/>
          <p:nvPr/>
        </p:nvPicPr>
        <p:blipFill>
          <a:blip r:embed="rId1"/>
          <a:stretch/>
        </p:blipFill>
        <p:spPr>
          <a:xfrm>
            <a:off x="5286240" y="1000080"/>
            <a:ext cx="3071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Подготовительный возраст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571680" y="1357200"/>
            <a:ext cx="8072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ентябрь     Вода – наш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мощница./мельниц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идростанции, орос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истемы, пожаротушени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ч./ Водный и подво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по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ктябрь       Виды воды—речная, морск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сная ,талая, родниковая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ябрь         осадки - полезны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редные. Климатические з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/тропические ливни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кабрь       чудесные превращения воды. Лед, кристаллиз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ращивание кристал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нварь         Ледники и горные ре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враль      жизнь во льдах и подольдом. Ледо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рт             круговорот воды в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прель         животные и растения водоемов. 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щ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й              Вода - сок земли. Вода-это жизнь. Завис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ловечества от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4" descr="http://tmndetsady.ru/upload/news/thumb_281d4c1cda60a86974ab3329a258253b.jpg"/>
          <p:cNvPicPr/>
          <p:nvPr/>
        </p:nvPicPr>
        <p:blipFill>
          <a:blip r:embed="rId1"/>
          <a:stretch/>
        </p:blipFill>
        <p:spPr>
          <a:xfrm>
            <a:off x="5929200" y="1285920"/>
            <a:ext cx="2786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2" descr="C:\Documents and Settings\Admin\Рабочий стол\Новая папка\x_1ae311c8.jpg"/>
          <p:cNvPicPr/>
          <p:nvPr/>
        </p:nvPicPr>
        <p:blipFill>
          <a:blip r:embed="rId1"/>
          <a:stretch/>
        </p:blipFill>
        <p:spPr>
          <a:xfrm>
            <a:off x="428760" y="785880"/>
            <a:ext cx="3932280" cy="294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Documents and Settings\Admin\Рабочий стол\Новая папка\x_b158e253.jpg"/>
          <p:cNvPicPr/>
          <p:nvPr/>
        </p:nvPicPr>
        <p:blipFill>
          <a:blip r:embed="rId2"/>
          <a:stretch/>
        </p:blipFill>
        <p:spPr>
          <a:xfrm>
            <a:off x="4643280" y="2571840"/>
            <a:ext cx="3930840" cy="29480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1385640" y="400068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ты со сне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4983480" y="128592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крашивание снегов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Picture 2" descr="C:\Documents and Settings\Admin\Рабочий стол\Новая папка\x_5dcb2aba.jpg"/>
          <p:cNvPicPr/>
          <p:nvPr/>
        </p:nvPicPr>
        <p:blipFill>
          <a:blip r:embed="rId1"/>
          <a:stretch/>
        </p:blipFill>
        <p:spPr>
          <a:xfrm>
            <a:off x="500040" y="714240"/>
            <a:ext cx="3932280" cy="2949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C:\Documents and Settings\Admin\Рабочий стол\Новая папка\x_834f64f9.jpg"/>
          <p:cNvPicPr/>
          <p:nvPr/>
        </p:nvPicPr>
        <p:blipFill>
          <a:blip r:embed="rId2"/>
          <a:stretch/>
        </p:blipFill>
        <p:spPr>
          <a:xfrm>
            <a:off x="4643280" y="2500200"/>
            <a:ext cx="3930840" cy="294804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6"/>
          <p:cNvSpPr/>
          <p:nvPr/>
        </p:nvSpPr>
        <p:spPr>
          <a:xfrm>
            <a:off x="428760" y="378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зл «Водово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рия развития водопро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4752360" y="16430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крашивание жителей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8" name="Picture 2" descr="C:\Documents and Settings\Admin\Рабочий стол\Новая папка\x_b4d33dc3.jpg"/>
          <p:cNvPicPr/>
          <p:nvPr/>
        </p:nvPicPr>
        <p:blipFill>
          <a:blip r:embed="rId1"/>
          <a:stretch/>
        </p:blipFill>
        <p:spPr>
          <a:xfrm>
            <a:off x="571680" y="785880"/>
            <a:ext cx="3931920" cy="2949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Documents and Settings\Admin\Рабочий стол\Новая папка\x_fd84f3ed.jpg"/>
          <p:cNvPicPr/>
          <p:nvPr/>
        </p:nvPicPr>
        <p:blipFill>
          <a:blip r:embed="rId2"/>
          <a:stretch/>
        </p:blipFill>
        <p:spPr>
          <a:xfrm>
            <a:off x="4643280" y="2786040"/>
            <a:ext cx="3930840" cy="29480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6"/>
          <p:cNvSpPr/>
          <p:nvPr/>
        </p:nvSpPr>
        <p:spPr>
          <a:xfrm>
            <a:off x="1330920" y="414324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гра «Насели фер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5075640" y="1857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т «Фильтрация во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Picture 2" descr="C:\Documents and Settings\Admin\Рабочий стол\Новая папка\x_3492b13c.jpg"/>
          <p:cNvPicPr/>
          <p:nvPr/>
        </p:nvPicPr>
        <p:blipFill>
          <a:blip r:embed="rId1"/>
          <a:stretch/>
        </p:blipFill>
        <p:spPr>
          <a:xfrm>
            <a:off x="571680" y="857160"/>
            <a:ext cx="3931920" cy="2949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C:\Documents and Settings\Admin\Рабочий стол\Новая папка\x_cc815c1a.jpg"/>
          <p:cNvPicPr/>
          <p:nvPr/>
        </p:nvPicPr>
        <p:blipFill>
          <a:blip r:embed="rId2"/>
          <a:stretch/>
        </p:blipFill>
        <p:spPr>
          <a:xfrm>
            <a:off x="4643280" y="2571840"/>
            <a:ext cx="3930840" cy="29480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8"/>
          <p:cNvSpPr/>
          <p:nvPr/>
        </p:nvSpPr>
        <p:spPr>
          <a:xfrm>
            <a:off x="1321560" y="40719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кет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586480" y="16430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гости к капель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8" name="Picture 2" descr="C:\Documents and Settings\Admin\Рабочий стол\Новая папка\x_9ce93fcb.jpg"/>
          <p:cNvPicPr/>
          <p:nvPr/>
        </p:nvPicPr>
        <p:blipFill>
          <a:blip r:embed="rId1"/>
          <a:stretch/>
        </p:blipFill>
        <p:spPr>
          <a:xfrm>
            <a:off x="500040" y="642960"/>
            <a:ext cx="3932280" cy="2949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Documents and Settings\Admin\Рабочий стол\Новая папка\x_a7cf4e6c.jpg"/>
          <p:cNvPicPr/>
          <p:nvPr/>
        </p:nvPicPr>
        <p:blipFill>
          <a:blip r:embed="rId2"/>
          <a:stretch/>
        </p:blipFill>
        <p:spPr>
          <a:xfrm>
            <a:off x="4786200" y="642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C:\Documents and Settings\Admin\Рабочий стол\Новая папка\x_07850716.jpg"/>
          <p:cNvPicPr/>
          <p:nvPr/>
        </p:nvPicPr>
        <p:blipFill>
          <a:blip r:embed="rId3"/>
          <a:stretch/>
        </p:blipFill>
        <p:spPr>
          <a:xfrm>
            <a:off x="4857840" y="3643200"/>
            <a:ext cx="3571920" cy="26798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7"/>
          <p:cNvSpPr/>
          <p:nvPr/>
        </p:nvSpPr>
        <p:spPr>
          <a:xfrm>
            <a:off x="981360" y="400068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итатели морей и оке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9693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начение воды для организма челове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6160" y="1785600"/>
            <a:ext cx="44323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ез воды нет жизн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является главным источником энергии тела и челов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делает стенки сосудов эластичными, а кожу упруг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вышает иммунитет, включая механизмы, способные противостоять ра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является растворителем всех продуктов пит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снабжает клетки кислород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является самым лучшим мягким слабительным, помогает похудеть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714240" y="2203560"/>
            <a:ext cx="3643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Picture 2" descr="C:\Documents and Settings\Admin\Рабочий стол\Новая папка\x_b54b1764.jpg"/>
          <p:cNvPicPr/>
          <p:nvPr/>
        </p:nvPicPr>
        <p:blipFill>
          <a:blip r:embed="rId1"/>
          <a:stretch/>
        </p:blipFill>
        <p:spPr>
          <a:xfrm>
            <a:off x="500040" y="1928880"/>
            <a:ext cx="3932280" cy="294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Documents and Settings\Admin\Рабочий стол\Новая папка\x_949c26bf.jpg"/>
          <p:cNvPicPr/>
          <p:nvPr/>
        </p:nvPicPr>
        <p:blipFill>
          <a:blip r:embed="rId2"/>
          <a:stretch/>
        </p:blipFill>
        <p:spPr>
          <a:xfrm>
            <a:off x="4572000" y="2857680"/>
            <a:ext cx="3930480" cy="29476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143080" y="785880"/>
            <a:ext cx="44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ьеры экологическо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285560"/>
            <a:ext cx="818352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Желаю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творческих успехов!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04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доровьесберегающие технологии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9680" y="2000160"/>
            <a:ext cx="3932280" cy="417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 хороший, добрый ребено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сем детям в группе я желаю здоровь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усть все будут добрыми и красивыми, милыми и счастливыми (произвольные пассы руками над чашками с водой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ичка вкусная и приятная, пью тебя с удовольствие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 здоров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4714920" y="2292480"/>
            <a:ext cx="393228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30280"/>
            <a:ext cx="8183520" cy="5756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Фундаментальный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факт заключается в том, что деятельность экспериментирования пронизывает все сферы детской жизни, все детские деятельности, в том числе и игровую. Последняя возникает значительно позже деятельности экспериментирова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.Н.Поддъя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14240" y="250020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766f"/>
                </a:solidFill>
                <a:latin typeface="Verdana"/>
              </a:rPr>
              <a:t>развитие умений ребенка взаимодействовать с исследуемыми объектами в "лабораторных" условиях как средствами познания окружающего мир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4" descr="эксперименты и опыты в детском саду"/>
          <p:cNvPicPr/>
          <p:nvPr/>
        </p:nvPicPr>
        <p:blipFill>
          <a:blip r:embed="rId1"/>
          <a:stretch/>
        </p:blipFill>
        <p:spPr>
          <a:xfrm>
            <a:off x="714240" y="714240"/>
            <a:ext cx="7146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дачи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15001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вивать познавательную активность, мышление, любознательность в процессе экспериментирования с водо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чить детей видеть и выделять проблем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эксперимента, выдвигать гипотезу, делать вывод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пособствовать формированию и расширению знаний детей о воде и её свойства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чить отбирать средства и материалы для самостоятельной дея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вивать личностные свойства: целеустремлённость, настойчивость, решитель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вивать культурно-гигиенические навыки, связанные с водой и водными процедур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Рисунок 4" descr="эксперименты и опыты в детском саду"/>
          <p:cNvPicPr/>
          <p:nvPr/>
        </p:nvPicPr>
        <p:blipFill>
          <a:blip r:embed="rId1"/>
          <a:stretch/>
        </p:blipFill>
        <p:spPr>
          <a:xfrm>
            <a:off x="7500960" y="642960"/>
            <a:ext cx="709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9693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ы с водой в младшем и среднем возрас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400" y="1928880"/>
            <a:ext cx="3932280" cy="3929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свойства вод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цвет, форма. вес, зап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работа анализатор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грегатные состояния воды: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жидкое, твердое, газообразно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пыты со снегом, льдом, кипячение воды в электрочайнике - пар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Рисунок 6" descr="http://tmndetsady.ru/upload/news/thumb_fe53420d89a5714fd40069ed9fba099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143080"/>
            <a:ext cx="3930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40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ы с водой в старшем возрас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71600" y="1571400"/>
            <a:ext cx="46465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войства воды: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арение, конденсация, растворим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пыты с завариванием чая, смешиванием различных веществ в воде, наблюдение за капельками воды на стеклышк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ла воды: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воднения, цунами, сильный напор вод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ёмкости для воды – создание волны, смывание предметов волной, сильной струей воды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Содержимое 4" descr="http://tmndetsady.ru/upload/news/thumb_f7e28a701d5e2554f167591e72af461a.jpg"/>
          <p:cNvPicPr/>
          <p:nvPr/>
        </p:nvPicPr>
        <p:blipFill>
          <a:blip r:embed="rId1"/>
          <a:stretch/>
        </p:blipFill>
        <p:spPr>
          <a:xfrm>
            <a:off x="500040" y="2424240"/>
            <a:ext cx="357192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ыты с водой в подготовительной групп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856880"/>
            <a:ext cx="485784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войства воды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удержание на поверхности, минерализация, кристалл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опыты с ёмкостями и плавучими предметами, добавление соли в воду, выращивание кристаллов и пр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Вода в природе и жизни челов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опыты в водоёме, если имеется, опыты с грязной водой, изучение водной системы плане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Содержимое 4" descr="http://tmndetsady.ru/upload/news/thumb_c9881965d96d8b8444ea9d3f60371fee.jpg"/>
          <p:cNvPicPr/>
          <p:nvPr/>
        </p:nvPicPr>
        <p:blipFill>
          <a:blip r:embed="rId1"/>
          <a:stretch/>
        </p:blipFill>
        <p:spPr>
          <a:xfrm>
            <a:off x="5214960" y="2357280"/>
            <a:ext cx="3360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3:08:11Z</dcterms:created>
  <dc:creator>Admin</dc:creator>
  <dc:description/>
  <dc:language>en-US</dc:language>
  <cp:lastModifiedBy>Admin</cp:lastModifiedBy>
  <dcterms:modified xsi:type="dcterms:W3CDTF">2012-05-28T10:16:48Z</dcterms:modified>
  <cp:revision>28</cp:revision>
  <dc:subject/>
  <dc:title>Государственное бюджетное дошкольное  образовательное учреждение  детский сад № 55 комбинированного вида  Колпинского района Санкт-Петербурга</dc:title>
</cp:coreProperties>
</file>