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E649-0D08-4B92-B560-E1646BAD7B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нтябрь     Свойства воды-растворимость разных веществ/пищевых,непищевых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тябрь      Вода разной температуры.Чайник,парообраз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ябрь     Воды атмосферы и явления/туман,роса,радуга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абрь  Вода в твердом состоянии  /снег,лед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варь.  Водоемы суши /озера,реки,болото,пруд,моря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враль   переход воды из одного состояния в другое /узоры на окнах,оттепель,сосульки,иней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т Свойства воды-плавучесть,удержание предметов на поверх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рель   Опасная вода и приспособление к ней живых организмов.способы очистки/фильтрация,кипячение,природные механизмы защиты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й     Вода в жизни людей.Климатические зоны.Жаж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7701-EE1A-4AB3-B63F-1E9B20F1EA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нтябрь     Вода в быту.Бытовые приборы.водопро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тябрь   Микробы в воде. Различная фильтрация и способы очис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ябрь     Мировой океан. Значение для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абрь  Агрегатные состояния воды/твердое,жидкое,газообразное/расширение пон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варь Воды атмосферы.Связь с воздухом./водяной пар,облака,тучи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враль  подземные воды.виды,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т  состав воды.минерализация.вода и лек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рель  сила воды /наводнения,цунами/  защита человека.вода как средство предви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й  жизнь в водое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294E-F2CD-4BEF-BC7C-5F43FD985D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нтябрь   Вода-наша помощница./мельницы,гидростанции,оросительные системы,пожаротушение и проч./ Водный и подводный транспо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тябрь Виды воды—речная,морская,пресная,талая,родниковая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ябрь   осадки-полезные и вредные.климатические зоны/тропические ливни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абрь  чудесные превращения воды.Лед,кристаллизация.выращивание кристал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варь  Ледники и горные ре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враль жизнь во льдах и подо льдом.Ледо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т   круговорот воды в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рель   животные и растения водоемов.экологическая защи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й     Вода-сок земли.Вода-это жизнь. Зависимость человечества от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1C95-1BBC-43B3-9189-AF84D6C121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ашивание снегов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1377-479E-47E8-B096-B5FF2F7C00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ашивание жителей мор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1411-39C0-4562-9D22-A9C3CB5B18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«Фильтрация вод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F5B1-B2E1-4BD7-ACDC-FFAB7ECA69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E46C-5B54-4F77-AEB3-0C97EC9E33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татели морей и оке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5CC6-9F6E-4E01-824D-5E6E85EB82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ьеры экологической лаборат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FEBB-422F-4065-976F-DED09DD9A0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ю творческих успехов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22B4-6B2A-4492-B8C6-75A503F79D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5F13-A654-4919-840F-F243D1C9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E837-C86E-4AE4-B0B7-328D242C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EF90-8FD8-4249-A892-53844B2B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6FC9-80CA-488D-8595-BDCBB367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91CF-71EB-4BFF-BA28-45E76F18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5A4B-3539-48B5-9A47-62C35715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1F9E-0266-441A-BDC4-0CEA17B2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C581-3E90-43F3-BE17-140750EF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AD65-51BE-45C3-8B35-6DFFD7C7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429C-0BF9-4A8B-A901-8ABC64E9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0A0D-EA42-427B-9D36-3D683AF0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6D59-A109-483C-AECB-ED3F71C2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57FC-FB53-466A-8ECA-32064C5B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9356-929C-4F2C-9551-A25C84FD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DAA3-1930-464A-8310-ACED6862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5332-FBF8-4929-A0B0-0FD1E1AA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9225-B130-4A19-BB92-B139AFC5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9C17F-EACB-4467-8CC3-B391801D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51471-1A95-49C9-847E-B29ABB34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04126-DE1A-4E6E-A79D-FAC81A33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683D4-C6D6-4D60-B348-76F63C07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6CB54-FCE9-4FF8-AB45-2583364B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CB51-1987-49F1-A59E-1C1D52BB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3C962-6FE2-4478-BCBD-9869EB24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2C921-5C2A-42C7-BBD4-B2385A6D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F9489-D92C-4E71-8916-6AC94B1B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2F02E-AF42-4CB9-A376-706F105C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AF2D1-11C6-474B-AE39-10053455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9BC80-FE20-4391-A306-BD68604D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67F7D-6269-4B17-B7B0-DD9B6D68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59B31-9EDD-45ED-95C8-07D4C1E6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40C42-2F15-4B79-8BBD-8ABBCEB3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EF9CD-6BC8-4D70-BAE2-CD1C584C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7C73-0821-4279-9F56-96B5CF46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EE47F-8255-41A4-A908-99DF9C2E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F3E98-2331-4E0F-A769-9CEA81BC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01510-30F4-48CF-B236-A4A741ED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7E60D-745F-49ED-BC4E-D158C47B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EB3AB-EA0F-4E17-86C2-1F2072DC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2F703-1934-4E93-A97C-AA88793C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E8F99-0E7D-42D4-B7D9-88C95702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CD5BF-DDC3-44C5-B031-F50D6337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8474E-B278-4EFD-A5EE-72963FC5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452FA-39B2-433F-BDE8-CF827998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548C-DDA8-49CA-96FA-CA1F519C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8138A-B8DE-4057-954A-3B0662D4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D140F-AE61-4F9E-B9D3-FF31C9F4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D229A-2FD0-45B6-B643-BF99986C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117D0-B506-4B3F-9FFD-33D545B7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5658B-51D8-40D3-B854-20F3F913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CF00D-D339-4D12-A956-76862E5F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EDBC8-1378-4607-A8EA-00331339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11559-DFAD-4E94-AA9C-5C9B9970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CCEA2-4D2F-4DF9-9FFE-1384D61E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16F9C-CB69-4A2E-8733-E6CDCAE5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5F83-463D-440C-A462-196F8EA1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4A097-5C19-45C1-A3D7-746BDC999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04B0-1DE2-400D-9240-B862570F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D39A-F6C1-4D7B-B7A1-633D250A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0E3D-42AA-42A3-A652-39779927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5B2A-91A7-43C4-88F5-B17D4787863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B00C-4347-475A-B365-78CB77BFAFE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FEE3-1A7F-44A1-85D0-0CBFCCEFD20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CD94-6E64-46E6-BED5-15F64DAF382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B6CD-1DD1-4F2D-BCC3-6354B7B7873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mndetsady.ru/upload/news/orig_fe53420d89a5714fd40069ed9fba0993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Государственное бюджетное дошкольное </a:t>
            </a:r>
            <a:br>
              <a:rPr sz="2000"/>
            </a:b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образовательное учреждение</a:t>
            </a:r>
            <a:br>
              <a:rPr sz="2000"/>
            </a:b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 детский сад № 55 комбинированного вида</a:t>
            </a:r>
            <a:br>
              <a:rPr sz="2000"/>
            </a:b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 Колпинского района Санкт-Петербурга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57160" y="2571840"/>
            <a:ext cx="7500960" cy="40003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766f"/>
                </a:solidFill>
                <a:latin typeface="Verdana"/>
              </a:rPr>
              <a:t>Опытно-экспериментальная деятельность в разных возрастных групп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79766f"/>
                </a:solidFill>
                <a:latin typeface="Verdana"/>
              </a:rPr>
              <a:t>«Вода-символ жизни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79766f"/>
                </a:solidFill>
                <a:latin typeface="Verdana"/>
              </a:rPr>
              <a:t> </a:t>
            </a:r>
            <a:r>
              <a:rPr b="1" lang="ru-RU" sz="4100" spc="-1" strike="noStrike">
                <a:solidFill>
                  <a:srgbClr val="79766f"/>
                </a:solidFill>
                <a:latin typeface="Verdana"/>
              </a:rPr>
              <a:t>Опыты с водой.»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9766f"/>
                </a:solidFill>
                <a:latin typeface="Verdana"/>
              </a:rPr>
              <a:t>                                       </a:t>
            </a:r>
            <a:r>
              <a:rPr b="1" lang="ru-RU" sz="1900" spc="-1" strike="noStrike">
                <a:solidFill>
                  <a:srgbClr val="79766f"/>
                </a:solidFill>
                <a:latin typeface="Verdana"/>
              </a:rPr>
              <a:t>воспитатель </a:t>
            </a:r>
            <a:r>
              <a:rPr b="1" lang="en-US" sz="1900" spc="-1" strike="noStrike">
                <a:solidFill>
                  <a:srgbClr val="79766f"/>
                </a:solidFill>
                <a:latin typeface="Verdana"/>
              </a:rPr>
              <a:t>I </a:t>
            </a:r>
            <a:r>
              <a:rPr b="1" lang="ru-RU" sz="1900" spc="-1" strike="noStrike">
                <a:solidFill>
                  <a:srgbClr val="79766f"/>
                </a:solidFill>
                <a:latin typeface="Verdana"/>
              </a:rPr>
              <a:t>кв. к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9766f"/>
                </a:solidFill>
                <a:latin typeface="Verdana"/>
              </a:rPr>
              <a:t>                                        </a:t>
            </a:r>
            <a:r>
              <a:rPr b="1" lang="ru-RU" sz="1900" spc="-1" strike="noStrike">
                <a:solidFill>
                  <a:srgbClr val="79766f"/>
                </a:solidFill>
                <a:latin typeface="Verdana"/>
              </a:rPr>
              <a:t>Рослякова М.Г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79766f"/>
                </a:solidFill>
                <a:latin typeface="Verdana"/>
              </a:rPr>
              <a:t>СПб, 201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мерно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плексно-тематическое план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Рисунок 3" descr="эксперименты и опыты в детском саду"/>
          <p:cNvPicPr/>
          <p:nvPr/>
        </p:nvPicPr>
        <p:blipFill>
          <a:blip r:embed="rId1"/>
          <a:stretch/>
        </p:blipFill>
        <p:spPr>
          <a:xfrm>
            <a:off x="4286160" y="5143680"/>
            <a:ext cx="709560" cy="64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8d3e"/>
                </a:solidFill>
                <a:uFillTx/>
                <a:latin typeface="Verdana"/>
              </a:rPr>
              <a:t>Младший возраст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57120" y="1213920"/>
            <a:ext cx="5143680" cy="535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ентябрь    Вода.какая она? КГН.Вод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дом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ктябрь      Вода на улице. Лужа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аленький водоем./грязная-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истая вода/опыты с водой 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еском/плотность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оябрь       Свойства воды/цвет,  запах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форма/ опыты в групп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екабрь     Агрегатные состояния воды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/дождь, снег,град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Январь       Свойства снега /плотность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аянье, вес-следы на снегу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Февраль     Кристаллизация/снежинка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ед/ цветной лед в формочках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арт           Свойства воды- плавучесть,вес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иды малых водоемов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ужа,ручеек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прель      Вода в жизни растений 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животных./полив,утоление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жажды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ай            вода в жизни людей.бережное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тношение к вод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Содержимое 4" descr="http://tmndetsady.ru/upload/news/thumb_2c631d8456d0db0e912ff2149575eac6.jpg"/>
          <p:cNvPicPr/>
          <p:nvPr/>
        </p:nvPicPr>
        <p:blipFill>
          <a:blip r:embed="rId1"/>
          <a:stretch/>
        </p:blipFill>
        <p:spPr>
          <a:xfrm>
            <a:off x="5572080" y="12859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8d3e"/>
                </a:solidFill>
                <a:uFillTx/>
                <a:latin typeface="Verdana"/>
              </a:rPr>
              <a:t>Средний возраст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Прямоугольник 3"/>
          <p:cNvSpPr/>
          <p:nvPr/>
        </p:nvSpPr>
        <p:spPr>
          <a:xfrm>
            <a:off x="571680" y="1357200"/>
            <a:ext cx="81435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ентябрь    Свойства воды – раствори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азных веществ/пищев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епищевых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ктябрь      Вода разной температур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Чайник, парообраз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оябрь       Воды атмосферы и я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/туман, роса, радуга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екабрь      Вода в твердом состоян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/снег, лед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Январь.      Водоемы суши /озера, ре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олото, пруд, моря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евраль    переход воды из одного состояния в другое /уз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 окнах, оттепель, сосульки, иней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арт           Свойства воды - плавучесть, удержание предм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 поверх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прель       Опасная вода и приспособление к ней жив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рганизмов. способы очист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/фильтрация, кипячение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иродные механизмы защиты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ай            Вода в жизни людей. Климатические зоны. Жаж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4" descr="http://tmndetsady.ru/upload/news/thumb_80690ebf9818a2857caf0286efc31598.jpg"/>
          <p:cNvPicPr/>
          <p:nvPr/>
        </p:nvPicPr>
        <p:blipFill>
          <a:blip r:embed="rId1"/>
          <a:stretch/>
        </p:blipFill>
        <p:spPr>
          <a:xfrm>
            <a:off x="5857920" y="928800"/>
            <a:ext cx="27860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1835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8d3e"/>
                </a:solidFill>
                <a:uFillTx/>
                <a:latin typeface="Verdana"/>
              </a:rPr>
              <a:t>Старший возраст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Прямоугольник 2"/>
          <p:cNvSpPr/>
          <p:nvPr/>
        </p:nvSpPr>
        <p:spPr>
          <a:xfrm>
            <a:off x="571680" y="1643040"/>
            <a:ext cx="80722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ентябрь     Вода в быту. Бытов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иборы. водопров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ктябрь      Микробы в во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Различная фильтр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 способы очис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оябрь       Мировой океан. Зна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ля плане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екабрь     Агрегатные состоя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оды/твердое,  жидко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азообразное/расширение понят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Январь       Воды атмосферы. Связь с воздухом./водя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ар, облака, тучи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евраль     подземные воды. виды, знач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арт           состав воды .минерализация. вода и лекар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прель      сила воды /наводнения, цунами/  защи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человека. вода как средство передви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ай            жизнь в водоем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Рисунок 3" descr="http://tmndetsady.ru/upload/news/thumb_5f54be7be042086623589765bf83e0ea.jpg"/>
          <p:cNvPicPr/>
          <p:nvPr/>
        </p:nvPicPr>
        <p:blipFill>
          <a:blip r:embed="rId1"/>
          <a:stretch/>
        </p:blipFill>
        <p:spPr>
          <a:xfrm>
            <a:off x="5286240" y="1000080"/>
            <a:ext cx="30718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8d3e"/>
                </a:solidFill>
                <a:uFillTx/>
                <a:latin typeface="Verdana"/>
              </a:rPr>
              <a:t>Подготовительный возраст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5" name="Прямоугольник 3"/>
          <p:cNvSpPr/>
          <p:nvPr/>
        </p:nvSpPr>
        <p:spPr>
          <a:xfrm>
            <a:off x="571680" y="1357200"/>
            <a:ext cx="80722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ентябрь     Вода – наш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мощница./мельниц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идростанции, оросите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истемы, пожаротушение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ч./ Водный и подвод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ранспор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ктябрь       Виды воды—речная, морска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есная ,талая, родниковая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оябрь         осадки - полезные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редные. Климатические з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/тропические ливни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екабрь       чудесные превращения воды. Лед, кристаллиза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ыращивание кристал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Январь         Ледники и горные ре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евраль      жизнь во льдах и подольдом. Ледоко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арт             круговорот воды в при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прель         животные и растения водоемов. экологиче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защи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ай              Вода - сок земли. Вода-это жизнь. Зависи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человечества от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Рисунок 4" descr="http://tmndetsady.ru/upload/news/thumb_281d4c1cda60a86974ab3329a258253b.jpg"/>
          <p:cNvPicPr/>
          <p:nvPr/>
        </p:nvPicPr>
        <p:blipFill>
          <a:blip r:embed="rId1"/>
          <a:stretch/>
        </p:blipFill>
        <p:spPr>
          <a:xfrm>
            <a:off x="5929200" y="1285920"/>
            <a:ext cx="27860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8" name="Picture 2" descr="C:\Documents and Settings\Admin\Рабочий стол\Новая папка\x_1ae311c8.jpg"/>
          <p:cNvPicPr/>
          <p:nvPr/>
        </p:nvPicPr>
        <p:blipFill>
          <a:blip r:embed="rId1"/>
          <a:stretch/>
        </p:blipFill>
        <p:spPr>
          <a:xfrm>
            <a:off x="428760" y="785880"/>
            <a:ext cx="3932280" cy="2949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:\Documents and Settings\Admin\Рабочий стол\Новая папка\x_b158e253.jpg"/>
          <p:cNvPicPr/>
          <p:nvPr/>
        </p:nvPicPr>
        <p:blipFill>
          <a:blip r:embed="rId2"/>
          <a:stretch/>
        </p:blipFill>
        <p:spPr>
          <a:xfrm>
            <a:off x="4643280" y="2571840"/>
            <a:ext cx="3930840" cy="294804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6"/>
          <p:cNvSpPr/>
          <p:nvPr/>
        </p:nvSpPr>
        <p:spPr>
          <a:xfrm>
            <a:off x="1385640" y="4000680"/>
            <a:ext cx="212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ыты со сне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7"/>
          <p:cNvSpPr/>
          <p:nvPr/>
        </p:nvSpPr>
        <p:spPr>
          <a:xfrm>
            <a:off x="4983480" y="1285920"/>
            <a:ext cx="31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скрашивание снегов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3" name="Picture 2" descr="C:\Documents and Settings\Admin\Рабочий стол\Новая папка\x_5dcb2aba.jpg"/>
          <p:cNvPicPr/>
          <p:nvPr/>
        </p:nvPicPr>
        <p:blipFill>
          <a:blip r:embed="rId1"/>
          <a:stretch/>
        </p:blipFill>
        <p:spPr>
          <a:xfrm>
            <a:off x="500040" y="714240"/>
            <a:ext cx="3932280" cy="2949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C:\Documents and Settings\Admin\Рабочий стол\Новая папка\x_834f64f9.jpg"/>
          <p:cNvPicPr/>
          <p:nvPr/>
        </p:nvPicPr>
        <p:blipFill>
          <a:blip r:embed="rId2"/>
          <a:stretch/>
        </p:blipFill>
        <p:spPr>
          <a:xfrm>
            <a:off x="4643280" y="2500200"/>
            <a:ext cx="3930840" cy="294804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6"/>
          <p:cNvSpPr/>
          <p:nvPr/>
        </p:nvSpPr>
        <p:spPr>
          <a:xfrm>
            <a:off x="428760" y="3786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зл «Водовоз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тория развития водопро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8"/>
          <p:cNvSpPr/>
          <p:nvPr/>
        </p:nvSpPr>
        <p:spPr>
          <a:xfrm>
            <a:off x="4752360" y="164304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скрашивание жителей мо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8" name="Picture 2" descr="C:\Documents and Settings\Admin\Рабочий стол\Новая папка\x_b4d33dc3.jpg"/>
          <p:cNvPicPr/>
          <p:nvPr/>
        </p:nvPicPr>
        <p:blipFill>
          <a:blip r:embed="rId1"/>
          <a:stretch/>
        </p:blipFill>
        <p:spPr>
          <a:xfrm>
            <a:off x="571680" y="785880"/>
            <a:ext cx="3931920" cy="29494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C:\Documents and Settings\Admin\Рабочий стол\Новая папка\x_fd84f3ed.jpg"/>
          <p:cNvPicPr/>
          <p:nvPr/>
        </p:nvPicPr>
        <p:blipFill>
          <a:blip r:embed="rId2"/>
          <a:stretch/>
        </p:blipFill>
        <p:spPr>
          <a:xfrm>
            <a:off x="4643280" y="2786040"/>
            <a:ext cx="3930840" cy="294804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6"/>
          <p:cNvSpPr/>
          <p:nvPr/>
        </p:nvSpPr>
        <p:spPr>
          <a:xfrm>
            <a:off x="1330920" y="414324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гра «Насели ферм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7"/>
          <p:cNvSpPr/>
          <p:nvPr/>
        </p:nvSpPr>
        <p:spPr>
          <a:xfrm>
            <a:off x="5075640" y="185724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ыт «Фильтрация вод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3" name="Picture 2" descr="C:\Documents and Settings\Admin\Рабочий стол\Новая папка\x_3492b13c.jpg"/>
          <p:cNvPicPr/>
          <p:nvPr/>
        </p:nvPicPr>
        <p:blipFill>
          <a:blip r:embed="rId1"/>
          <a:stretch/>
        </p:blipFill>
        <p:spPr>
          <a:xfrm>
            <a:off x="571680" y="857160"/>
            <a:ext cx="3931920" cy="29498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C:\Documents and Settings\Admin\Рабочий стол\Новая папка\x_cc815c1a.jpg"/>
          <p:cNvPicPr/>
          <p:nvPr/>
        </p:nvPicPr>
        <p:blipFill>
          <a:blip r:embed="rId2"/>
          <a:stretch/>
        </p:blipFill>
        <p:spPr>
          <a:xfrm>
            <a:off x="4643280" y="2571840"/>
            <a:ext cx="3930840" cy="294804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оугольник 8"/>
          <p:cNvSpPr/>
          <p:nvPr/>
        </p:nvSpPr>
        <p:spPr>
          <a:xfrm>
            <a:off x="1321560" y="40719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акет 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5586480" y="164304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гости к капель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8" name="Picture 2" descr="C:\Documents and Settings\Admin\Рабочий стол\Новая папка\x_9ce93fcb.jpg"/>
          <p:cNvPicPr/>
          <p:nvPr/>
        </p:nvPicPr>
        <p:blipFill>
          <a:blip r:embed="rId1"/>
          <a:stretch/>
        </p:blipFill>
        <p:spPr>
          <a:xfrm>
            <a:off x="500040" y="642960"/>
            <a:ext cx="3932280" cy="29494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C:\Documents and Settings\Admin\Рабочий стол\Новая папка\x_a7cf4e6c.jpg"/>
          <p:cNvPicPr/>
          <p:nvPr/>
        </p:nvPicPr>
        <p:blipFill>
          <a:blip r:embed="rId2"/>
          <a:stretch/>
        </p:blipFill>
        <p:spPr>
          <a:xfrm>
            <a:off x="4786200" y="642960"/>
            <a:ext cx="3500640" cy="26258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C:\Documents and Settings\Admin\Рабочий стол\Новая папка\x_07850716.jpg"/>
          <p:cNvPicPr/>
          <p:nvPr/>
        </p:nvPicPr>
        <p:blipFill>
          <a:blip r:embed="rId3"/>
          <a:stretch/>
        </p:blipFill>
        <p:spPr>
          <a:xfrm>
            <a:off x="4857840" y="3643200"/>
            <a:ext cx="3571920" cy="267984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7"/>
          <p:cNvSpPr/>
          <p:nvPr/>
        </p:nvSpPr>
        <p:spPr>
          <a:xfrm>
            <a:off x="981360" y="400068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итатели морей и оке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13880" y="428760"/>
            <a:ext cx="796932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Значение воды для организма челове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86160" y="1785600"/>
            <a:ext cx="443232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ез воды нет жизн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ода является главным источником энергии тела и человек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ода делает стенки сосудов эластичными, а кожу упруго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вышает иммунитет, включая механизмы, способные противостоять рак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ода является растворителем всех продуктов пита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ода снабжает клетки кислородо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ода является самым лучшим мягким слабительным, помогает похудеть и т.д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714240" y="2203560"/>
            <a:ext cx="36435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3" name="Picture 2" descr="C:\Documents and Settings\Admin\Рабочий стол\Новая папка\x_b54b1764.jpg"/>
          <p:cNvPicPr/>
          <p:nvPr/>
        </p:nvPicPr>
        <p:blipFill>
          <a:blip r:embed="rId1"/>
          <a:stretch/>
        </p:blipFill>
        <p:spPr>
          <a:xfrm>
            <a:off x="500040" y="1928880"/>
            <a:ext cx="3932280" cy="29494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C:\Documents and Settings\Admin\Рабочий стол\Новая папка\x_949c26bf.jpg"/>
          <p:cNvPicPr/>
          <p:nvPr/>
        </p:nvPicPr>
        <p:blipFill>
          <a:blip r:embed="rId2"/>
          <a:stretch/>
        </p:blipFill>
        <p:spPr>
          <a:xfrm>
            <a:off x="4572000" y="2857680"/>
            <a:ext cx="3930480" cy="294768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6"/>
          <p:cNvSpPr/>
          <p:nvPr/>
        </p:nvSpPr>
        <p:spPr>
          <a:xfrm>
            <a:off x="2143080" y="785880"/>
            <a:ext cx="44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ьеры экологической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1285560"/>
            <a:ext cx="818352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Желаю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творческих успехов!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8040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Здоровьесберегающие технологии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99680" y="2000160"/>
            <a:ext cx="3932280" cy="4175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Я хороший, добрый ребенок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сем детям в группе я желаю здоровь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усть все будут добрыми и красивыми, милыми и счастливыми (произвольные пассы руками над чашками с водой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одичка вкусная и приятная, пью тебя с удовольствием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Я здоров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1"/>
          <a:stretch/>
        </p:blipFill>
        <p:spPr>
          <a:xfrm>
            <a:off x="4714920" y="2292480"/>
            <a:ext cx="3932280" cy="29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3280" y="530280"/>
            <a:ext cx="8183520" cy="5756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«Фундаментальный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факт заключается в том, что деятельность экспериментирования пронизывает все сферы детской жизни, все детские деятельности, в том числе и игровую. Последняя возникает значительно позже деятельности экспериментировани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.Н.Поддъя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22160" y="57168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Цель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714240" y="2500200"/>
            <a:ext cx="7772400" cy="38577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9766f"/>
                </a:solidFill>
                <a:latin typeface="Verdana"/>
              </a:rPr>
              <a:t>развитие умений ребенка взаимодействовать с исследуемыми объектами в "лабораторных" условиях как средствами познания окружающего мира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Рисунок 4" descr="эксперименты и опыты в детском саду"/>
          <p:cNvPicPr/>
          <p:nvPr/>
        </p:nvPicPr>
        <p:blipFill>
          <a:blip r:embed="rId1"/>
          <a:stretch/>
        </p:blipFill>
        <p:spPr>
          <a:xfrm>
            <a:off x="714240" y="714240"/>
            <a:ext cx="71460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Задачи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28760" y="150012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звивать познавательную активность, мышление, любознательность в процессе экспериментирования с водо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Учить детей видеть и выделять проблему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эксперимента, выдвигать гипотезу, делать выводы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пособствовать формированию и расширению знаний детей о воде и её свойствах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Учить отбирать средства и материалы для самостоятельной деятельност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звивать личностные свойства: целеустремлённость, настойчивость, решительность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звивать культурно-гигиенические навыки, связанные с водой и водными процедур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Рисунок 4" descr="эксперименты и опыты в детском саду"/>
          <p:cNvPicPr/>
          <p:nvPr/>
        </p:nvPicPr>
        <p:blipFill>
          <a:blip r:embed="rId1"/>
          <a:stretch/>
        </p:blipFill>
        <p:spPr>
          <a:xfrm>
            <a:off x="7500960" y="642960"/>
            <a:ext cx="7095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13880" y="428760"/>
            <a:ext cx="796932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пыты с водой в младшем и среднем возраст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28400" y="1928880"/>
            <a:ext cx="3932280" cy="3929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4000"/>
          </a:bodyPr>
          <a:p>
            <a:pPr marL="248760" indent="-2487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Основные свойства воды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цвет, форма. вес, запах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работа анализаторов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Агрегатные состояния воды: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жидкое, твердое, газообразно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опыты со снегом, льдом, кипячение воды в электрочайнике - пар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Рисунок 6" descr="http://tmndetsady.ru/upload/news/thumb_fe53420d89a5714fd40069ed9fba099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2143080"/>
            <a:ext cx="39304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320" y="500040"/>
            <a:ext cx="80406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пыты с водой в старшем возраст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071600" y="1571400"/>
            <a:ext cx="464652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войства воды: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парение, конденсация, растворимость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опыты с завариванием чая, смешиванием различных веществ в воде, наблюдение за капельками воды на стеклышк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ила воды: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наводнения, цунами, сильный напор вод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ёмкости для воды – создание волны, смывание предметов волной, сильной струей воды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Содержимое 4" descr="http://tmndetsady.ru/upload/news/thumb_f7e28a701d5e2554f167591e72af461a.jpg"/>
          <p:cNvPicPr/>
          <p:nvPr/>
        </p:nvPicPr>
        <p:blipFill>
          <a:blip r:embed="rId1"/>
          <a:stretch/>
        </p:blipFill>
        <p:spPr>
          <a:xfrm>
            <a:off x="500040" y="2424240"/>
            <a:ext cx="3571920" cy="26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пыты с водой в подготовительной группе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00040" y="1856880"/>
            <a:ext cx="485784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Свойства воды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: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удержание на поверхности, минерализация, кристаллизац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опыты с ёмкостями и плавучими предметами, добавление соли в воду, выращивание кристаллов и пр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Вода в природе и жизни челове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опыты в водоёме, если имеется, опыты с грязной водой, изучение водной системы планет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Содержимое 4" descr="http://tmndetsady.ru/upload/news/thumb_c9881965d96d8b8444ea9d3f60371fee.jpg"/>
          <p:cNvPicPr/>
          <p:nvPr/>
        </p:nvPicPr>
        <p:blipFill>
          <a:blip r:embed="rId1"/>
          <a:stretch/>
        </p:blipFill>
        <p:spPr>
          <a:xfrm>
            <a:off x="5214960" y="2357280"/>
            <a:ext cx="33606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3:08:11Z</dcterms:created>
  <dc:creator>Admin</dc:creator>
  <dc:description/>
  <dc:language>en-US</dc:language>
  <cp:lastModifiedBy>Admin</cp:lastModifiedBy>
  <dcterms:modified xsi:type="dcterms:W3CDTF">2012-05-28T10:16:48Z</dcterms:modified>
  <cp:revision>28</cp:revision>
  <dc:subject/>
  <dc:title>Государственное бюджетное дошкольное  образовательное учреждение  детский сад № 55 комбинированного вида  Колпинского района Санкт-Петербурга</dc:title>
</cp:coreProperties>
</file>