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7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850-692A-4429-A7C9-2F41BFB5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49F-4101-4B9A-AC12-5F5EB7D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F42-D505-461D-AE46-B92BFE7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D99-6DE8-460B-B58B-BB21077A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A2F0-A281-482C-A7B8-14A242EA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C1DD-7A18-4C31-8CE2-E944E2BF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4B7-AFD3-4214-8BD7-AD8F370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4A4-C766-4C55-9B59-035B9E4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854-2A16-4664-B791-4216BAAF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CB6-C222-45EA-8702-BA204A80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9F8-EB4F-4AFB-AECF-6EB5542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E15-8301-4F3F-9085-EC9EB45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EE45-F279-4CB5-A2B5-9EB5673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344-4E0E-4FBD-8CD1-FAB8129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2CD4-0972-4510-B23F-C9C811F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348-BAB9-496C-9046-4101849E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437-ED58-4235-8B95-0CF452DE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520-B850-4A2E-9F16-552AA954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194-256A-439E-97CF-7A29883A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C4D-1E2D-4B07-AF11-DB6C9E6E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1C7-A989-48F1-A213-2A7D90D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7F4-C636-4FFE-838D-51E2514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3F7-0A3C-4D29-A887-E48E06B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E6A-6C82-450A-849F-339AF24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6FFB-2616-4692-AC25-ABF29EC1E1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495-395A-47C3-ACE7-185431EF7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фото 307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Rectangle 9" descr=""/>
          <p:cNvPicPr/>
          <p:nvPr/>
        </p:nvPicPr>
        <p:blipFill>
          <a:blip r:embed="rId2"/>
          <a:stretch/>
        </p:blipFill>
        <p:spPr>
          <a:xfrm>
            <a:off x="328680" y="274680"/>
            <a:ext cx="8534160" cy="1725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80880" y="5867280"/>
            <a:ext cx="838224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 двор – образовательный ресурс школы, часть нашей воспита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0880" y="3733920"/>
            <a:ext cx="83314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ьный двор – часть образовательной среды, в которой протекает процесс социализации, воспитания и развития личности ребенка. Эта среда должна быть функциональна и комфортна для ребенка, так как не только является составляющей частью процесса обучения, но и местом проведения свободного времени.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ьный двор – спортивной площадка с футбольным полем, клумбы, радующие глаза с ранней весны и до осенних заморозков, причудливые фигурки из бросового материала. Круглый год наш двор наполнен взрослыми и детьми, приходит много гостей, что бы отдохнуть и вспомнить свои школьные 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IMG_0464"/>
          <p:cNvPicPr/>
          <p:nvPr/>
        </p:nvPicPr>
        <p:blipFill>
          <a:blip r:embed="rId4"/>
          <a:stretch/>
        </p:blipFill>
        <p:spPr>
          <a:xfrm>
            <a:off x="4622760" y="457200"/>
            <a:ext cx="426708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9" name="Picture 5" descr="D:\С рабочего стола\школа фото\P1020584.JPG"/>
          <p:cNvPicPr/>
          <p:nvPr/>
        </p:nvPicPr>
        <p:blipFill>
          <a:blip r:embed="rId5"/>
          <a:stretch/>
        </p:blipFill>
        <p:spPr>
          <a:xfrm>
            <a:off x="304920" y="457200"/>
            <a:ext cx="4116240" cy="320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DC10910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vault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889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</p:pic>
      <p:pic>
        <p:nvPicPr>
          <p:cNvPr id="172" name="Picture 4" descr="pinkflo10"/>
          <p:cNvPicPr/>
          <p:nvPr/>
        </p:nvPicPr>
        <p:blipFill>
          <a:blip r:embed="rId3"/>
          <a:stretch/>
        </p:blipFill>
        <p:spPr>
          <a:xfrm>
            <a:off x="0" y="0"/>
            <a:ext cx="3200400" cy="117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inkflo10"/>
          <p:cNvPicPr/>
          <p:nvPr/>
        </p:nvPicPr>
        <p:blipFill>
          <a:blip r:embed="rId4"/>
          <a:stretch/>
        </p:blipFill>
        <p:spPr>
          <a:xfrm>
            <a:off x="3200400" y="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inkflo10"/>
          <p:cNvPicPr/>
          <p:nvPr/>
        </p:nvPicPr>
        <p:blipFill>
          <a:blip r:embed="rId5"/>
          <a:stretch/>
        </p:blipFill>
        <p:spPr>
          <a:xfrm>
            <a:off x="5810400" y="0"/>
            <a:ext cx="3333600" cy="1219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-304920" y="562320"/>
            <a:ext cx="510552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ш школьный двор –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здания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ы  ландшафтного дизайн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йки хозяйственного назна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ртивная площа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улочные площад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сфальтовое покрыт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новая ро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леи из деревьев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стар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бно-опыт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ст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д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умбы,цвет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м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раждение, ворота, калит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14800" y="9903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71440" y="182844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экологической культуры, трудолюбия, активной жизненной позиции, как ведущего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азносторонне компетентной, социализированной личности, способной легко адаптироваться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760" y="9144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95120" y="1599840"/>
            <a:ext cx="5410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инициативы и творчества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 благоустройство пришкольной террито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общения через реализацию творческих находок участников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у школьников эстетического отношения к окружающе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43:59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