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7.gif" ContentType="image/gif"/>
  <Override PartName="/ppt/media/image14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63C3-7BBF-4B45-A28B-269DA7B8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E4C-5511-4224-84D0-3CAB6D5F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F65-FD1C-49A3-AB0C-F26172C5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240-10E9-48A9-B93F-ED3ECC97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F0FE-010D-4D4F-A4B4-81052063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AE3F-BD3D-421D-9F3A-D714D7AB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8A9C-A413-4246-A368-630E61F2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628B-09BB-4626-8F5B-73C3EDF3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4439-73B3-4F34-AD89-04D2866B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1CC6-E1E3-4025-92B9-0AC315CD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B3DD-14ED-47F8-9371-00B5001D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935-40E4-416B-ADA5-D407E4B3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2EAD-D44D-4195-9959-DBF419F8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364B-4B3D-463A-8C48-F1224D29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378E-9D2D-479C-A176-7EBABF69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7CD8-58B9-4818-980A-B8F740BE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487D-A26F-4290-9719-80CF3D7F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BFA-71AB-4EB7-BEE7-A5EF4A7C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382-37B5-458F-9460-38557ED8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336D-5AD1-427C-928B-F95072EA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901-F81A-42DF-9D4C-39E5B15A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882-6249-45B1-BD33-83E35E98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5DC-32D1-4832-AAFD-FED4CFC9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E48F-D439-4C81-AEE8-D19D5BE9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21CC-74C9-4D04-8A90-367A6690DD0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4B21-52B9-41B6-B8F1-FF8020667E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lor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lor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image" Target="../media/image7.gif"/><Relationship Id="rId19" Type="http://schemas.openxmlformats.org/officeDocument/2006/relationships/image" Target="../media/image7.gif"/><Relationship Id="rId20" Type="http://schemas.openxmlformats.org/officeDocument/2006/relationships/image" Target="../media/image7.gif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 благоустройства школьного дв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"Школьный двор – территория радости"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733920" y="51044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201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4267080" y="304920"/>
            <a:ext cx="4724640" cy="96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КОУ Староакульшетская ООШ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665040 Иркутская область, Тайшетский райо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ело Старый Акульшет, улица Бирюсинская,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фото 307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Rectangle 9" descr=""/>
          <p:cNvPicPr/>
          <p:nvPr/>
        </p:nvPicPr>
        <p:blipFill>
          <a:blip r:embed="rId2"/>
          <a:stretch/>
        </p:blipFill>
        <p:spPr>
          <a:xfrm>
            <a:off x="328680" y="274680"/>
            <a:ext cx="8534160" cy="1725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80880" y="5867280"/>
            <a:ext cx="838224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ш двор – образовательный ресурс школы, часть нашей воспитательн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ff"/>
            </a:gs>
            <a:gs pos="100000">
              <a:srgbClr val="8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380880" y="3733920"/>
            <a:ext cx="833148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SzPct val="1543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кольный двор – часть образовательной среды, в которой протекает процесс социализации, воспитания и развития личности ребенка. Эта среда должна быть функциональна и комфортна для ребенка, так как не только является составляющей частью процесса обучения, но и местом проведения свободного времени.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543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кольный двор – спортивной площадка с футбольным полем, клумбы, радующие глаза с ранней весны и до осенних заморозков, причудливые фигурки из бросового материала. Круглый год наш двор наполнен взрослыми и детьми, приходит много гостей, что бы отдохнуть и вспомнить свои школьные г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SzPct val="1543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8" descr="IMG_0464"/>
          <p:cNvPicPr/>
          <p:nvPr/>
        </p:nvPicPr>
        <p:blipFill>
          <a:blip r:embed="rId4"/>
          <a:stretch/>
        </p:blipFill>
        <p:spPr>
          <a:xfrm>
            <a:off x="4622760" y="457200"/>
            <a:ext cx="426708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9" name="Picture 5" descr="D:\С рабочего стола\школа фото\P1020584.JPG"/>
          <p:cNvPicPr/>
          <p:nvPr/>
        </p:nvPicPr>
        <p:blipFill>
          <a:blip r:embed="rId5"/>
          <a:stretch/>
        </p:blipFill>
        <p:spPr>
          <a:xfrm>
            <a:off x="304920" y="457200"/>
            <a:ext cx="4116240" cy="3200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SDC10910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647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vault"/>
          <p:cNvPicPr/>
          <p:nvPr/>
        </p:nvPicPr>
        <p:blipFill>
          <a:blip r:embed="rId2"/>
          <a:stretch/>
        </p:blipFill>
        <p:spPr>
          <a:xfrm>
            <a:off x="0" y="4968720"/>
            <a:ext cx="9144000" cy="18892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</p:pic>
      <p:pic>
        <p:nvPicPr>
          <p:cNvPr id="172" name="Picture 4" descr="pinkflo10"/>
          <p:cNvPicPr/>
          <p:nvPr/>
        </p:nvPicPr>
        <p:blipFill>
          <a:blip r:embed="rId3"/>
          <a:stretch/>
        </p:blipFill>
        <p:spPr>
          <a:xfrm>
            <a:off x="0" y="0"/>
            <a:ext cx="3200400" cy="1170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pinkflo10"/>
          <p:cNvPicPr/>
          <p:nvPr/>
        </p:nvPicPr>
        <p:blipFill>
          <a:blip r:embed="rId4"/>
          <a:stretch/>
        </p:blipFill>
        <p:spPr>
          <a:xfrm>
            <a:off x="3200400" y="0"/>
            <a:ext cx="3124080" cy="1143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pinkflo10"/>
          <p:cNvPicPr/>
          <p:nvPr/>
        </p:nvPicPr>
        <p:blipFill>
          <a:blip r:embed="rId5"/>
          <a:stretch/>
        </p:blipFill>
        <p:spPr>
          <a:xfrm>
            <a:off x="5810400" y="0"/>
            <a:ext cx="3333600" cy="12193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-304920" y="562320"/>
            <a:ext cx="5105520" cy="50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аш школьный двор – это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здания школ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ы  ландшафтного дизайн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ройки хозяйственного назна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ортивная площад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улочные площад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сфальтовое покрыт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сновая рощ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ллеи из деревьев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устар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р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бно-опытны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асто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д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умбы,цветн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мят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3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раждение, ворота, калитк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1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SzPct val="10281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14800" y="99036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71440" y="1828440"/>
            <a:ext cx="5334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экологической культуры, трудолюбия, активной жизненной позиции, как ведущего ка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разносторонне компетентной, социализированной личности, способной легко адаптироваться в современном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90760" y="9144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895120" y="1599840"/>
            <a:ext cx="54104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542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итие инициативы и творчества школь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542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образование и благоустройство пришкольной территор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542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ление общения через реализацию творческих находок участников прое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у школьников эстетического отношения к окружающему ми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9T23:43:59Z</dcterms:modified>
  <cp:revision>1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