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5.gif" ContentType="image/gif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982-9B42-4093-86EB-42B44985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BAE-444C-4EA7-867C-D5BA0BC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BE3-543B-4BDE-B224-E3683DC7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4AE-98F1-4456-BE75-FA223DDF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E8EC-4F62-447F-A9B7-7AB2A814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835-1E99-4C8B-BFA6-BACC8FF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B477-FBAD-4EE3-9DDB-41C35023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075D-013C-4204-87A0-71DF1F96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EA8F-B20D-4E93-BD78-C4537DB1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DDA1-AB13-49D7-8B84-F1533B7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4815-8580-4157-836A-6B1B7E4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5AC-131C-4E4C-BBE2-A491A91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4FA2-7804-4159-9FA4-7D775FF1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D96E-4FCC-4AAA-90C1-EE0C3AC0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FCB1-FA08-4E0D-881D-50036508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530F-3803-48D7-A581-7EFFE8CE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19F8-58F2-4CCE-B5D4-D3076BA4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7C1-D7B9-40CA-B973-18CB919D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B3C7C-D196-4D7B-8540-50B4B9C8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E62F-C647-457F-A36A-D1555BD2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4D4C-E5DC-41A3-90EC-04A31A13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B19-4B02-4658-A906-C4656A4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A367-EA97-43B3-BC2D-026EFA5D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7E3A-BE9B-4426-970E-341437EC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2BDA-3381-4E26-A52F-23A93751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0CF1-F0E1-4087-877C-B00ACB1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49D2-806E-42FA-A537-BB77411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45E4-FCD5-4AFD-9CB7-7B0EB4CF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63DE-B99F-43BA-A91C-729E5CE8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1107-CEE5-4590-8FC7-BF2C1F29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E63E-F8DA-44E0-87B8-4085BA7E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8B0-E9F0-4AEA-B8B6-D2AD242A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9B8-9DDD-4B74-A057-698A0685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28B-0F4D-4FAA-8113-054C41D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0C8-1A29-46F1-873D-BF629B06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E01-8946-4513-BAA3-2C1E169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90B7-8F2C-4A21-B7D0-A4A69F86A0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327E-8C8F-4F23-8B66-DCB5A93D1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658-FC0F-4122-B852-D0537CBCB7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астники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867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Бекарева А.К - директор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ряженникова Н.В. -  зам.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олтикова Е.В – педагог-организ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Ромыш А.А - учитель би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Жолтикова Е.В., Бекарева А.К., Шевелева Л.В, Абрамчик Г.А. - учителя 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DC10925"/>
          <p:cNvPicPr/>
          <p:nvPr/>
        </p:nvPicPr>
        <p:blipFill>
          <a:blip r:embed="rId7"/>
          <a:stretch/>
        </p:blipFill>
        <p:spPr>
          <a:xfrm>
            <a:off x="6477120" y="228600"/>
            <a:ext cx="2342880" cy="312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8" name="Text Box 7"/>
          <p:cNvSpPr/>
          <p:nvPr/>
        </p:nvSpPr>
        <p:spPr>
          <a:xfrm>
            <a:off x="533520" y="64771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проекта: педагог-организатор Жолтико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0" y="3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хема управления, материально-техническое и кадров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G:\SDC14096.JPG"/>
          <p:cNvPicPr/>
          <p:nvPr/>
        </p:nvPicPr>
        <p:blipFill>
          <a:blip r:embed="rId8"/>
          <a:stretch/>
        </p:blipFill>
        <p:spPr>
          <a:xfrm>
            <a:off x="450720" y="3578400"/>
            <a:ext cx="3749760" cy="2809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G:\DSC00351.JPG"/>
          <p:cNvPicPr/>
          <p:nvPr/>
        </p:nvPicPr>
        <p:blipFill>
          <a:blip r:embed="rId9"/>
          <a:stretch/>
        </p:blipFill>
        <p:spPr>
          <a:xfrm>
            <a:off x="4286160" y="3578400"/>
            <a:ext cx="46260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териально-техническое обеспечени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8" descr="6efa0495144a"/>
          <p:cNvPicPr/>
          <p:nvPr/>
        </p:nvPicPr>
        <p:blipFill>
          <a:blip r:embed="rId1"/>
          <a:stretch/>
        </p:blipFill>
        <p:spPr>
          <a:xfrm>
            <a:off x="0" y="5240160"/>
            <a:ext cx="9144000" cy="1617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7200" y="4114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ена цветочных культ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овые прут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дово-огородный инвен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6" descr="P1020739"/>
          <p:cNvPicPr/>
          <p:nvPr/>
        </p:nvPicPr>
        <p:blipFill>
          <a:blip r:embed="rId5"/>
          <a:stretch/>
        </p:blipFill>
        <p:spPr>
          <a:xfrm>
            <a:off x="4648320" y="1219320"/>
            <a:ext cx="4190760" cy="293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6" name="Picture 8" descr="IMG_1139"/>
          <p:cNvPicPr/>
          <p:nvPr/>
        </p:nvPicPr>
        <p:blipFill>
          <a:blip r:embed="rId6"/>
          <a:stretch/>
        </p:blipFill>
        <p:spPr>
          <a:xfrm>
            <a:off x="380880" y="1219320"/>
            <a:ext cx="3962520" cy="29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G:\фотки в школу лето осень 2012\SDC112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мета по проведению мероприятий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8" descr="6efa0495144a"/>
          <p:cNvPicPr/>
          <p:nvPr/>
        </p:nvPicPr>
        <p:blipFill>
          <a:blip r:embed="rId2"/>
          <a:stretch/>
        </p:blipFill>
        <p:spPr>
          <a:xfrm>
            <a:off x="0" y="5240160"/>
            <a:ext cx="9144000" cy="1617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09480" y="3048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Приобретение семян цветочных культур - 1000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Приобретение земли для рассады - 500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Приобретение садово-огородного инвентаря -15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Итого:3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ние школьного уча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творческих находок, способствующих личностному росту каждого участник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я атмосферы сотрудничества между всеми участникам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е фантазии, творчества, инициативы и трудолюбия у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устроенный двор и оригинальные цветники, скульп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b6d4d39aba5e"/>
          <p:cNvPicPr/>
          <p:nvPr/>
        </p:nvPicPr>
        <p:blipFill>
          <a:blip r:embed="rId6"/>
          <a:stretch/>
        </p:blipFill>
        <p:spPr>
          <a:xfrm>
            <a:off x="0" y="4776840"/>
            <a:ext cx="2362320" cy="20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b6d4d39aba5e"/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0811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7"/>
          <p:cNvSpPr/>
          <p:nvPr/>
        </p:nvSpPr>
        <p:spPr>
          <a:xfrm>
            <a:off x="914400" y="49528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ель рассады вследствие заморозков, плохого ухода, недостатка  влаги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1523880" y="4495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гатив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0" descr="ррррррр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ррррррр"/>
          <p:cNvPicPr/>
          <p:nvPr/>
        </p:nvPicPr>
        <p:blipFill>
          <a:blip r:embed="rId2"/>
          <a:srcRect l="1791" t="0" r="0" b="0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Object 18"/>
          <p:cNvGraphicFramePr/>
          <p:nvPr/>
        </p:nvGraphicFramePr>
        <p:xfrm>
          <a:off x="2154240" y="233280"/>
          <a:ext cx="4897440" cy="709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4240" y="233280"/>
                    <a:ext cx="4897440" cy="70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9T23:47:27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