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5.gif" ContentType="image/gif"/>
  <Override PartName="/ppt/media/image8.png" ContentType="image/png"/>
  <Override PartName="/ppt/media/image11.jpeg" ContentType="image/jpeg"/>
  <Override PartName="/ppt/media/image7.png" ContentType="image/png"/>
  <Override PartName="/ppt/media/image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60B-C0AE-495D-BBE4-6429DDFD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53B-888B-4C1E-8144-AE5740C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897-0C90-407E-8437-FAB6FA9C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35B-382E-4DC5-AF3D-5BAF3CE3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6296-9D4B-49FA-BDA0-056A7119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924C-D266-4C13-BC86-12597D9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B0FD-E40D-448C-B9F6-2940C90C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08F2-C211-4B9A-82BB-7DC2B16B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0E1D-7575-4A7D-A25D-0CF86887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D310-8629-4ACB-9696-33DD1400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B320-A17A-46B4-B7CE-394D0094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EDE-2CEE-443A-A865-42D98F41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6EA1-FB74-47FA-8B9C-834D4743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1747-8387-4E3C-8DB6-7A604699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643E-8BA5-4EF1-8B04-6764BF54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3A2D-3694-459A-8468-79676C12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AAC8-CD30-41F0-AD8F-18404C3D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58F-9079-487F-B433-9549775E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B1A7-6661-44D8-B077-1814955C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2A99-CC7D-479C-AE40-13D5FA52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9CCC-704B-406E-8EEA-473BFBDA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017-DF8A-45E6-98AA-197AD2FD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7A9EA-7941-473C-B52B-5832248D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6944-DE06-4458-863D-F2BCF0F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E36F-E5BD-4982-A48C-8D1287DE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F9D64-D36E-4E2E-90C7-6C28D07D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FD4EB-EC09-4CD8-95CC-2FEE981B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E083-12BB-4F60-8DE9-D18D847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4A5A-3CC7-4A04-905A-6BD7734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92009-161E-4684-BAF4-4FE1BAF6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6C2A-7EC8-43B3-9E80-10F0B210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F5B-6DE1-4094-BD35-B5E146A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AF2-A7AB-43EE-BC07-BB906CDB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A05-5EF7-4051-B02B-448EF1A1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AE0-C1BF-45C0-B4B9-0ED790D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7CE-60BF-49D4-B742-35232C7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36B3-F8BE-4D4F-9F66-DB1E9130B3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C2E5-EDC1-481E-9A03-7C8E67353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300E-BB79-42FA-AB72-26EAC7DBE4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частники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867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ащиеся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Бекарева А.К - директор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Пряженникова Н.В. -  зам.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олтикова Е.В – педагог-организ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Ромыш А.А - учитель би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Жолтикова Е.В., Бекарева А.К., Шевелева Л.В, Абрамчик Г.А. - учителя техн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SDC10925"/>
          <p:cNvPicPr/>
          <p:nvPr/>
        </p:nvPicPr>
        <p:blipFill>
          <a:blip r:embed="rId7"/>
          <a:stretch/>
        </p:blipFill>
        <p:spPr>
          <a:xfrm>
            <a:off x="6477120" y="228600"/>
            <a:ext cx="2342880" cy="3124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8" name="Text Box 7"/>
          <p:cNvSpPr/>
          <p:nvPr/>
        </p:nvSpPr>
        <p:spPr>
          <a:xfrm>
            <a:off x="533520" y="647712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проекта: педагог-организатор Жолтикова Е.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0" y="32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хема управления, материально-техническое и кадров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G:\SDC14096.JPG"/>
          <p:cNvPicPr/>
          <p:nvPr/>
        </p:nvPicPr>
        <p:blipFill>
          <a:blip r:embed="rId8"/>
          <a:stretch/>
        </p:blipFill>
        <p:spPr>
          <a:xfrm>
            <a:off x="450720" y="3578400"/>
            <a:ext cx="3749760" cy="2809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G:\DSC00351.JPG"/>
          <p:cNvPicPr/>
          <p:nvPr/>
        </p:nvPicPr>
        <p:blipFill>
          <a:blip r:embed="rId9"/>
          <a:stretch/>
        </p:blipFill>
        <p:spPr>
          <a:xfrm>
            <a:off x="4286160" y="3578400"/>
            <a:ext cx="46260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териально-техническое обеспечение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8" descr="6efa0495144a"/>
          <p:cNvPicPr/>
          <p:nvPr/>
        </p:nvPicPr>
        <p:blipFill>
          <a:blip r:embed="rId1"/>
          <a:stretch/>
        </p:blipFill>
        <p:spPr>
          <a:xfrm>
            <a:off x="0" y="5240160"/>
            <a:ext cx="9144000" cy="1617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7200" y="4114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ена цветочных культу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овые прут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дово-огородный инвент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6" descr="P1020739"/>
          <p:cNvPicPr/>
          <p:nvPr/>
        </p:nvPicPr>
        <p:blipFill>
          <a:blip r:embed="rId5"/>
          <a:stretch/>
        </p:blipFill>
        <p:spPr>
          <a:xfrm>
            <a:off x="4648320" y="1219320"/>
            <a:ext cx="4190760" cy="293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16" name="Picture 8" descr="IMG_1139"/>
          <p:cNvPicPr/>
          <p:nvPr/>
        </p:nvPicPr>
        <p:blipFill>
          <a:blip r:embed="rId6"/>
          <a:stretch/>
        </p:blipFill>
        <p:spPr>
          <a:xfrm>
            <a:off x="380880" y="1219320"/>
            <a:ext cx="3962520" cy="293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G:\фотки в школу лето осень 2012\SDC112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мета по проведению мероприятий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8" descr="6efa0495144a"/>
          <p:cNvPicPr/>
          <p:nvPr/>
        </p:nvPicPr>
        <p:blipFill>
          <a:blip r:embed="rId2"/>
          <a:stretch/>
        </p:blipFill>
        <p:spPr>
          <a:xfrm>
            <a:off x="0" y="5240160"/>
            <a:ext cx="9144000" cy="1617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609480" y="3048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Приобретение семян цветочных культур - 1000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Приобретение земли для рассады - 500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Приобретение садово-огородного инвентаря -15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Arial"/>
              </a:rPr>
              <a:t>Итого:3000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бразование школьного участ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 творческих находок, способствующих личностному росту каждого участника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я атмосферы сотрудничества между всеми участниками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явление фантазии, творчества, инициативы и трудолюбия у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оустроенный двор и оригинальные цветники, скульп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b6d4d39aba5e"/>
          <p:cNvPicPr/>
          <p:nvPr/>
        </p:nvPicPr>
        <p:blipFill>
          <a:blip r:embed="rId6"/>
          <a:stretch/>
        </p:blipFill>
        <p:spPr>
          <a:xfrm>
            <a:off x="0" y="4776840"/>
            <a:ext cx="2362320" cy="20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b6d4d39aba5e"/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0811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7"/>
          <p:cNvSpPr/>
          <p:nvPr/>
        </p:nvSpPr>
        <p:spPr>
          <a:xfrm>
            <a:off x="914400" y="49528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ель рассады вследствие заморозков, плохого ухода, недостатка  влаги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8"/>
          <p:cNvSpPr/>
          <p:nvPr/>
        </p:nvSpPr>
        <p:spPr>
          <a:xfrm>
            <a:off x="1523880" y="4495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гатив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0" descr="ррррррр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ррррррр"/>
          <p:cNvPicPr/>
          <p:nvPr/>
        </p:nvPicPr>
        <p:blipFill>
          <a:blip r:embed="rId2"/>
          <a:srcRect l="1791" t="0" r="0" b="0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Object 18"/>
          <p:cNvGraphicFramePr/>
          <p:nvPr/>
        </p:nvGraphicFramePr>
        <p:xfrm>
          <a:off x="2154240" y="233280"/>
          <a:ext cx="4897440" cy="709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0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4240" y="233280"/>
                    <a:ext cx="4897440" cy="70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9T23:47:27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