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gif" ContentType="image/gif"/>
  <Override PartName="/ppt/media/image4.jpeg" ContentType="image/jpeg"/>
  <Override PartName="/ppt/media/image22.gif" ContentType="image/gif"/>
  <Override PartName="/ppt/media/image25.png" ContentType="image/png"/>
  <Override PartName="/ppt/media/image27.png" ContentType="image/png"/>
  <Override PartName="/ppt/media/image26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2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1005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98BD-E87E-4F21-B4F0-26AAF896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0306-8FE3-4458-92A6-C0CEF040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74BA-60FB-4496-9F65-B10982C0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CCEA-6EAD-4E46-9D3D-70832834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E073-D09D-4189-A48B-9837349E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5B75-FD69-47B7-97EA-D814A927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C43B-5832-4217-AA0A-563CFD2F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099B-C9DE-495B-8587-DD1A566C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4863-E63F-4394-B86D-94DA9539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F961-5A7F-4680-B96C-D3914E4F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5779-EBE8-4635-BF37-D0A4C8CE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4D15-BB93-4D38-8CAE-CAD784B8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D12B-0F17-4122-9CFF-4806616E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5F76-1DA4-4742-92A0-D2904A3C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8CA6-FB8B-42EC-BAA8-4F28BC5C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8A120-5ACF-4AE4-83FA-A8E1F06C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30E8-4BFB-47C1-A07F-D7E54C1C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5324-6C13-453E-8219-8DBF1164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89A12-ECFF-45B6-AE91-C16E04E3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96CDA-F06F-4C85-BFD1-FCA22125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5BEE1-D181-480F-AD8A-DCB2BB52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6DD0-5C42-4E48-83A5-A93E9A20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12AB8-9CAA-4C99-86A3-85C6295C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88F77-8F48-49DB-BC7E-B7D6F3F1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4BB87-3B9D-4C54-9F8C-2A799155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0B6AF-8C63-4FFE-8AF2-3FC0ACC5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8D655-9AB9-4558-879A-44C6DC38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D0F91-4336-4A3D-BDA6-FC52CDFA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0D866-4476-48E3-9BF0-7851A854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72841-B0E9-4E8E-BED7-549D408F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A29EB-91BC-473D-B242-CA78E19C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B5C1-ED44-429B-BCA0-A577F166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1487-B0CF-4CD4-ABF9-9A8D7D4D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848E-B396-4C50-810A-5153F82E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0951-452B-4001-8457-7D7B35BA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A3CE-B60D-4618-8764-BC2F664E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A403-533A-4C4A-AF64-90BD8BEF5C4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64AE-D057-4591-BB5D-BA9060523B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loraSla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986A-5B5A-4531-AB06-718AA15859E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Flora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6.gif"/><Relationship Id="rId5" Type="http://schemas.openxmlformats.org/officeDocument/2006/relationships/image" Target="../media/image26.jpeg"/><Relationship Id="rId6" Type="http://schemas.openxmlformats.org/officeDocument/2006/relationships/image" Target="../media/image22.gif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ект благоустройства школьного дв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"Школьный двор – территория радости"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733920" y="51044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201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4267080" y="304920"/>
            <a:ext cx="4724640" cy="96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МКОУ Староакульшетская ООШ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665040 Иркутская область, Тайшетский райо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ело Старый Акульшет, улица Бирюсинская,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1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4138560" cy="2665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Для реализации проекта необходим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ировать творческие группы (1-2, 3-4, 5-6,7-8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значить «зоны действий» для этих груп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ыскать возможности материального обеспечения для выполнения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ть варианты дизайна ландшафтного озеленения территории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8" descr="b6d4d39aba5e"/>
          <p:cNvPicPr/>
          <p:nvPr/>
        </p:nvPicPr>
        <p:blipFill>
          <a:blip r:embed="rId6"/>
          <a:stretch/>
        </p:blipFill>
        <p:spPr>
          <a:xfrm>
            <a:off x="0" y="4776840"/>
            <a:ext cx="2362320" cy="2081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b6d4d39aba5e"/>
          <p:cNvPicPr/>
          <p:nvPr/>
        </p:nvPicPr>
        <p:blipFill>
          <a:blip r:embed="rId7"/>
          <a:stretch/>
        </p:blipFill>
        <p:spPr>
          <a:xfrm>
            <a:off x="6781680" y="0"/>
            <a:ext cx="2362320" cy="2081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Documents and Settings\Admin\Рабочий стол\ФОТО\фото школы лето-2012\лето\IMG_1141.jpg"/>
          <p:cNvPicPr/>
          <p:nvPr/>
        </p:nvPicPr>
        <p:blipFill>
          <a:blip r:embed="rId8"/>
          <a:stretch/>
        </p:blipFill>
        <p:spPr>
          <a:xfrm>
            <a:off x="4876920" y="3714840"/>
            <a:ext cx="3581280" cy="2685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1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11" descr="3bde34cb9cc2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Этапы реализации проекта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600200"/>
          <a:ext cx="8229600" cy="4200480"/>
        </p:xfrm>
        <a:graphic>
          <a:graphicData uri="http://schemas.openxmlformats.org/drawingml/2006/table">
            <a:tbl>
              <a:tblPr/>
              <a:tblGrid>
                <a:gridCol w="685800"/>
                <a:gridCol w="2286000"/>
                <a:gridCol w="3200400"/>
                <a:gridCol w="2057400"/>
              </a:tblGrid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этап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к выполнен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ите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тивация, целеполагание 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 2011 г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ировоч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роение ориентировочной схемы деятель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 2011 г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лизация проек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 – сентябр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тико-коррекци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промежуточных результатов работы и внесение изменен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 – сентябрь 2011 г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лючите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ение действительных и желаемых результатов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 2011г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f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457200" y="1219320"/>
          <a:ext cx="8229600" cy="4952880"/>
        </p:xfrm>
        <a:graphic>
          <a:graphicData uri="http://schemas.openxmlformats.org/drawingml/2006/table">
            <a:tbl>
              <a:tblPr/>
              <a:tblGrid>
                <a:gridCol w="990720"/>
                <a:gridCol w="4495680"/>
                <a:gridCol w="2743200"/>
              </a:tblGrid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ствен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анализа экологического состояния школьной территор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. пришкольным У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. директора по В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хо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Аукцион идей» на лучший мини-проект по благоустройству школьного дв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-организ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. руководител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лан мероприятий проектировочного эта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коллективного проекта школьного двора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ление плана озеленения и благоустройства школьного дво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министрация шк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. пришкольным УО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5" name="Picture 29" descr="5baf818bca4d"/>
          <p:cNvPicPr/>
          <p:nvPr/>
        </p:nvPicPr>
        <p:blipFill>
          <a:blip r:embed="rId1"/>
          <a:stretch/>
        </p:blipFill>
        <p:spPr>
          <a:xfrm>
            <a:off x="0" y="4773600"/>
            <a:ext cx="2286000" cy="2084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0" descr="5baf818bca4d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20844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534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лан мероприятий подготовительного эта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f1ff"/>
            </a:gs>
            <a:gs pos="50000">
              <a:srgbClr val="ffffff"/>
            </a:gs>
            <a:gs pos="100000">
              <a:srgbClr val="b3f1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30" descr="c0bb5547ea77"/>
          <p:cNvPicPr/>
          <p:nvPr/>
        </p:nvPicPr>
        <p:blipFill>
          <a:blip r:embed="rId1"/>
          <a:stretch/>
        </p:blipFill>
        <p:spPr>
          <a:xfrm>
            <a:off x="6705720" y="5079960"/>
            <a:ext cx="2438280" cy="1778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1" descr="c0bb5547ea77"/>
          <p:cNvPicPr/>
          <p:nvPr/>
        </p:nvPicPr>
        <p:blipFill>
          <a:blip r:embed="rId2"/>
          <a:stretch/>
        </p:blipFill>
        <p:spPr>
          <a:xfrm>
            <a:off x="0" y="0"/>
            <a:ext cx="2514600" cy="18334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лан мероприятий практического эта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762120"/>
          <a:ext cx="8381880" cy="5879880"/>
        </p:xfrm>
        <a:graphic>
          <a:graphicData uri="http://schemas.openxmlformats.org/drawingml/2006/table">
            <a:tbl>
              <a:tblPr/>
              <a:tblGrid>
                <a:gridCol w="542880"/>
                <a:gridCol w="5045040"/>
                <a:gridCol w="2793960"/>
              </a:tblGrid>
              <a:tr h="37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ствен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семян и выращивание расс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биолог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ция «Чистый двор» по благоустройству школьного дво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ные руководители                Завхоз шко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я «Памятни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ные руководители, ответственные по графику работы ле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ботка почвы и посадка рассады цветочно-декоративных культ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ь биологии, технологии, классные руководи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борка территории  спортивной площад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ные руководи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борка территории сосновой р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ные руководители              Завх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ход за посаженными цветочными культурам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9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пийская горка и искусственный водо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карева А. 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бивка декоративных клумб, бордюров, рабаток и др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я техн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летней трудовой четвер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министрация школы Классные руководи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бригады «Ровесник»                                            (трудоустройство подростков через ДЦЗ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й педаг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ДП «Дружны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рина Л.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fffff"/>
            </a:gs>
            <a:gs pos="50000">
              <a:srgbClr val="ffffff"/>
            </a:gs>
            <a:gs pos="100000">
              <a:srgbClr val="8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200040" y="990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541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пришкольной территории находятся памятники погибшим воинам-односельчанам в Великой Отечественной войне и участникам Шиткинского фрон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8 марта посл зв пдд 219"/>
          <p:cNvPicPr/>
          <p:nvPr/>
        </p:nvPicPr>
        <p:blipFill>
          <a:blip r:embed="rId2"/>
          <a:stretch/>
        </p:blipFill>
        <p:spPr>
          <a:xfrm>
            <a:off x="3352680" y="3048120"/>
            <a:ext cx="5334120" cy="312732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224" name="Picture 6" descr="IMG_6425"/>
          <p:cNvPicPr/>
          <p:nvPr/>
        </p:nvPicPr>
        <p:blipFill>
          <a:blip r:embed="rId3"/>
          <a:stretch/>
        </p:blipFill>
        <p:spPr>
          <a:xfrm>
            <a:off x="457200" y="1676520"/>
            <a:ext cx="2684520" cy="4343400"/>
          </a:xfrm>
          <a:prstGeom prst="rect">
            <a:avLst/>
          </a:prstGeom>
          <a:ln w="76320">
            <a:solidFill>
              <a:srgbClr val="990000"/>
            </a:solidFill>
            <a:miter/>
          </a:ln>
        </p:spPr>
      </p:pic>
      <p:pic>
        <p:nvPicPr>
          <p:cNvPr id="225" name="Picture 9" descr="0_5bad9_92d6d063_XL"/>
          <p:cNvPicPr/>
          <p:nvPr/>
        </p:nvPicPr>
        <p:blipFill>
          <a:blip r:embed="rId4"/>
          <a:srcRect l="801" t="0" r="1602" b="0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9" descr="C:\Documents and Settings\Admin\Рабочий стол\ФОТО\последние\P1040476.JPG"/>
          <p:cNvPicPr/>
          <p:nvPr/>
        </p:nvPicPr>
        <p:blipFill>
          <a:blip r:embed="rId1"/>
          <a:stretch/>
        </p:blipFill>
        <p:spPr>
          <a:xfrm>
            <a:off x="380880" y="457200"/>
            <a:ext cx="4267440" cy="3200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27" name="Picture 2" descr="C:\Documents and Settings\Admin\Рабочий стол\к экологии\IMG_0946.jpg"/>
          <p:cNvPicPr/>
          <p:nvPr/>
        </p:nvPicPr>
        <p:blipFill>
          <a:blip r:embed="rId2"/>
          <a:stretch/>
        </p:blipFill>
        <p:spPr>
          <a:xfrm>
            <a:off x="4572000" y="3505320"/>
            <a:ext cx="4075200" cy="2971800"/>
          </a:xfrm>
          <a:prstGeom prst="rect">
            <a:avLst/>
          </a:prstGeom>
          <a:ln cap="sq"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28" name="Picture 9" descr="30c5c3fcabf5"/>
          <p:cNvPicPr/>
          <p:nvPr/>
        </p:nvPicPr>
        <p:blipFill>
          <a:blip r:embed="rId3"/>
          <a:stretch/>
        </p:blipFill>
        <p:spPr>
          <a:xfrm>
            <a:off x="0" y="0"/>
            <a:ext cx="5311800" cy="4419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</p:pic>
      <p:pic>
        <p:nvPicPr>
          <p:cNvPr id="229" name="Picture 7" descr="30c5c3fcabf5"/>
          <p:cNvPicPr/>
          <p:nvPr/>
        </p:nvPicPr>
        <p:blipFill>
          <a:blip r:embed="rId4"/>
          <a:stretch/>
        </p:blipFill>
        <p:spPr>
          <a:xfrm>
            <a:off x="4572000" y="2900520"/>
            <a:ext cx="4468680" cy="3957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3733560"/>
            <a:ext cx="419112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5418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ция благоустройства и озеленения традиционно проходит в школе каждый год в четыре этапа. В ней участвуют учителя,    ученики 1-9 классов, персонал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4952880" y="609480"/>
            <a:ext cx="41911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5418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каждым классным коллективом закреплена определенная территория школьного двора, которую учащиеся содержат в чистоте и порядке, благоустраиваю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1" descr="244254165"/>
          <p:cNvPicPr/>
          <p:nvPr/>
        </p:nvPicPr>
        <p:blipFill>
          <a:blip r:embed="rId7"/>
          <a:stretch/>
        </p:blipFill>
        <p:spPr>
          <a:xfrm>
            <a:off x="4267080" y="29718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3" descr="C:\Documents and Settings\Admin\Рабочий стол\к экологии\IMG_0971.jpg"/>
          <p:cNvPicPr/>
          <p:nvPr/>
        </p:nvPicPr>
        <p:blipFill>
          <a:blip r:embed="rId1"/>
          <a:stretch/>
        </p:blipFill>
        <p:spPr>
          <a:xfrm>
            <a:off x="4572000" y="609480"/>
            <a:ext cx="3886200" cy="2914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34" name="Picture 4" descr="C:\Documents and Settings\Admin\Рабочий стол\к экологии\IMG_0968.jpg"/>
          <p:cNvPicPr/>
          <p:nvPr/>
        </p:nvPicPr>
        <p:blipFill>
          <a:blip r:embed="rId2"/>
          <a:stretch/>
        </p:blipFill>
        <p:spPr>
          <a:xfrm>
            <a:off x="4572000" y="3657600"/>
            <a:ext cx="3860640" cy="2895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35" name="Picture 7" descr="30c5c3fcabf5"/>
          <p:cNvPicPr/>
          <p:nvPr/>
        </p:nvPicPr>
        <p:blipFill>
          <a:blip r:embed="rId3"/>
          <a:stretch/>
        </p:blipFill>
        <p:spPr>
          <a:xfrm>
            <a:off x="4267080" y="2538360"/>
            <a:ext cx="4876920" cy="4319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560" y="3581280"/>
            <a:ext cx="419076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541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ция «Скворечник и акция «Встречаем крылатых гостей» в школе проходят ежегодно – участники 1-9 кла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C:\Documents and Settings\Admin\Рабочий стол\к экологии\IMG_0961.jpg"/>
          <p:cNvPicPr/>
          <p:nvPr/>
        </p:nvPicPr>
        <p:blipFill>
          <a:blip r:embed="rId5"/>
          <a:stretch/>
        </p:blipFill>
        <p:spPr>
          <a:xfrm>
            <a:off x="609480" y="609480"/>
            <a:ext cx="3643560" cy="2819520"/>
          </a:xfrm>
          <a:prstGeom prst="rect">
            <a:avLst/>
          </a:prstGeom>
          <a:ln cap="sq" w="2844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38" name="Picture 11" descr="244254165"/>
          <p:cNvPicPr/>
          <p:nvPr/>
        </p:nvPicPr>
        <p:blipFill>
          <a:blip r:embed="rId6"/>
          <a:stretch/>
        </p:blipFill>
        <p:spPr>
          <a:xfrm>
            <a:off x="3962520" y="30481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9" descr="30c5c3fcabf5"/>
          <p:cNvPicPr/>
          <p:nvPr/>
        </p:nvPicPr>
        <p:blipFill>
          <a:blip r:embed="rId7"/>
          <a:stretch/>
        </p:blipFill>
        <p:spPr>
          <a:xfrm>
            <a:off x="0" y="0"/>
            <a:ext cx="4487760" cy="3733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19T23:56:54Z</dcterms:modified>
  <cp:revision>1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