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gif" ContentType="image/gif"/>
  <Override PartName="/ppt/media/image4.jpeg" ContentType="image/jpeg"/>
  <Override PartName="/ppt/media/image22.gif" ContentType="image/gif"/>
  <Override PartName="/ppt/media/image25.png" ContentType="image/png"/>
  <Override PartName="/ppt/media/image27.png" ContentType="image/png"/>
  <Override PartName="/ppt/media/image2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FE-AA69-4A41-A666-E5936F59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5F1-9A6C-4585-8B41-6EFA9857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990-D5E6-4F6D-8F3D-CB528A2A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CC3-19AB-4BC0-9194-C54B8A69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9E0C-31DF-44D5-89E5-6B0516F4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EE1F-C15E-4A61-A1FE-62BE1D59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DB0-48AA-45C1-89E0-4BE9727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D751-2EE0-47BC-AB77-25D73D6C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666-392D-43EC-B43E-16B989B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F29-7E65-402F-92FD-1154AFC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41B6-4878-45AF-85F8-1896916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F49-0967-4A93-8A37-4DB8761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A669-0F9F-4ECF-81AD-3EA6CC0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BC0A-069E-48FA-ABF6-0FC2138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291-2C3E-42DD-8151-72A6B44D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014-3654-450A-BD72-DD2D3E69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01A-18F0-4349-90D9-D447E87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549-CBEB-4F44-83DC-AC3DEE6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6EFE-4023-4C9E-88C5-848710A3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DF42-EB89-4E4F-A2BD-31A7765B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3762-3904-4235-88A1-85FE50E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A87-F76E-4F68-A6D0-37CBDCCE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CF6A-AFA7-415D-83BA-280C159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82C3-5ED5-4714-9AD5-DF492216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C16B-F059-4332-ADED-E1F4A43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9E0D-4856-41B3-B572-8A835A8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8EB6-5DF1-450F-B14B-D354486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2A34-F978-4194-AE31-B2845B1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874B-7FCE-4508-BE1C-B820322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A0AE-D094-41CC-8F05-2ACF5782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0143-DA42-4B6E-BA05-651125F9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9A5-5BEB-4876-889D-0F767E0F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5D7-0C14-469B-8F97-1EFB1EC8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160-1FF3-4DE2-B5B2-641AB60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38F-EE96-4CC7-9510-6222293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993-B0C4-4278-ACE2-46CF8AA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383-B65F-435E-B421-AC64C62DF5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EBA-D2F3-4A19-BD13-7FA17D2F4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FE9-5BD4-4EB6-8E5B-F466B43E31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6.gif"/><Relationship Id="rId5" Type="http://schemas.openxmlformats.org/officeDocument/2006/relationships/image" Target="../media/image26.jpeg"/><Relationship Id="rId6" Type="http://schemas.openxmlformats.org/officeDocument/2006/relationships/image" Target="../media/image22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4138560" cy="266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ля реализации проекта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творческие группы (1-2, 3-4, 5-6,7-8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ить «зоны действий» для эт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ыскать возможности материального обеспечения для выполне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варианты дизайна ландшафтного озеленения территории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b6d4d39aba5e"/>
          <p:cNvPicPr/>
          <p:nvPr/>
        </p:nvPicPr>
        <p:blipFill>
          <a:blip r:embed="rId6"/>
          <a:stretch/>
        </p:blipFill>
        <p:spPr>
          <a:xfrm>
            <a:off x="0" y="477684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6d4d39aba5e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Admin\Рабочий стол\ФОТО\фото школы лето-2012\лето\IMG_1141.jpg"/>
          <p:cNvPicPr/>
          <p:nvPr/>
        </p:nvPicPr>
        <p:blipFill>
          <a:blip r:embed="rId8"/>
          <a:stretch/>
        </p:blipFill>
        <p:spPr>
          <a:xfrm>
            <a:off x="4876920" y="3714840"/>
            <a:ext cx="3581280" cy="268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1" descr="3bde34cb9cc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тапы реализации проект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685800"/>
                <a:gridCol w="2286000"/>
                <a:gridCol w="3200400"/>
                <a:gridCol w="20574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этап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выполн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, целеполагание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ориентировочной схем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– сентя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ко-коррекци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промежуточных результатов работы и внесение измен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 – сентябр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действительных и желаемых результатов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1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57200" y="1219320"/>
          <a:ext cx="82296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4495680"/>
                <a:gridCol w="274320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ализа экологического состояния школьной террито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. пришкольным У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. директора по 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хо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укцион идей» на лучший мини-проект по благоустройству школьного д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организ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. руковод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ан мероприятий проектировочного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оллективного проекта школьного двора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плана озеленения и благоустройства школьного дво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. пришкольным УО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29" descr="5baf818bca4d"/>
          <p:cNvPicPr/>
          <p:nvPr/>
        </p:nvPicPr>
        <p:blipFill>
          <a:blip r:embed="rId1"/>
          <a:stretch/>
        </p:blipFill>
        <p:spPr>
          <a:xfrm>
            <a:off x="0" y="4773600"/>
            <a:ext cx="2286000" cy="208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5baf818bca4d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мероприятий подготовительного эт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50000">
              <a:srgbClr val="ffffff"/>
            </a:gs>
            <a:gs pos="100000">
              <a:srgbClr val="b3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0" descr="c0bb5547ea77"/>
          <p:cNvPicPr/>
          <p:nvPr/>
        </p:nvPicPr>
        <p:blipFill>
          <a:blip r:embed="rId1"/>
          <a:stretch/>
        </p:blipFill>
        <p:spPr>
          <a:xfrm>
            <a:off x="6705720" y="5079960"/>
            <a:ext cx="2438280" cy="1778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1" descr="c0bb5547ea77"/>
          <p:cNvPicPr/>
          <p:nvPr/>
        </p:nvPicPr>
        <p:blipFill>
          <a:blip r:embed="rId2"/>
          <a:stretch/>
        </p:blipFill>
        <p:spPr>
          <a:xfrm>
            <a:off x="0" y="0"/>
            <a:ext cx="2514600" cy="1833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мероприятий практического эт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762120"/>
          <a:ext cx="8381880" cy="5879880"/>
        </p:xfrm>
        <a:graphic>
          <a:graphicData uri="http://schemas.openxmlformats.org/drawingml/2006/table">
            <a:tbl>
              <a:tblPr/>
              <a:tblGrid>
                <a:gridCol w="542880"/>
                <a:gridCol w="5045040"/>
                <a:gridCol w="2793960"/>
              </a:tblGrid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емян и выращивание расс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биоло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я «Чистый двор» по благоустройству школьного дв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                Завхоз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«Памятн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, ответственные по графику работы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очвы и посадка рассады цветочно-декоративных 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биологии, технологии, 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борка территории  спортивной площ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борка территории сосновой р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              Завх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за посаженными цветочными культур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9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пийская горка и искусственный водо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карева А.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бивка декоративных клумб, бордюров, рабаток и д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летней трудовой четв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школы 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бригады «Ровесник»                                            (трудоустройство подростков через ДЦЗ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ДП «Дружны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ина Л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00040" y="990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школьной территории находятся памятники погибшим воинам-односельчанам в Великой Отечественной войне и участникам Шиткинского фро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8 марта посл зв пдд 219"/>
          <p:cNvPicPr/>
          <p:nvPr/>
        </p:nvPicPr>
        <p:blipFill>
          <a:blip r:embed="rId2"/>
          <a:stretch/>
        </p:blipFill>
        <p:spPr>
          <a:xfrm>
            <a:off x="3352680" y="3048120"/>
            <a:ext cx="5334120" cy="31273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24" name="Picture 6" descr="IMG_6425"/>
          <p:cNvPicPr/>
          <p:nvPr/>
        </p:nvPicPr>
        <p:blipFill>
          <a:blip r:embed="rId3"/>
          <a:stretch/>
        </p:blipFill>
        <p:spPr>
          <a:xfrm>
            <a:off x="457200" y="1676520"/>
            <a:ext cx="2684520" cy="43434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25" name="Picture 9" descr="0_5bad9_92d6d063_XL"/>
          <p:cNvPicPr/>
          <p:nvPr/>
        </p:nvPicPr>
        <p:blipFill>
          <a:blip r:embed="rId4"/>
          <a:srcRect l="801" t="0" r="1602" b="0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C:\Documents and Settings\Admin\Рабочий стол\ФОТО\последние\P1040476.JPG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20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Picture 2" descr="C:\Documents and Settings\Admin\Рабочий стол\к экологии\IMG_0946.jpg"/>
          <p:cNvPicPr/>
          <p:nvPr/>
        </p:nvPicPr>
        <p:blipFill>
          <a:blip r:embed="rId2"/>
          <a:stretch/>
        </p:blipFill>
        <p:spPr>
          <a:xfrm>
            <a:off x="4572000" y="3505320"/>
            <a:ext cx="4075200" cy="29718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8" name="Picture 9" descr="30c5c3fcabf5"/>
          <p:cNvPicPr/>
          <p:nvPr/>
        </p:nvPicPr>
        <p:blipFill>
          <a:blip r:embed="rId3"/>
          <a:stretch/>
        </p:blipFill>
        <p:spPr>
          <a:xfrm>
            <a:off x="0" y="0"/>
            <a:ext cx="5311800" cy="4419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229" name="Picture 7" descr="30c5c3fcabf5"/>
          <p:cNvPicPr/>
          <p:nvPr/>
        </p:nvPicPr>
        <p:blipFill>
          <a:blip r:embed="rId4"/>
          <a:stretch/>
        </p:blipFill>
        <p:spPr>
          <a:xfrm>
            <a:off x="4572000" y="2900520"/>
            <a:ext cx="4468680" cy="395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733560"/>
            <a:ext cx="41911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ция благоустройства и озеленения традиционно проходит в школе каждый год в четыре этапа. В ней участвуют учителя,    ученики 1-9 классов, персонал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952880" y="609480"/>
            <a:ext cx="4191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каждым классным коллективом закреплена определенная территория школьного двора, которую учащиеся содержат в чистоте и порядке, благоустраи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244254165"/>
          <p:cNvPicPr/>
          <p:nvPr/>
        </p:nvPicPr>
        <p:blipFill>
          <a:blip r:embed="rId7"/>
          <a:stretch/>
        </p:blipFill>
        <p:spPr>
          <a:xfrm>
            <a:off x="426708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Admin\Рабочий стол\к экологии\IMG_0971.jpg"/>
          <p:cNvPicPr/>
          <p:nvPr/>
        </p:nvPicPr>
        <p:blipFill>
          <a:blip r:embed="rId1"/>
          <a:stretch/>
        </p:blipFill>
        <p:spPr>
          <a:xfrm>
            <a:off x="4572000" y="609480"/>
            <a:ext cx="3886200" cy="291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Picture 4" descr="C:\Documents and Settings\Admin\Рабочий стол\к экологии\IMG_0968.jpg"/>
          <p:cNvPicPr/>
          <p:nvPr/>
        </p:nvPicPr>
        <p:blipFill>
          <a:blip r:embed="rId2"/>
          <a:stretch/>
        </p:blipFill>
        <p:spPr>
          <a:xfrm>
            <a:off x="4572000" y="3657600"/>
            <a:ext cx="3860640" cy="2895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Picture 7" descr="30c5c3fcabf5"/>
          <p:cNvPicPr/>
          <p:nvPr/>
        </p:nvPicPr>
        <p:blipFill>
          <a:blip r:embed="rId3"/>
          <a:stretch/>
        </p:blipFill>
        <p:spPr>
          <a:xfrm>
            <a:off x="4267080" y="2538360"/>
            <a:ext cx="4876920" cy="4319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560" y="3581280"/>
            <a:ext cx="419076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я «Скворечник и акция «Встречаем крылатых гостей» в школе проходят ежегодно – участники 1-9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Admin\Рабочий стол\к экологии\IMG_0961.jpg"/>
          <p:cNvPicPr/>
          <p:nvPr/>
        </p:nvPicPr>
        <p:blipFill>
          <a:blip r:embed="rId5"/>
          <a:stretch/>
        </p:blipFill>
        <p:spPr>
          <a:xfrm>
            <a:off x="609480" y="609480"/>
            <a:ext cx="3643560" cy="28195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8" name="Picture 11" descr="244254165"/>
          <p:cNvPicPr/>
          <p:nvPr/>
        </p:nvPicPr>
        <p:blipFill>
          <a:blip r:embed="rId6"/>
          <a:stretch/>
        </p:blipFill>
        <p:spPr>
          <a:xfrm>
            <a:off x="3962520" y="3048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30c5c3fcabf5"/>
          <p:cNvPicPr/>
          <p:nvPr/>
        </p:nvPicPr>
        <p:blipFill>
          <a:blip r:embed="rId7"/>
          <a:stretch/>
        </p:blipFill>
        <p:spPr>
          <a:xfrm>
            <a:off x="0" y="0"/>
            <a:ext cx="4487760" cy="373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56:54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