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gif" ContentType="image/gi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EF3-C0F9-49AE-A9C6-253678D2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87A-3E55-4405-8080-3AFEED5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E72-CA13-4326-B70F-08C9AE02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E2B-79B1-4D82-B90E-AA3D234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067-0EBD-4217-88C0-FB708FE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E3E-C6AB-4415-BCC5-8DA01D7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6D-12F9-4CF3-8C39-D363FD7A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5C5-1427-45E6-95A2-7F98D1F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F20-506B-4192-8557-13571A4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6CA-4F08-466B-9964-1C52172F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240-197A-4877-8346-DBEFB79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3E4-8434-4FD0-BB3B-D2E277D1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1D7-B3CF-42F7-8A24-3FADB5C5A1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257440" y="152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ычные цветочные клумбы, бордюры эффектно смотрятся во всех уголках школьного д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30c5c3fcabf5"/>
          <p:cNvPicPr/>
          <p:nvPr/>
        </p:nvPicPr>
        <p:blipFill>
          <a:blip r:embed="rId2"/>
          <a:stretch/>
        </p:blipFill>
        <p:spPr>
          <a:xfrm>
            <a:off x="4800600" y="2954160"/>
            <a:ext cx="4235400" cy="375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121" name="Picture 4" descr="C:\Documents and Settings\Admin\Рабочий стол\ФОТО\101_PANA\P1010931.JPG"/>
          <p:cNvPicPr/>
          <p:nvPr/>
        </p:nvPicPr>
        <p:blipFill>
          <a:blip r:embed="rId3"/>
          <a:stretch/>
        </p:blipFill>
        <p:spPr>
          <a:xfrm>
            <a:off x="1749600" y="530280"/>
            <a:ext cx="3767040" cy="260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Admin\Рабочий стол\ФОТО\101_PANA\P1010932.JPG"/>
          <p:cNvPicPr/>
          <p:nvPr/>
        </p:nvPicPr>
        <p:blipFill>
          <a:blip r:embed="rId4"/>
          <a:stretch/>
        </p:blipFill>
        <p:spPr>
          <a:xfrm>
            <a:off x="530280" y="523800"/>
            <a:ext cx="2146320" cy="264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:\С рабочего стола\природа  я фоткала\2011г\цВЕТЫ\P1030612.JPG"/>
          <p:cNvPicPr/>
          <p:nvPr/>
        </p:nvPicPr>
        <p:blipFill>
          <a:blip r:embed="rId5"/>
          <a:stretch/>
        </p:blipFill>
        <p:spPr>
          <a:xfrm>
            <a:off x="2127240" y="1974960"/>
            <a:ext cx="1536840" cy="102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244254165"/>
          <p:cNvPicPr/>
          <p:nvPr/>
        </p:nvPicPr>
        <p:blipFill>
          <a:blip r:embed="rId6"/>
          <a:stretch/>
        </p:blipFill>
        <p:spPr>
          <a:xfrm>
            <a:off x="4038480" y="2895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G:\фотки в школу лето осень 2012\SDC14295.JPG"/>
          <p:cNvPicPr/>
          <p:nvPr/>
        </p:nvPicPr>
        <p:blipFill>
          <a:blip r:embed="rId7"/>
          <a:stretch/>
        </p:blipFill>
        <p:spPr>
          <a:xfrm>
            <a:off x="4059360" y="3041640"/>
            <a:ext cx="4786200" cy="359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30c5c3fcabf5"/>
          <p:cNvPicPr/>
          <p:nvPr/>
        </p:nvPicPr>
        <p:blipFill>
          <a:blip r:embed="rId8"/>
          <a:stretch/>
        </p:blipFill>
        <p:spPr>
          <a:xfrm>
            <a:off x="92160" y="0"/>
            <a:ext cx="4029120" cy="33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0:48:06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