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8.gif" ContentType="image/gi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2A2-D660-4D3D-9420-091AD03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F06-06D9-477D-BC66-603F294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31E-27F8-481D-9B28-6B24299A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23A-EA7A-43FB-8417-6B2DE7EE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64B-C41F-4872-9C69-B6A1F52B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9BC-5FC7-4DF1-BECA-9F453C5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F935-8108-4647-B252-FE5C3E8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637-EEBD-4706-BFAB-87FA744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958-205D-45C6-9D20-30BDFD2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E98-937C-462E-B926-06AA4B1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5EA-C4CD-4ABF-946B-9A37A98E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F158-32AD-4736-A4FC-F5B06378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CDE0-5EEC-4B98-AE3D-BE688D7E8B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gi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257440" y="152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ычные цветочные клумбы, бордюры эффектно смотрятся во всех уголках школьного д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30c5c3fcabf5"/>
          <p:cNvPicPr/>
          <p:nvPr/>
        </p:nvPicPr>
        <p:blipFill>
          <a:blip r:embed="rId2"/>
          <a:stretch/>
        </p:blipFill>
        <p:spPr>
          <a:xfrm>
            <a:off x="4800600" y="2954160"/>
            <a:ext cx="4235400" cy="3751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pic>
        <p:nvPicPr>
          <p:cNvPr id="121" name="Picture 4" descr="C:\Documents and Settings\Admin\Рабочий стол\ФОТО\101_PANA\P1010931.JPG"/>
          <p:cNvPicPr/>
          <p:nvPr/>
        </p:nvPicPr>
        <p:blipFill>
          <a:blip r:embed="rId3"/>
          <a:stretch/>
        </p:blipFill>
        <p:spPr>
          <a:xfrm>
            <a:off x="1749600" y="530280"/>
            <a:ext cx="3767040" cy="2603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Documents and Settings\Admin\Рабочий стол\ФОТО\101_PANA\P1010932.JPG"/>
          <p:cNvPicPr/>
          <p:nvPr/>
        </p:nvPicPr>
        <p:blipFill>
          <a:blip r:embed="rId4"/>
          <a:stretch/>
        </p:blipFill>
        <p:spPr>
          <a:xfrm>
            <a:off x="530280" y="523800"/>
            <a:ext cx="2146320" cy="2640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:\С рабочего стола\природа  я фоткала\2011г\цВЕТЫ\P1030612.JPG"/>
          <p:cNvPicPr/>
          <p:nvPr/>
        </p:nvPicPr>
        <p:blipFill>
          <a:blip r:embed="rId5"/>
          <a:stretch/>
        </p:blipFill>
        <p:spPr>
          <a:xfrm>
            <a:off x="2127240" y="1974960"/>
            <a:ext cx="1536840" cy="1023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244254165"/>
          <p:cNvPicPr/>
          <p:nvPr/>
        </p:nvPicPr>
        <p:blipFill>
          <a:blip r:embed="rId6"/>
          <a:stretch/>
        </p:blipFill>
        <p:spPr>
          <a:xfrm>
            <a:off x="4038480" y="2895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G:\фотки в школу лето осень 2012\SDC14295.JPG"/>
          <p:cNvPicPr/>
          <p:nvPr/>
        </p:nvPicPr>
        <p:blipFill>
          <a:blip r:embed="rId7"/>
          <a:stretch/>
        </p:blipFill>
        <p:spPr>
          <a:xfrm>
            <a:off x="4059360" y="3041640"/>
            <a:ext cx="4786200" cy="359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30c5c3fcabf5"/>
          <p:cNvPicPr/>
          <p:nvPr/>
        </p:nvPicPr>
        <p:blipFill>
          <a:blip r:embed="rId8"/>
          <a:stretch/>
        </p:blipFill>
        <p:spPr>
          <a:xfrm>
            <a:off x="92160" y="0"/>
            <a:ext cx="4029120" cy="335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0T00:48:06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