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522-7564-4FB1-A914-5E75BC52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846-EB12-4B2F-892E-A9F7AD44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EED8-553F-4DE6-93FE-EEE4A6A7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22E-0FD7-40BF-9424-36BBECE3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510-F638-42A6-91F6-455F1B54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805-DA95-4390-BB9B-F2D9F41E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683-6EFF-4837-AA1F-FAAFA0D0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891-FB7A-464C-8FFE-95902D42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706-46A6-4CBB-93A2-67ED889F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6CB-3357-4A26-B09E-915AB4A5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6F6-21C0-4548-BFFC-8642BB01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496-3766-453D-B578-EBC98D2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1C44-1A5C-49B3-A45C-D6938684C7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lor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lor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Admin\Рабочий стол\ФОТО\фото школы лето-2012\IMG_1648.jpg"/>
          <p:cNvPicPr/>
          <p:nvPr/>
        </p:nvPicPr>
        <p:blipFill>
          <a:blip r:embed="rId1"/>
          <a:stretch/>
        </p:blipFill>
        <p:spPr>
          <a:xfrm>
            <a:off x="5284800" y="2127240"/>
            <a:ext cx="3425760" cy="4370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Admin\Рабочий стол\к экологии\IMG_1048.JPG"/>
          <p:cNvPicPr/>
          <p:nvPr/>
        </p:nvPicPr>
        <p:blipFill>
          <a:blip r:embed="rId2"/>
          <a:stretch/>
        </p:blipFill>
        <p:spPr>
          <a:xfrm>
            <a:off x="530280" y="2736720"/>
            <a:ext cx="4608360" cy="346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SDC10874"/>
          <p:cNvPicPr/>
          <p:nvPr/>
        </p:nvPicPr>
        <p:blipFill>
          <a:blip r:embed="rId3"/>
          <a:stretch/>
        </p:blipFill>
        <p:spPr>
          <a:xfrm>
            <a:off x="5327640" y="4645080"/>
            <a:ext cx="1231920" cy="1712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школьном дворе проходят фенологические наблюдения за живой и неживой природ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1" descr="0_1c0d8_1dd4d7ac_XL"/>
          <p:cNvPicPr/>
          <p:nvPr/>
        </p:nvPicPr>
        <p:blipFill>
          <a:blip r:embed="rId5"/>
          <a:stretch/>
        </p:blipFill>
        <p:spPr>
          <a:xfrm>
            <a:off x="7540560" y="2279520"/>
            <a:ext cx="1139760" cy="1689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0T01:06:15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