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A79-E3BB-49B6-95CC-38D09442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F2A-3748-4F86-BC70-6564B18E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A1B-05FB-4223-B646-57DCD05D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8E7-12B8-4F36-B27C-BC08B184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A52-6ED1-4CC4-9A31-F850DD9B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894-619D-4EB5-AA22-0D6AE7DF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E58-3FB0-4E60-9B39-9FA03A62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788-7906-4693-9AEC-55A3A270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F6E-21DF-4E3B-82BF-D23A77B3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4AB-3025-4EAD-8F2F-F7ED71A7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2D1-16F9-4435-91F0-3D2FE92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E59-E9BA-4B10-98FA-0DB37C96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0813-9CA2-4A66-9FB9-4DEB99E69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Рабочий стол\ФОТО\фото школы лето-2012\IMG_1648.jpg"/>
          <p:cNvPicPr/>
          <p:nvPr/>
        </p:nvPicPr>
        <p:blipFill>
          <a:blip r:embed="rId1"/>
          <a:stretch/>
        </p:blipFill>
        <p:spPr>
          <a:xfrm>
            <a:off x="5284800" y="2127240"/>
            <a:ext cx="3425760" cy="4370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Admin\Рабочий стол\к экологии\IMG_1048.JPG"/>
          <p:cNvPicPr/>
          <p:nvPr/>
        </p:nvPicPr>
        <p:blipFill>
          <a:blip r:embed="rId2"/>
          <a:stretch/>
        </p:blipFill>
        <p:spPr>
          <a:xfrm>
            <a:off x="530280" y="2736720"/>
            <a:ext cx="4608360" cy="3468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SDC10874"/>
          <p:cNvPicPr/>
          <p:nvPr/>
        </p:nvPicPr>
        <p:blipFill>
          <a:blip r:embed="rId3"/>
          <a:stretch/>
        </p:blipFill>
        <p:spPr>
          <a:xfrm>
            <a:off x="5327640" y="4645080"/>
            <a:ext cx="1231920" cy="17128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школьном дворе проходят фенологические наблюдения за живой и неживой природ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1" descr="0_1c0d8_1dd4d7ac_XL"/>
          <p:cNvPicPr/>
          <p:nvPr/>
        </p:nvPicPr>
        <p:blipFill>
          <a:blip r:embed="rId5"/>
          <a:stretch/>
        </p:blipFill>
        <p:spPr>
          <a:xfrm>
            <a:off x="7540560" y="2279520"/>
            <a:ext cx="1139760" cy="1689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0T01:06:15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